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F2C-8D59-4858-B3C0-33D2F16E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ED8-65D0-4A29-A9DD-DFD587DE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EE2-2A7B-4F7A-B80B-39F953E5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892-C35E-40E1-8BE8-B3D1AABB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C791-1928-4CE0-A4C7-038D8450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9C8B-0035-426B-ADBD-7FD1D499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4B93-1FB5-4A81-B19C-1E5B738E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F94C-62CE-431B-9385-7270095E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6546-D4D7-4E85-B472-6F85F2CB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8F9C-7C67-4514-B11B-ABEE403D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82AB-8AAD-46BE-96CC-100662DE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EFC-5BB4-4A67-9AEB-00EE4627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E001-B66F-4331-BD0F-E892055A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F0CD-FDE9-4E70-829C-ABF19539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36E4-840F-44BD-8098-0BCF9F83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0998-AAAC-4DF0-9023-DAFC7B5E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5B41-C51F-43FC-B5E5-B8BCA31E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BB8-6129-4670-B2F0-C4AC22B5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62A-6EC1-48BC-B5E1-F00023B3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164-8A19-4906-8C54-7D26F4CC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03F-D77E-440F-9ADF-915849F2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EDB-C04C-4564-91EA-0195A0C5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BED-4926-4020-97C0-D28E506A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389-D3EA-487E-83B3-7A6C2293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6FC1-ACB4-4F29-B4CF-6EA8D9C73B1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A2F7-F061-45C3-8428-F14B433FBA0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Warm-u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MSA Review Day 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height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066680" y="2438280"/>
          <a:ext cx="212112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2121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657600" y="2514600"/>
          <a:ext cx="16635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514600"/>
                    <a:ext cx="1663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228600" y="2438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3733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3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143000" y="3809880"/>
          <a:ext cx="21207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09880"/>
                    <a:ext cx="2120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581280" y="3809880"/>
          <a:ext cx="167652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3809880"/>
                    <a:ext cx="16765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143000" y="5105520"/>
          <a:ext cx="251460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105520"/>
                    <a:ext cx="2514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114800" y="5181480"/>
          <a:ext cx="179064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5181480"/>
                    <a:ext cx="17906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4732200" y="4071960"/>
            <a:ext cx="3527640" cy="1571760"/>
          </a:xfrm>
          <a:custGeom>
            <a:avLst/>
            <a:gdLst/>
            <a:ahLst/>
            <a:rect l="l" t="t" r="r" b="b"/>
            <a:pathLst>
              <a:path w="9799" h="4367">
                <a:moveTo>
                  <a:pt x="13146" y="11311"/>
                </a:moveTo>
                <a:lnTo>
                  <a:pt x="13146" y="11311"/>
                </a:lnTo>
              </a:path>
              <a:path w="9799" h="4367">
                <a:moveTo>
                  <a:pt x="20985" y="15354"/>
                </a:moveTo>
                <a:cubicBezTo>
                  <a:pt x="20985" y="15371"/>
                  <a:pt x="20985" y="15387"/>
                  <a:pt x="20985" y="15404"/>
                </a:cubicBezTo>
              </a:path>
              <a:path w="9799" h="4367">
                <a:moveTo>
                  <a:pt x="21605" y="15032"/>
                </a:moveTo>
                <a:cubicBezTo>
                  <a:pt x="21663" y="15008"/>
                  <a:pt x="21715" y="14991"/>
                  <a:pt x="21779" y="14982"/>
                </a:cubicBezTo>
              </a:path>
              <a:path w="9799" h="4367">
                <a:moveTo>
                  <a:pt x="21605" y="15205"/>
                </a:moveTo>
                <a:cubicBezTo>
                  <a:pt x="21700" y="15181"/>
                  <a:pt x="21729" y="15175"/>
                  <a:pt x="21779" y="15131"/>
                </a:cubicBezTo>
              </a:path>
              <a:path w="9799" h="4367">
                <a:moveTo>
                  <a:pt x="22870" y="15429"/>
                </a:moveTo>
                <a:cubicBezTo>
                  <a:pt x="22909" y="15523"/>
                  <a:pt x="22931" y="15573"/>
                  <a:pt x="22944" y="15677"/>
                </a:cubicBezTo>
              </a:path>
              <a:path w="9799" h="4367">
                <a:moveTo>
                  <a:pt x="22944" y="15478"/>
                </a:moveTo>
                <a:cubicBezTo>
                  <a:pt x="22868" y="15593"/>
                  <a:pt x="22853" y="15606"/>
                  <a:pt x="22820" y="1567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59280" y="2678040"/>
            <a:ext cx="2795760" cy="662040"/>
          </a:xfrm>
          <a:custGeom>
            <a:avLst/>
            <a:gdLst/>
            <a:ahLst/>
            <a:rect l="l" t="t" r="r" b="b"/>
            <a:pathLst>
              <a:path w="7765" h="1837">
                <a:moveTo>
                  <a:pt x="15999" y="7665"/>
                </a:moveTo>
                <a:cubicBezTo>
                  <a:pt x="16138" y="7618"/>
                  <a:pt x="16178" y="7604"/>
                  <a:pt x="16272" y="7590"/>
                </a:cubicBezTo>
              </a:path>
              <a:path w="7765" h="1837">
                <a:moveTo>
                  <a:pt x="16520" y="7813"/>
                </a:moveTo>
                <a:cubicBezTo>
                  <a:pt x="16490" y="8024"/>
                  <a:pt x="16427" y="8198"/>
                  <a:pt x="16321" y="8384"/>
                </a:cubicBezTo>
              </a:path>
              <a:path w="7765" h="1837">
                <a:moveTo>
                  <a:pt x="16991" y="7491"/>
                </a:moveTo>
                <a:cubicBezTo>
                  <a:pt x="17092" y="7474"/>
                  <a:pt x="17186" y="7453"/>
                  <a:pt x="17289" y="7441"/>
                </a:cubicBezTo>
              </a:path>
              <a:path w="7765" h="1837">
                <a:moveTo>
                  <a:pt x="17115" y="7640"/>
                </a:moveTo>
                <a:cubicBezTo>
                  <a:pt x="17165" y="7632"/>
                  <a:pt x="17214" y="7623"/>
                  <a:pt x="17264" y="7615"/>
                </a:cubicBezTo>
              </a:path>
              <a:path w="7765" h="1837">
                <a:moveTo>
                  <a:pt x="20538" y="7615"/>
                </a:moveTo>
                <a:cubicBezTo>
                  <a:pt x="20641" y="7600"/>
                  <a:pt x="20734" y="7571"/>
                  <a:pt x="20836" y="7541"/>
                </a:cubicBezTo>
              </a:path>
              <a:path w="7765" h="1837">
                <a:moveTo>
                  <a:pt x="21010" y="7913"/>
                </a:moveTo>
                <a:cubicBezTo>
                  <a:pt x="21259" y="7842"/>
                  <a:pt x="21494" y="7788"/>
                  <a:pt x="21754" y="7764"/>
                </a:cubicBezTo>
              </a:path>
              <a:path w="7765" h="1837">
                <a:moveTo>
                  <a:pt x="22101" y="7714"/>
                </a:moveTo>
                <a:cubicBezTo>
                  <a:pt x="22130" y="7785"/>
                  <a:pt x="22163" y="7846"/>
                  <a:pt x="22200" y="7913"/>
                </a:cubicBezTo>
              </a:path>
              <a:path w="7765" h="1837">
                <a:moveTo>
                  <a:pt x="22200" y="7665"/>
                </a:moveTo>
                <a:cubicBezTo>
                  <a:pt x="22145" y="7764"/>
                  <a:pt x="22098" y="7859"/>
                  <a:pt x="22051" y="7962"/>
                </a:cubicBezTo>
              </a:path>
              <a:path w="7765" h="1837">
                <a:moveTo>
                  <a:pt x="19273" y="7516"/>
                </a:moveTo>
                <a:cubicBezTo>
                  <a:pt x="19313" y="7616"/>
                  <a:pt x="19318" y="7634"/>
                  <a:pt x="19348" y="7689"/>
                </a:cubicBezTo>
              </a:path>
              <a:path w="7765" h="1837">
                <a:moveTo>
                  <a:pt x="19372" y="7441"/>
                </a:moveTo>
                <a:cubicBezTo>
                  <a:pt x="19325" y="7548"/>
                  <a:pt x="19285" y="7653"/>
                  <a:pt x="19248" y="7764"/>
                </a:cubicBezTo>
              </a:path>
              <a:path w="7765" h="1837">
                <a:moveTo>
                  <a:pt x="20538" y="9004"/>
                </a:moveTo>
                <a:cubicBezTo>
                  <a:pt x="20639" y="9004"/>
                  <a:pt x="20673" y="9004"/>
                  <a:pt x="20737" y="8979"/>
                </a:cubicBezTo>
              </a:path>
              <a:path w="7765" h="1837">
                <a:moveTo>
                  <a:pt x="20563" y="9153"/>
                </a:moveTo>
                <a:cubicBezTo>
                  <a:pt x="20660" y="9121"/>
                  <a:pt x="20709" y="9108"/>
                  <a:pt x="20786" y="9103"/>
                </a:cubicBezTo>
              </a:path>
              <a:path w="7765" h="1837">
                <a:moveTo>
                  <a:pt x="23515" y="9153"/>
                </a:moveTo>
                <a:cubicBezTo>
                  <a:pt x="23595" y="9103"/>
                  <a:pt x="23672" y="9081"/>
                  <a:pt x="23763" y="9054"/>
                </a:cubicBezTo>
              </a:path>
              <a:path w="7765" h="1837">
                <a:moveTo>
                  <a:pt x="23465" y="9277"/>
                </a:moveTo>
                <a:cubicBezTo>
                  <a:pt x="23498" y="9260"/>
                  <a:pt x="23531" y="9244"/>
                  <a:pt x="23564" y="922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88000" y="2517840"/>
            <a:ext cx="330120" cy="482400"/>
          </a:xfrm>
          <a:custGeom>
            <a:avLst/>
            <a:gdLst/>
            <a:ahLst/>
            <a:rect l="l" t="t" r="r" b="b"/>
            <a:pathLst>
              <a:path w="918" h="1340">
                <a:moveTo>
                  <a:pt x="16073" y="7243"/>
                </a:moveTo>
                <a:cubicBezTo>
                  <a:pt x="16000" y="7500"/>
                  <a:pt x="15926" y="7751"/>
                  <a:pt x="15801" y="7987"/>
                </a:cubicBezTo>
                <a:cubicBezTo>
                  <a:pt x="15881" y="7650"/>
                  <a:pt x="15946" y="7283"/>
                  <a:pt x="16148" y="6995"/>
                </a:cubicBezTo>
                <a:cubicBezTo>
                  <a:pt x="16156" y="6995"/>
                  <a:pt x="16165" y="6995"/>
                  <a:pt x="16173" y="6995"/>
                </a:cubicBezTo>
                <a:cubicBezTo>
                  <a:pt x="16278" y="7301"/>
                  <a:pt x="16294" y="7585"/>
                  <a:pt x="16247" y="7913"/>
                </a:cubicBezTo>
                <a:cubicBezTo>
                  <a:pt x="16239" y="7946"/>
                  <a:pt x="16230" y="7979"/>
                  <a:pt x="16222" y="8012"/>
                </a:cubicBezTo>
              </a:path>
              <a:path w="918" h="1340">
                <a:moveTo>
                  <a:pt x="16495" y="7789"/>
                </a:moveTo>
                <a:cubicBezTo>
                  <a:pt x="16662" y="7895"/>
                  <a:pt x="16687" y="8068"/>
                  <a:pt x="16718" y="8285"/>
                </a:cubicBezTo>
                <a:cubicBezTo>
                  <a:pt x="16718" y="8301"/>
                  <a:pt x="16718" y="8318"/>
                  <a:pt x="16718" y="8334"/>
                </a:cubicBezTo>
                <a:cubicBezTo>
                  <a:pt x="16616" y="8254"/>
                  <a:pt x="16481" y="8305"/>
                  <a:pt x="16346" y="833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84960" y="2500200"/>
            <a:ext cx="2411280" cy="1071720"/>
          </a:xfrm>
          <a:custGeom>
            <a:avLst/>
            <a:gdLst/>
            <a:ahLst/>
            <a:rect l="l" t="t" r="r" b="b"/>
            <a:pathLst>
              <a:path w="6699" h="2978">
                <a:moveTo>
                  <a:pt x="17735" y="7094"/>
                </a:moveTo>
                <a:cubicBezTo>
                  <a:pt x="17766" y="7243"/>
                  <a:pt x="17795" y="7366"/>
                  <a:pt x="17810" y="7516"/>
                </a:cubicBezTo>
                <a:cubicBezTo>
                  <a:pt x="17877" y="7329"/>
                  <a:pt x="17867" y="7267"/>
                  <a:pt x="18058" y="7317"/>
                </a:cubicBezTo>
                <a:cubicBezTo>
                  <a:pt x="18094" y="7462"/>
                  <a:pt x="18055" y="7645"/>
                  <a:pt x="17835" y="7541"/>
                </a:cubicBezTo>
                <a:cubicBezTo>
                  <a:pt x="17810" y="7516"/>
                  <a:pt x="17785" y="7491"/>
                  <a:pt x="17760" y="7466"/>
                </a:cubicBezTo>
              </a:path>
              <a:path w="6699" h="2978">
                <a:moveTo>
                  <a:pt x="18157" y="6945"/>
                </a:moveTo>
                <a:cubicBezTo>
                  <a:pt x="18205" y="7102"/>
                  <a:pt x="18246" y="7256"/>
                  <a:pt x="18281" y="7417"/>
                </a:cubicBezTo>
                <a:cubicBezTo>
                  <a:pt x="18307" y="7305"/>
                  <a:pt x="18355" y="7125"/>
                  <a:pt x="18479" y="7317"/>
                </a:cubicBezTo>
                <a:cubicBezTo>
                  <a:pt x="18525" y="7431"/>
                  <a:pt x="18541" y="7461"/>
                  <a:pt x="18529" y="7541"/>
                </a:cubicBezTo>
              </a:path>
              <a:path w="6699" h="2978">
                <a:moveTo>
                  <a:pt x="17859" y="7665"/>
                </a:moveTo>
                <a:cubicBezTo>
                  <a:pt x="18100" y="7609"/>
                  <a:pt x="18336" y="7558"/>
                  <a:pt x="18579" y="7516"/>
                </a:cubicBezTo>
              </a:path>
              <a:path w="6699" h="2978">
                <a:moveTo>
                  <a:pt x="18008" y="7938"/>
                </a:moveTo>
                <a:cubicBezTo>
                  <a:pt x="18120" y="7901"/>
                  <a:pt x="18216" y="7876"/>
                  <a:pt x="18331" y="7863"/>
                </a:cubicBezTo>
                <a:cubicBezTo>
                  <a:pt x="18307" y="7942"/>
                  <a:pt x="17983" y="8234"/>
                  <a:pt x="17983" y="8235"/>
                </a:cubicBezTo>
                <a:cubicBezTo>
                  <a:pt x="17987" y="8247"/>
                  <a:pt x="18396" y="8148"/>
                  <a:pt x="18455" y="8136"/>
                </a:cubicBezTo>
              </a:path>
              <a:path w="6699" h="2978">
                <a:moveTo>
                  <a:pt x="19670" y="7342"/>
                </a:moveTo>
                <a:cubicBezTo>
                  <a:pt x="19703" y="7326"/>
                  <a:pt x="19736" y="7309"/>
                  <a:pt x="19769" y="7293"/>
                </a:cubicBezTo>
                <a:cubicBezTo>
                  <a:pt x="19892" y="7501"/>
                  <a:pt x="19818" y="7669"/>
                  <a:pt x="19596" y="7789"/>
                </a:cubicBezTo>
                <a:cubicBezTo>
                  <a:pt x="19571" y="7789"/>
                  <a:pt x="19546" y="7789"/>
                  <a:pt x="19521" y="7789"/>
                </a:cubicBezTo>
                <a:cubicBezTo>
                  <a:pt x="19565" y="7612"/>
                  <a:pt x="19643" y="7603"/>
                  <a:pt x="19794" y="7714"/>
                </a:cubicBezTo>
                <a:cubicBezTo>
                  <a:pt x="19839" y="7759"/>
                  <a:pt x="19856" y="7768"/>
                  <a:pt x="19844" y="7813"/>
                </a:cubicBezTo>
              </a:path>
              <a:path w="6699" h="2978">
                <a:moveTo>
                  <a:pt x="20191" y="7268"/>
                </a:moveTo>
                <a:cubicBezTo>
                  <a:pt x="20086" y="7449"/>
                  <a:pt x="20058" y="7528"/>
                  <a:pt x="20067" y="7739"/>
                </a:cubicBezTo>
                <a:cubicBezTo>
                  <a:pt x="20241" y="7751"/>
                  <a:pt x="20446" y="7587"/>
                  <a:pt x="20340" y="7342"/>
                </a:cubicBezTo>
                <a:cubicBezTo>
                  <a:pt x="20268" y="7295"/>
                  <a:pt x="20247" y="7280"/>
                  <a:pt x="20191" y="7268"/>
                </a:cubicBezTo>
              </a:path>
              <a:path w="6699" h="2978">
                <a:moveTo>
                  <a:pt x="20563" y="7441"/>
                </a:moveTo>
                <a:cubicBezTo>
                  <a:pt x="20656" y="7441"/>
                  <a:pt x="20744" y="7425"/>
                  <a:pt x="20836" y="7417"/>
                </a:cubicBezTo>
              </a:path>
              <a:path w="6699" h="2978">
                <a:moveTo>
                  <a:pt x="21357" y="7193"/>
                </a:moveTo>
                <a:cubicBezTo>
                  <a:pt x="21246" y="7201"/>
                  <a:pt x="21182" y="7218"/>
                  <a:pt x="21084" y="7268"/>
                </a:cubicBezTo>
                <a:cubicBezTo>
                  <a:pt x="21124" y="7398"/>
                  <a:pt x="21340" y="7528"/>
                  <a:pt x="21282" y="7689"/>
                </a:cubicBezTo>
                <a:cubicBezTo>
                  <a:pt x="21257" y="7706"/>
                  <a:pt x="21233" y="7722"/>
                  <a:pt x="21208" y="7739"/>
                </a:cubicBezTo>
                <a:cubicBezTo>
                  <a:pt x="21065" y="7595"/>
                  <a:pt x="21124" y="7538"/>
                  <a:pt x="21258" y="7392"/>
                </a:cubicBezTo>
                <a:cubicBezTo>
                  <a:pt x="21274" y="7375"/>
                  <a:pt x="21291" y="7359"/>
                  <a:pt x="21307" y="7342"/>
                </a:cubicBezTo>
              </a:path>
              <a:path w="6699" h="2978">
                <a:moveTo>
                  <a:pt x="21580" y="7119"/>
                </a:moveTo>
                <a:cubicBezTo>
                  <a:pt x="21548" y="7304"/>
                  <a:pt x="21530" y="7477"/>
                  <a:pt x="21530" y="7665"/>
                </a:cubicBezTo>
                <a:cubicBezTo>
                  <a:pt x="21558" y="7555"/>
                  <a:pt x="21614" y="7272"/>
                  <a:pt x="21729" y="7516"/>
                </a:cubicBezTo>
                <a:cubicBezTo>
                  <a:pt x="21750" y="7600"/>
                  <a:pt x="21765" y="7619"/>
                  <a:pt x="21729" y="7665"/>
                </a:cubicBezTo>
              </a:path>
              <a:path w="6699" h="2978">
                <a:moveTo>
                  <a:pt x="21332" y="8086"/>
                </a:moveTo>
                <a:cubicBezTo>
                  <a:pt x="21421" y="8045"/>
                  <a:pt x="21454" y="8037"/>
                  <a:pt x="21555" y="8037"/>
                </a:cubicBezTo>
                <a:cubicBezTo>
                  <a:pt x="21491" y="8137"/>
                  <a:pt x="21227" y="8342"/>
                  <a:pt x="21357" y="8334"/>
                </a:cubicBezTo>
                <a:cubicBezTo>
                  <a:pt x="21464" y="8313"/>
                  <a:pt x="21488" y="8305"/>
                  <a:pt x="21555" y="8310"/>
                </a:cubicBezTo>
              </a:path>
              <a:path w="6699" h="2978">
                <a:moveTo>
                  <a:pt x="22423" y="7541"/>
                </a:moveTo>
                <a:cubicBezTo>
                  <a:pt x="22502" y="7518"/>
                  <a:pt x="22526" y="7509"/>
                  <a:pt x="22597" y="7516"/>
                </a:cubicBezTo>
                <a:cubicBezTo>
                  <a:pt x="22563" y="7641"/>
                  <a:pt x="22249" y="7781"/>
                  <a:pt x="22374" y="7813"/>
                </a:cubicBezTo>
                <a:cubicBezTo>
                  <a:pt x="22432" y="7813"/>
                  <a:pt x="22489" y="7813"/>
                  <a:pt x="22547" y="7813"/>
                </a:cubicBezTo>
              </a:path>
              <a:path w="6699" h="2978">
                <a:moveTo>
                  <a:pt x="18951" y="7516"/>
                </a:moveTo>
                <a:cubicBezTo>
                  <a:pt x="19007" y="7478"/>
                  <a:pt x="19010" y="7461"/>
                  <a:pt x="19050" y="7466"/>
                </a:cubicBezTo>
                <a:cubicBezTo>
                  <a:pt x="19113" y="7612"/>
                  <a:pt x="18996" y="7673"/>
                  <a:pt x="18976" y="7813"/>
                </a:cubicBezTo>
                <a:cubicBezTo>
                  <a:pt x="19010" y="7849"/>
                  <a:pt x="19032" y="7852"/>
                  <a:pt x="19075" y="7813"/>
                </a:cubicBezTo>
              </a:path>
              <a:path w="6699" h="2978">
                <a:moveTo>
                  <a:pt x="19645" y="8930"/>
                </a:moveTo>
                <a:cubicBezTo>
                  <a:pt x="19611" y="9044"/>
                  <a:pt x="19579" y="9121"/>
                  <a:pt x="19521" y="9227"/>
                </a:cubicBezTo>
                <a:cubicBezTo>
                  <a:pt x="19666" y="9158"/>
                  <a:pt x="19712" y="9132"/>
                  <a:pt x="19869" y="9153"/>
                </a:cubicBezTo>
              </a:path>
              <a:path w="6699" h="2978">
                <a:moveTo>
                  <a:pt x="19918" y="8905"/>
                </a:moveTo>
                <a:cubicBezTo>
                  <a:pt x="19889" y="9072"/>
                  <a:pt x="19855" y="9235"/>
                  <a:pt x="19819" y="9401"/>
                </a:cubicBezTo>
              </a:path>
              <a:path w="6699" h="2978">
                <a:moveTo>
                  <a:pt x="20117" y="9004"/>
                </a:moveTo>
                <a:cubicBezTo>
                  <a:pt x="20060" y="9144"/>
                  <a:pt x="20006" y="9237"/>
                  <a:pt x="20017" y="9376"/>
                </a:cubicBezTo>
                <a:cubicBezTo>
                  <a:pt x="20173" y="9270"/>
                  <a:pt x="20325" y="9158"/>
                  <a:pt x="20166" y="8979"/>
                </a:cubicBezTo>
                <a:cubicBezTo>
                  <a:pt x="20150" y="8971"/>
                  <a:pt x="20133" y="8962"/>
                  <a:pt x="20117" y="8954"/>
                </a:cubicBezTo>
              </a:path>
              <a:path w="6699" h="2978">
                <a:moveTo>
                  <a:pt x="22796" y="7367"/>
                </a:moveTo>
                <a:cubicBezTo>
                  <a:pt x="22371" y="7526"/>
                  <a:pt x="21969" y="7915"/>
                  <a:pt x="21580" y="8186"/>
                </a:cubicBezTo>
                <a:cubicBezTo>
                  <a:pt x="21386" y="8321"/>
                  <a:pt x="21349" y="8332"/>
                  <a:pt x="21258" y="8434"/>
                </a:cubicBezTo>
              </a:path>
              <a:path w="6699" h="2978">
                <a:moveTo>
                  <a:pt x="21307" y="8706"/>
                </a:moveTo>
                <a:cubicBezTo>
                  <a:pt x="21219" y="8737"/>
                  <a:pt x="20939" y="8801"/>
                  <a:pt x="21084" y="8930"/>
                </a:cubicBezTo>
                <a:cubicBezTo>
                  <a:pt x="21192" y="8995"/>
                  <a:pt x="21224" y="9004"/>
                  <a:pt x="21258" y="9079"/>
                </a:cubicBezTo>
                <a:cubicBezTo>
                  <a:pt x="21183" y="9179"/>
                  <a:pt x="21157" y="9212"/>
                  <a:pt x="21059" y="9203"/>
                </a:cubicBezTo>
                <a:cubicBezTo>
                  <a:pt x="21041" y="9060"/>
                  <a:pt x="21158" y="8946"/>
                  <a:pt x="21258" y="8830"/>
                </a:cubicBezTo>
              </a:path>
              <a:path w="6699" h="2978">
                <a:moveTo>
                  <a:pt x="21456" y="8706"/>
                </a:moveTo>
                <a:cubicBezTo>
                  <a:pt x="21468" y="8879"/>
                  <a:pt x="21466" y="9007"/>
                  <a:pt x="21431" y="9178"/>
                </a:cubicBezTo>
                <a:cubicBezTo>
                  <a:pt x="21500" y="8988"/>
                  <a:pt x="21480" y="8967"/>
                  <a:pt x="21630" y="9128"/>
                </a:cubicBezTo>
              </a:path>
              <a:path w="6699" h="2978">
                <a:moveTo>
                  <a:pt x="21034" y="9451"/>
                </a:moveTo>
                <a:cubicBezTo>
                  <a:pt x="21249" y="9379"/>
                  <a:pt x="21459" y="9327"/>
                  <a:pt x="21679" y="9277"/>
                </a:cubicBezTo>
              </a:path>
              <a:path w="6699" h="2978">
                <a:moveTo>
                  <a:pt x="21382" y="9426"/>
                </a:moveTo>
                <a:cubicBezTo>
                  <a:pt x="21305" y="9451"/>
                  <a:pt x="21251" y="9500"/>
                  <a:pt x="21183" y="9550"/>
                </a:cubicBezTo>
                <a:cubicBezTo>
                  <a:pt x="21236" y="9594"/>
                  <a:pt x="21589" y="9666"/>
                  <a:pt x="21456" y="9823"/>
                </a:cubicBezTo>
                <a:cubicBezTo>
                  <a:pt x="21415" y="9839"/>
                  <a:pt x="21373" y="9856"/>
                  <a:pt x="21332" y="9872"/>
                </a:cubicBezTo>
                <a:cubicBezTo>
                  <a:pt x="21189" y="9743"/>
                  <a:pt x="21309" y="9660"/>
                  <a:pt x="21431" y="9475"/>
                </a:cubicBezTo>
              </a:path>
              <a:path w="6699" h="2978">
                <a:moveTo>
                  <a:pt x="24036" y="8756"/>
                </a:moveTo>
                <a:cubicBezTo>
                  <a:pt x="24074" y="8984"/>
                  <a:pt x="24060" y="9180"/>
                  <a:pt x="23986" y="9401"/>
                </a:cubicBezTo>
                <a:cubicBezTo>
                  <a:pt x="23978" y="9418"/>
                  <a:pt x="23969" y="9434"/>
                  <a:pt x="23961" y="9451"/>
                </a:cubicBezTo>
                <a:cubicBezTo>
                  <a:pt x="24013" y="9296"/>
                  <a:pt x="24029" y="9186"/>
                  <a:pt x="24160" y="9103"/>
                </a:cubicBezTo>
                <a:cubicBezTo>
                  <a:pt x="24241" y="9201"/>
                  <a:pt x="24279" y="9282"/>
                  <a:pt x="24234" y="9401"/>
                </a:cubicBezTo>
              </a:path>
              <a:path w="6699" h="2978">
                <a:moveTo>
                  <a:pt x="23019" y="8954"/>
                </a:moveTo>
                <a:cubicBezTo>
                  <a:pt x="22913" y="8967"/>
                  <a:pt x="22884" y="9001"/>
                  <a:pt x="22845" y="9103"/>
                </a:cubicBezTo>
                <a:cubicBezTo>
                  <a:pt x="22837" y="9128"/>
                  <a:pt x="22828" y="9153"/>
                  <a:pt x="22820" y="9178"/>
                </a:cubicBezTo>
                <a:cubicBezTo>
                  <a:pt x="22928" y="9203"/>
                  <a:pt x="23005" y="9220"/>
                  <a:pt x="23093" y="9277"/>
                </a:cubicBezTo>
                <a:cubicBezTo>
                  <a:pt x="23015" y="9486"/>
                  <a:pt x="22958" y="9536"/>
                  <a:pt x="22746" y="9500"/>
                </a:cubicBezTo>
              </a:path>
              <a:path w="6699" h="2978">
                <a:moveTo>
                  <a:pt x="22374" y="8830"/>
                </a:moveTo>
                <a:cubicBezTo>
                  <a:pt x="22414" y="9169"/>
                  <a:pt x="22417" y="9484"/>
                  <a:pt x="22399" y="9823"/>
                </a:cubicBezTo>
                <a:cubicBezTo>
                  <a:pt x="22399" y="9872"/>
                  <a:pt x="22399" y="9889"/>
                  <a:pt x="22399" y="9922"/>
                </a:cubicBezTo>
                <a:cubicBezTo>
                  <a:pt x="22792" y="9848"/>
                  <a:pt x="23187" y="9772"/>
                  <a:pt x="23589" y="9748"/>
                </a:cubicBezTo>
                <a:cubicBezTo>
                  <a:pt x="23635" y="9745"/>
                  <a:pt x="24274" y="9820"/>
                  <a:pt x="24333" y="9723"/>
                </a:cubicBezTo>
                <a:cubicBezTo>
                  <a:pt x="24457" y="9519"/>
                  <a:pt x="24406" y="9096"/>
                  <a:pt x="24408" y="8880"/>
                </a:cubicBezTo>
                <a:cubicBezTo>
                  <a:pt x="24410" y="8698"/>
                  <a:pt x="24400" y="8534"/>
                  <a:pt x="24433" y="8359"/>
                </a:cubicBezTo>
                <a:cubicBezTo>
                  <a:pt x="24144" y="8414"/>
                  <a:pt x="23852" y="8453"/>
                  <a:pt x="23564" y="8508"/>
                </a:cubicBezTo>
                <a:cubicBezTo>
                  <a:pt x="23282" y="8562"/>
                  <a:pt x="23005" y="8617"/>
                  <a:pt x="22721" y="865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18080" y="3133800"/>
            <a:ext cx="2598840" cy="1814400"/>
          </a:xfrm>
          <a:custGeom>
            <a:avLst/>
            <a:gdLst/>
            <a:ahLst/>
            <a:rect l="l" t="t" r="r" b="b"/>
            <a:pathLst>
              <a:path w="7219" h="5037">
                <a:moveTo>
                  <a:pt x="22547" y="8731"/>
                </a:moveTo>
                <a:cubicBezTo>
                  <a:pt x="22457" y="8738"/>
                  <a:pt x="22252" y="8799"/>
                  <a:pt x="22547" y="8706"/>
                </a:cubicBezTo>
              </a:path>
              <a:path w="7219" h="5037">
                <a:moveTo>
                  <a:pt x="15329" y="13742"/>
                </a:moveTo>
                <a:cubicBezTo>
                  <a:pt x="15337" y="13742"/>
                  <a:pt x="15346" y="13742"/>
                  <a:pt x="15354" y="13742"/>
                </a:cubicBezTo>
              </a:path>
              <a:path w="7219" h="5037">
                <a:moveTo>
                  <a:pt x="15652" y="11757"/>
                </a:moveTo>
                <a:cubicBezTo>
                  <a:pt x="15774" y="11717"/>
                  <a:pt x="15883" y="11667"/>
                  <a:pt x="15999" y="11609"/>
                </a:cubicBezTo>
              </a:path>
              <a:path w="7219" h="5037">
                <a:moveTo>
                  <a:pt x="16545" y="11534"/>
                </a:moveTo>
                <a:cubicBezTo>
                  <a:pt x="16643" y="11509"/>
                  <a:pt x="16675" y="11501"/>
                  <a:pt x="16743" y="11509"/>
                </a:cubicBezTo>
              </a:path>
              <a:path w="7219" h="5037">
                <a:moveTo>
                  <a:pt x="16570" y="11782"/>
                </a:moveTo>
                <a:cubicBezTo>
                  <a:pt x="16611" y="11766"/>
                  <a:pt x="16653" y="11749"/>
                  <a:pt x="16694" y="11733"/>
                </a:cubicBezTo>
              </a:path>
              <a:path w="7219" h="5037">
                <a:moveTo>
                  <a:pt x="17115" y="11857"/>
                </a:moveTo>
                <a:cubicBezTo>
                  <a:pt x="17328" y="11837"/>
                  <a:pt x="17527" y="11768"/>
                  <a:pt x="17735" y="11733"/>
                </a:cubicBezTo>
              </a:path>
              <a:path w="7219" h="5037">
                <a:moveTo>
                  <a:pt x="17909" y="11708"/>
                </a:moveTo>
                <a:cubicBezTo>
                  <a:pt x="17983" y="11683"/>
                  <a:pt x="18008" y="11674"/>
                  <a:pt x="18058" y="11658"/>
                </a:cubicBezTo>
              </a:path>
              <a:path w="7219" h="5037">
                <a:moveTo>
                  <a:pt x="17959" y="11832"/>
                </a:moveTo>
                <a:cubicBezTo>
                  <a:pt x="18000" y="11824"/>
                  <a:pt x="18042" y="11815"/>
                  <a:pt x="18083" y="11807"/>
                </a:cubicBezTo>
              </a:path>
              <a:path w="7219" h="5037">
                <a:moveTo>
                  <a:pt x="20017" y="11683"/>
                </a:moveTo>
                <a:cubicBezTo>
                  <a:pt x="20084" y="11683"/>
                  <a:pt x="20118" y="11679"/>
                  <a:pt x="20166" y="11658"/>
                </a:cubicBezTo>
              </a:path>
              <a:path w="7219" h="5037">
                <a:moveTo>
                  <a:pt x="20489" y="11832"/>
                </a:moveTo>
                <a:cubicBezTo>
                  <a:pt x="20696" y="11765"/>
                  <a:pt x="20891" y="11707"/>
                  <a:pt x="21109" y="11683"/>
                </a:cubicBezTo>
              </a:path>
              <a:path w="7219" h="5037">
                <a:moveTo>
                  <a:pt x="19075" y="11609"/>
                </a:moveTo>
                <a:cubicBezTo>
                  <a:pt x="19135" y="11690"/>
                  <a:pt x="19150" y="11702"/>
                  <a:pt x="19174" y="11757"/>
                </a:cubicBezTo>
              </a:path>
              <a:path w="7219" h="5037">
                <a:moveTo>
                  <a:pt x="19199" y="11534"/>
                </a:moveTo>
                <a:cubicBezTo>
                  <a:pt x="19159" y="11634"/>
                  <a:pt x="19119" y="11734"/>
                  <a:pt x="19075" y="11832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07000" y="4000680"/>
            <a:ext cx="268200" cy="401400"/>
          </a:xfrm>
          <a:custGeom>
            <a:avLst/>
            <a:gdLst/>
            <a:ahLst/>
            <a:rect l="l" t="t" r="r" b="b"/>
            <a:pathLst>
              <a:path w="745" h="1118">
                <a:moveTo>
                  <a:pt x="15726" y="11212"/>
                </a:moveTo>
                <a:cubicBezTo>
                  <a:pt x="15710" y="11487"/>
                  <a:pt x="15642" y="11717"/>
                  <a:pt x="15577" y="11981"/>
                </a:cubicBezTo>
                <a:cubicBezTo>
                  <a:pt x="15577" y="11989"/>
                  <a:pt x="15577" y="11997"/>
                  <a:pt x="15577" y="12005"/>
                </a:cubicBezTo>
                <a:cubicBezTo>
                  <a:pt x="15598" y="11718"/>
                  <a:pt x="15669" y="11470"/>
                  <a:pt x="15801" y="11212"/>
                </a:cubicBezTo>
                <a:cubicBezTo>
                  <a:pt x="15826" y="11179"/>
                  <a:pt x="15850" y="11145"/>
                  <a:pt x="15875" y="11112"/>
                </a:cubicBezTo>
                <a:cubicBezTo>
                  <a:pt x="16003" y="11318"/>
                  <a:pt x="15978" y="11604"/>
                  <a:pt x="15974" y="11857"/>
                </a:cubicBezTo>
                <a:cubicBezTo>
                  <a:pt x="15974" y="11898"/>
                  <a:pt x="15974" y="11940"/>
                  <a:pt x="15974" y="11981"/>
                </a:cubicBezTo>
              </a:path>
              <a:path w="745" h="1118">
                <a:moveTo>
                  <a:pt x="16173" y="11683"/>
                </a:moveTo>
                <a:cubicBezTo>
                  <a:pt x="16104" y="11848"/>
                  <a:pt x="16058" y="12051"/>
                  <a:pt x="15999" y="12229"/>
                </a:cubicBezTo>
                <a:cubicBezTo>
                  <a:pt x="16038" y="12041"/>
                  <a:pt x="16074" y="11860"/>
                  <a:pt x="16148" y="11683"/>
                </a:cubicBezTo>
                <a:cubicBezTo>
                  <a:pt x="16204" y="11795"/>
                  <a:pt x="16258" y="11913"/>
                  <a:pt x="16297" y="12030"/>
                </a:cubicBezTo>
                <a:cubicBezTo>
                  <a:pt x="16305" y="12063"/>
                  <a:pt x="16313" y="12096"/>
                  <a:pt x="16321" y="12129"/>
                </a:cubicBezTo>
                <a:cubicBezTo>
                  <a:pt x="16290" y="12140"/>
                  <a:pt x="16119" y="12075"/>
                  <a:pt x="15974" y="1212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53120" y="3963960"/>
            <a:ext cx="223920" cy="277920"/>
          </a:xfrm>
          <a:custGeom>
            <a:avLst/>
            <a:gdLst/>
            <a:ahLst/>
            <a:rect l="l" t="t" r="r" b="b"/>
            <a:pathLst>
              <a:path w="622" h="770">
                <a:moveTo>
                  <a:pt x="17090" y="11013"/>
                </a:moveTo>
                <a:cubicBezTo>
                  <a:pt x="17108" y="11249"/>
                  <a:pt x="17128" y="11501"/>
                  <a:pt x="17165" y="11733"/>
                </a:cubicBezTo>
                <a:cubicBezTo>
                  <a:pt x="17173" y="11749"/>
                  <a:pt x="17182" y="11766"/>
                  <a:pt x="17190" y="11782"/>
                </a:cubicBezTo>
                <a:cubicBezTo>
                  <a:pt x="17190" y="11549"/>
                  <a:pt x="17214" y="11455"/>
                  <a:pt x="17363" y="11286"/>
                </a:cubicBezTo>
                <a:cubicBezTo>
                  <a:pt x="17398" y="11414"/>
                  <a:pt x="17493" y="11749"/>
                  <a:pt x="17239" y="11757"/>
                </a:cubicBezTo>
                <a:cubicBezTo>
                  <a:pt x="17206" y="11741"/>
                  <a:pt x="17173" y="11724"/>
                  <a:pt x="17140" y="11708"/>
                </a:cubicBezTo>
              </a:path>
              <a:path w="622" h="770">
                <a:moveTo>
                  <a:pt x="17438" y="11013"/>
                </a:moveTo>
                <a:cubicBezTo>
                  <a:pt x="17482" y="11249"/>
                  <a:pt x="17522" y="11465"/>
                  <a:pt x="17537" y="11708"/>
                </a:cubicBezTo>
                <a:cubicBezTo>
                  <a:pt x="17537" y="11691"/>
                  <a:pt x="17537" y="11675"/>
                  <a:pt x="17537" y="11658"/>
                </a:cubicBezTo>
                <a:cubicBezTo>
                  <a:pt x="17541" y="11573"/>
                  <a:pt x="17588" y="11125"/>
                  <a:pt x="17686" y="11460"/>
                </a:cubicBezTo>
                <a:cubicBezTo>
                  <a:pt x="17709" y="11616"/>
                  <a:pt x="17717" y="11657"/>
                  <a:pt x="17711" y="1175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46920" y="4010040"/>
            <a:ext cx="911160" cy="401760"/>
          </a:xfrm>
          <a:custGeom>
            <a:avLst/>
            <a:gdLst/>
            <a:ahLst/>
            <a:rect l="l" t="t" r="r" b="b"/>
            <a:pathLst>
              <a:path w="2531" h="1118">
                <a:moveTo>
                  <a:pt x="19298" y="11534"/>
                </a:moveTo>
                <a:cubicBezTo>
                  <a:pt x="19344" y="11452"/>
                  <a:pt x="19606" y="11194"/>
                  <a:pt x="19521" y="11534"/>
                </a:cubicBezTo>
                <a:cubicBezTo>
                  <a:pt x="19496" y="11575"/>
                  <a:pt x="19472" y="11617"/>
                  <a:pt x="19447" y="11658"/>
                </a:cubicBezTo>
                <a:cubicBezTo>
                  <a:pt x="19472" y="11609"/>
                  <a:pt x="19480" y="11593"/>
                  <a:pt x="19521" y="11633"/>
                </a:cubicBezTo>
                <a:cubicBezTo>
                  <a:pt x="19564" y="11847"/>
                  <a:pt x="19549" y="11913"/>
                  <a:pt x="19323" y="11956"/>
                </a:cubicBezTo>
              </a:path>
              <a:path w="2531" h="1118">
                <a:moveTo>
                  <a:pt x="19596" y="11435"/>
                </a:moveTo>
                <a:cubicBezTo>
                  <a:pt x="19718" y="11404"/>
                  <a:pt x="19839" y="11396"/>
                  <a:pt x="19819" y="11584"/>
                </a:cubicBezTo>
                <a:cubicBezTo>
                  <a:pt x="19807" y="11693"/>
                  <a:pt x="19619" y="11875"/>
                  <a:pt x="19695" y="11881"/>
                </a:cubicBezTo>
                <a:cubicBezTo>
                  <a:pt x="19778" y="11881"/>
                  <a:pt x="19794" y="11881"/>
                  <a:pt x="19844" y="11881"/>
                </a:cubicBezTo>
              </a:path>
              <a:path w="2531" h="1118">
                <a:moveTo>
                  <a:pt x="20042" y="11559"/>
                </a:moveTo>
                <a:cubicBezTo>
                  <a:pt x="20109" y="11530"/>
                  <a:pt x="20122" y="11526"/>
                  <a:pt x="20191" y="11485"/>
                </a:cubicBezTo>
              </a:path>
              <a:path w="2531" h="1118">
                <a:moveTo>
                  <a:pt x="20687" y="11162"/>
                </a:moveTo>
                <a:cubicBezTo>
                  <a:pt x="20555" y="11154"/>
                  <a:pt x="20546" y="11151"/>
                  <a:pt x="20439" y="11237"/>
                </a:cubicBezTo>
                <a:cubicBezTo>
                  <a:pt x="20512" y="11361"/>
                  <a:pt x="20717" y="11538"/>
                  <a:pt x="20588" y="11683"/>
                </a:cubicBezTo>
                <a:cubicBezTo>
                  <a:pt x="20555" y="11700"/>
                  <a:pt x="20522" y="11716"/>
                  <a:pt x="20489" y="11733"/>
                </a:cubicBezTo>
                <a:cubicBezTo>
                  <a:pt x="20417" y="11590"/>
                  <a:pt x="20514" y="11451"/>
                  <a:pt x="20613" y="11311"/>
                </a:cubicBezTo>
                <a:cubicBezTo>
                  <a:pt x="20629" y="11294"/>
                  <a:pt x="20646" y="11278"/>
                  <a:pt x="20662" y="11261"/>
                </a:cubicBezTo>
              </a:path>
              <a:path w="2531" h="1118">
                <a:moveTo>
                  <a:pt x="20836" y="11137"/>
                </a:moveTo>
                <a:cubicBezTo>
                  <a:pt x="20836" y="11259"/>
                  <a:pt x="20821" y="11626"/>
                  <a:pt x="20836" y="11633"/>
                </a:cubicBezTo>
                <a:cubicBezTo>
                  <a:pt x="20849" y="11580"/>
                  <a:pt x="20920" y="11246"/>
                  <a:pt x="21010" y="11485"/>
                </a:cubicBezTo>
                <a:cubicBezTo>
                  <a:pt x="21029" y="11586"/>
                  <a:pt x="21048" y="11605"/>
                  <a:pt x="21010" y="11658"/>
                </a:cubicBezTo>
              </a:path>
              <a:path w="2531" h="1118">
                <a:moveTo>
                  <a:pt x="20662" y="12030"/>
                </a:moveTo>
                <a:cubicBezTo>
                  <a:pt x="20736" y="11957"/>
                  <a:pt x="20760" y="11932"/>
                  <a:pt x="20836" y="11931"/>
                </a:cubicBezTo>
                <a:cubicBezTo>
                  <a:pt x="20757" y="12075"/>
                  <a:pt x="20692" y="12147"/>
                  <a:pt x="20563" y="12254"/>
                </a:cubicBezTo>
                <a:cubicBezTo>
                  <a:pt x="20698" y="12246"/>
                  <a:pt x="20827" y="12217"/>
                  <a:pt x="20960" y="12204"/>
                </a:cubicBezTo>
              </a:path>
              <a:path w="2531" h="1118">
                <a:moveTo>
                  <a:pt x="21258" y="11584"/>
                </a:moveTo>
                <a:cubicBezTo>
                  <a:pt x="21328" y="11627"/>
                  <a:pt x="21383" y="11725"/>
                  <a:pt x="21456" y="11782"/>
                </a:cubicBezTo>
              </a:path>
              <a:path w="2531" h="1118">
                <a:moveTo>
                  <a:pt x="21456" y="11534"/>
                </a:moveTo>
                <a:cubicBezTo>
                  <a:pt x="21392" y="11647"/>
                  <a:pt x="21338" y="11763"/>
                  <a:pt x="21282" y="11881"/>
                </a:cubicBezTo>
              </a:path>
              <a:path w="2531" h="1118">
                <a:moveTo>
                  <a:pt x="21605" y="11435"/>
                </a:moveTo>
                <a:cubicBezTo>
                  <a:pt x="21678" y="11410"/>
                  <a:pt x="21702" y="11402"/>
                  <a:pt x="21754" y="11410"/>
                </a:cubicBezTo>
                <a:cubicBezTo>
                  <a:pt x="21740" y="11522"/>
                  <a:pt x="21596" y="11805"/>
                  <a:pt x="21704" y="11782"/>
                </a:cubicBezTo>
                <a:cubicBezTo>
                  <a:pt x="21745" y="11766"/>
                  <a:pt x="21787" y="11749"/>
                  <a:pt x="21828" y="1173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61120" y="3500280"/>
            <a:ext cx="90720" cy="135000"/>
          </a:xfrm>
          <a:custGeom>
            <a:avLst/>
            <a:gdLst/>
            <a:ahLst/>
            <a:rect l="l" t="t" r="r" b="b"/>
            <a:pathLst>
              <a:path w="249" h="374">
                <a:moveTo>
                  <a:pt x="20117" y="9723"/>
                </a:moveTo>
                <a:cubicBezTo>
                  <a:pt x="19912" y="9896"/>
                  <a:pt x="19850" y="9867"/>
                  <a:pt x="20067" y="9996"/>
                </a:cubicBezTo>
                <a:cubicBezTo>
                  <a:pt x="20097" y="10026"/>
                  <a:pt x="20102" y="10040"/>
                  <a:pt x="20067" y="10071"/>
                </a:cubicBezTo>
                <a:cubicBezTo>
                  <a:pt x="19897" y="10071"/>
                  <a:pt x="20038" y="9907"/>
                  <a:pt x="20117" y="9798"/>
                </a:cubicBezTo>
                <a:cubicBezTo>
                  <a:pt x="20125" y="9790"/>
                  <a:pt x="20133" y="9781"/>
                  <a:pt x="20141" y="9773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72240" y="3054240"/>
            <a:ext cx="125640" cy="509760"/>
          </a:xfrm>
          <a:custGeom>
            <a:avLst/>
            <a:gdLst/>
            <a:ahLst/>
            <a:rect l="l" t="t" r="r" b="b"/>
            <a:pathLst>
              <a:path w="349" h="1415">
                <a:moveTo>
                  <a:pt x="21059" y="8508"/>
                </a:moveTo>
                <a:cubicBezTo>
                  <a:pt x="21000" y="8478"/>
                  <a:pt x="21089" y="8785"/>
                  <a:pt x="21109" y="8880"/>
                </a:cubicBezTo>
                <a:cubicBezTo>
                  <a:pt x="21181" y="9219"/>
                  <a:pt x="21257" y="9573"/>
                  <a:pt x="21382" y="989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80120" y="4106880"/>
            <a:ext cx="2544840" cy="1519200"/>
          </a:xfrm>
          <a:custGeom>
            <a:avLst/>
            <a:gdLst/>
            <a:ahLst/>
            <a:rect l="l" t="t" r="r" b="b"/>
            <a:pathLst>
              <a:path w="7070" h="4218">
                <a:moveTo>
                  <a:pt x="23316" y="11460"/>
                </a:moveTo>
                <a:cubicBezTo>
                  <a:pt x="23416" y="11435"/>
                  <a:pt x="23449" y="11427"/>
                  <a:pt x="23515" y="11410"/>
                </a:cubicBezTo>
              </a:path>
              <a:path w="7070" h="4218">
                <a:moveTo>
                  <a:pt x="23341" y="11609"/>
                </a:moveTo>
                <a:cubicBezTo>
                  <a:pt x="23482" y="11552"/>
                  <a:pt x="23540" y="11528"/>
                  <a:pt x="23639" y="11485"/>
                </a:cubicBezTo>
              </a:path>
              <a:path w="7070" h="4218">
                <a:moveTo>
                  <a:pt x="23440" y="11931"/>
                </a:moveTo>
                <a:cubicBezTo>
                  <a:pt x="23700" y="11819"/>
                  <a:pt x="23980" y="11756"/>
                  <a:pt x="24234" y="11658"/>
                </a:cubicBezTo>
              </a:path>
              <a:path w="7070" h="4218">
                <a:moveTo>
                  <a:pt x="23812" y="13171"/>
                </a:moveTo>
                <a:cubicBezTo>
                  <a:pt x="23884" y="13124"/>
                  <a:pt x="23905" y="13109"/>
                  <a:pt x="23961" y="13097"/>
                </a:cubicBezTo>
              </a:path>
              <a:path w="7070" h="4218">
                <a:moveTo>
                  <a:pt x="23788" y="13320"/>
                </a:moveTo>
                <a:cubicBezTo>
                  <a:pt x="23872" y="13292"/>
                  <a:pt x="23907" y="13278"/>
                  <a:pt x="23961" y="13246"/>
                </a:cubicBezTo>
              </a:path>
              <a:path w="7070" h="4218">
                <a:moveTo>
                  <a:pt x="17165" y="15230"/>
                </a:moveTo>
                <a:cubicBezTo>
                  <a:pt x="17238" y="15171"/>
                  <a:pt x="17300" y="15140"/>
                  <a:pt x="17388" y="15106"/>
                </a:cubicBezTo>
              </a:path>
              <a:path w="7070" h="4218">
                <a:moveTo>
                  <a:pt x="18033" y="14957"/>
                </a:moveTo>
                <a:cubicBezTo>
                  <a:pt x="18117" y="14902"/>
                  <a:pt x="18153" y="14885"/>
                  <a:pt x="18231" y="14908"/>
                </a:cubicBezTo>
              </a:path>
              <a:path w="7070" h="4218">
                <a:moveTo>
                  <a:pt x="17959" y="15205"/>
                </a:moveTo>
                <a:cubicBezTo>
                  <a:pt x="18083" y="15156"/>
                  <a:pt x="18125" y="15140"/>
                  <a:pt x="18207" y="15106"/>
                </a:cubicBezTo>
              </a:path>
              <a:path w="7070" h="4218">
                <a:moveTo>
                  <a:pt x="18554" y="15329"/>
                </a:moveTo>
                <a:cubicBezTo>
                  <a:pt x="18772" y="15268"/>
                  <a:pt x="18973" y="15182"/>
                  <a:pt x="19199" y="15156"/>
                </a:cubicBezTo>
              </a:path>
              <a:path w="7070" h="4218">
                <a:moveTo>
                  <a:pt x="20141" y="15255"/>
                </a:moveTo>
                <a:cubicBezTo>
                  <a:pt x="20047" y="15443"/>
                  <a:pt x="20018" y="15499"/>
                  <a:pt x="19968" y="1562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26120" y="5241960"/>
            <a:ext cx="320760" cy="465120"/>
          </a:xfrm>
          <a:custGeom>
            <a:avLst/>
            <a:gdLst/>
            <a:ahLst/>
            <a:rect l="l" t="t" r="r" b="b"/>
            <a:pathLst>
              <a:path w="894" h="1291">
                <a:moveTo>
                  <a:pt x="17239" y="14759"/>
                </a:moveTo>
                <a:cubicBezTo>
                  <a:pt x="17204" y="15008"/>
                  <a:pt x="17127" y="15242"/>
                  <a:pt x="17041" y="15478"/>
                </a:cubicBezTo>
                <a:cubicBezTo>
                  <a:pt x="16927" y="15630"/>
                  <a:pt x="17081" y="15212"/>
                  <a:pt x="17140" y="15032"/>
                </a:cubicBezTo>
                <a:cubicBezTo>
                  <a:pt x="17196" y="14859"/>
                  <a:pt x="17260" y="14719"/>
                  <a:pt x="17338" y="14560"/>
                </a:cubicBezTo>
                <a:cubicBezTo>
                  <a:pt x="17413" y="14837"/>
                  <a:pt x="17449" y="15090"/>
                  <a:pt x="17462" y="15379"/>
                </a:cubicBezTo>
              </a:path>
              <a:path w="894" h="1291">
                <a:moveTo>
                  <a:pt x="17711" y="15354"/>
                </a:moveTo>
                <a:cubicBezTo>
                  <a:pt x="17697" y="15509"/>
                  <a:pt x="17665" y="15628"/>
                  <a:pt x="17611" y="15776"/>
                </a:cubicBezTo>
                <a:cubicBezTo>
                  <a:pt x="17654" y="15631"/>
                  <a:pt x="17687" y="15457"/>
                  <a:pt x="17760" y="15329"/>
                </a:cubicBezTo>
                <a:cubicBezTo>
                  <a:pt x="17803" y="15389"/>
                  <a:pt x="17956" y="15645"/>
                  <a:pt x="17909" y="15726"/>
                </a:cubicBezTo>
                <a:cubicBezTo>
                  <a:pt x="17880" y="15777"/>
                  <a:pt x="17623" y="15827"/>
                  <a:pt x="17562" y="1585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80160" y="5224320"/>
            <a:ext cx="830160" cy="490680"/>
          </a:xfrm>
          <a:custGeom>
            <a:avLst/>
            <a:gdLst/>
            <a:ahLst/>
            <a:rect l="l" t="t" r="r" b="b"/>
            <a:pathLst>
              <a:path w="2308" h="1365">
                <a:moveTo>
                  <a:pt x="18554" y="14511"/>
                </a:moveTo>
                <a:cubicBezTo>
                  <a:pt x="18580" y="14727"/>
                  <a:pt x="18604" y="14938"/>
                  <a:pt x="18604" y="15156"/>
                </a:cubicBezTo>
                <a:cubicBezTo>
                  <a:pt x="18608" y="15130"/>
                  <a:pt x="18729" y="14717"/>
                  <a:pt x="18827" y="14858"/>
                </a:cubicBezTo>
                <a:cubicBezTo>
                  <a:pt x="18974" y="15070"/>
                  <a:pt x="18684" y="15180"/>
                  <a:pt x="18554" y="15180"/>
                </a:cubicBezTo>
              </a:path>
              <a:path w="2308" h="1365">
                <a:moveTo>
                  <a:pt x="18852" y="14536"/>
                </a:moveTo>
                <a:cubicBezTo>
                  <a:pt x="18906" y="14724"/>
                  <a:pt x="18936" y="14909"/>
                  <a:pt x="18951" y="15106"/>
                </a:cubicBezTo>
                <a:cubicBezTo>
                  <a:pt x="18999" y="14863"/>
                  <a:pt x="19055" y="14780"/>
                  <a:pt x="19100" y="15106"/>
                </a:cubicBezTo>
                <a:cubicBezTo>
                  <a:pt x="19100" y="15139"/>
                  <a:pt x="19100" y="15172"/>
                  <a:pt x="19100" y="15205"/>
                </a:cubicBezTo>
              </a:path>
              <a:path w="2308" h="1365">
                <a:moveTo>
                  <a:pt x="18827" y="15478"/>
                </a:moveTo>
                <a:cubicBezTo>
                  <a:pt x="18926" y="15458"/>
                  <a:pt x="18941" y="15450"/>
                  <a:pt x="19000" y="15453"/>
                </a:cubicBezTo>
                <a:cubicBezTo>
                  <a:pt x="18967" y="15635"/>
                  <a:pt x="18874" y="15739"/>
                  <a:pt x="18752" y="15875"/>
                </a:cubicBezTo>
                <a:cubicBezTo>
                  <a:pt x="18884" y="15862"/>
                  <a:pt x="18994" y="15836"/>
                  <a:pt x="19124" y="15801"/>
                </a:cubicBezTo>
              </a:path>
              <a:path w="2308" h="1365">
                <a:moveTo>
                  <a:pt x="20340" y="14957"/>
                </a:moveTo>
                <a:cubicBezTo>
                  <a:pt x="20389" y="14938"/>
                  <a:pt x="20588" y="14805"/>
                  <a:pt x="20588" y="14908"/>
                </a:cubicBezTo>
                <a:cubicBezTo>
                  <a:pt x="20562" y="15038"/>
                  <a:pt x="20550" y="15084"/>
                  <a:pt x="20489" y="15156"/>
                </a:cubicBezTo>
                <a:cubicBezTo>
                  <a:pt x="20373" y="15183"/>
                  <a:pt x="20607" y="15060"/>
                  <a:pt x="20588" y="15255"/>
                </a:cubicBezTo>
                <a:cubicBezTo>
                  <a:pt x="20579" y="15353"/>
                  <a:pt x="20410" y="15636"/>
                  <a:pt x="20290" y="15453"/>
                </a:cubicBezTo>
                <a:cubicBezTo>
                  <a:pt x="20290" y="15428"/>
                  <a:pt x="20290" y="15404"/>
                  <a:pt x="20290" y="15379"/>
                </a:cubicBezTo>
              </a:path>
              <a:path w="2308" h="1365">
                <a:moveTo>
                  <a:pt x="20662" y="14932"/>
                </a:moveTo>
                <a:cubicBezTo>
                  <a:pt x="20662" y="15031"/>
                  <a:pt x="20662" y="15131"/>
                  <a:pt x="20662" y="15230"/>
                </a:cubicBezTo>
                <a:cubicBezTo>
                  <a:pt x="20779" y="15206"/>
                  <a:pt x="20815" y="15203"/>
                  <a:pt x="20861" y="15131"/>
                </a:cubicBezTo>
              </a:path>
              <a:path w="2308" h="1365">
                <a:moveTo>
                  <a:pt x="20836" y="14858"/>
                </a:moveTo>
                <a:cubicBezTo>
                  <a:pt x="20836" y="15075"/>
                  <a:pt x="20820" y="15287"/>
                  <a:pt x="20811" y="15503"/>
                </a:cubicBezTo>
              </a:path>
              <a:path w="2308" h="1365">
                <a:moveTo>
                  <a:pt x="19993" y="15280"/>
                </a:moveTo>
                <a:cubicBezTo>
                  <a:pt x="20022" y="15387"/>
                  <a:pt x="20081" y="15504"/>
                  <a:pt x="20141" y="15602"/>
                </a:cubicBezTo>
              </a:path>
              <a:path w="2308" h="1365">
                <a:moveTo>
                  <a:pt x="19645" y="15230"/>
                </a:moveTo>
                <a:cubicBezTo>
                  <a:pt x="19676" y="15230"/>
                  <a:pt x="19794" y="15225"/>
                  <a:pt x="19794" y="15280"/>
                </a:cubicBezTo>
                <a:cubicBezTo>
                  <a:pt x="19794" y="15386"/>
                  <a:pt x="19573" y="15618"/>
                  <a:pt x="19596" y="15677"/>
                </a:cubicBezTo>
                <a:cubicBezTo>
                  <a:pt x="19673" y="15677"/>
                  <a:pt x="19716" y="15666"/>
                  <a:pt x="19769" y="1562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045280" y="4089240"/>
            <a:ext cx="777960" cy="733680"/>
          </a:xfrm>
          <a:custGeom>
            <a:avLst/>
            <a:gdLst/>
            <a:ahLst/>
            <a:rect l="l" t="t" r="r" b="b"/>
            <a:pathLst>
              <a:path w="2159" h="2035">
                <a:moveTo>
                  <a:pt x="23986" y="11931"/>
                </a:moveTo>
                <a:cubicBezTo>
                  <a:pt x="23879" y="11977"/>
                  <a:pt x="23661" y="12033"/>
                  <a:pt x="23837" y="12154"/>
                </a:cubicBezTo>
                <a:cubicBezTo>
                  <a:pt x="23887" y="12179"/>
                  <a:pt x="23936" y="12204"/>
                  <a:pt x="23986" y="12229"/>
                </a:cubicBezTo>
                <a:cubicBezTo>
                  <a:pt x="24019" y="12262"/>
                  <a:pt x="24019" y="12279"/>
                  <a:pt x="23961" y="12303"/>
                </a:cubicBezTo>
                <a:cubicBezTo>
                  <a:pt x="23706" y="12304"/>
                  <a:pt x="23946" y="12123"/>
                  <a:pt x="24036" y="11981"/>
                </a:cubicBezTo>
                <a:cubicBezTo>
                  <a:pt x="24044" y="11964"/>
                  <a:pt x="24053" y="11948"/>
                  <a:pt x="24061" y="11931"/>
                </a:cubicBezTo>
              </a:path>
              <a:path w="2159" h="2035">
                <a:moveTo>
                  <a:pt x="22349" y="12229"/>
                </a:moveTo>
                <a:cubicBezTo>
                  <a:pt x="22627" y="12096"/>
                  <a:pt x="22936" y="12013"/>
                  <a:pt x="23242" y="11956"/>
                </a:cubicBezTo>
                <a:cubicBezTo>
                  <a:pt x="23259" y="11956"/>
                  <a:pt x="23275" y="11956"/>
                  <a:pt x="23292" y="11956"/>
                </a:cubicBezTo>
              </a:path>
              <a:path w="2159" h="2035">
                <a:moveTo>
                  <a:pt x="23068" y="12179"/>
                </a:moveTo>
                <a:cubicBezTo>
                  <a:pt x="22971" y="12221"/>
                  <a:pt x="22886" y="12270"/>
                  <a:pt x="22796" y="12328"/>
                </a:cubicBezTo>
                <a:cubicBezTo>
                  <a:pt x="22858" y="12363"/>
                  <a:pt x="23165" y="12412"/>
                  <a:pt x="23019" y="12526"/>
                </a:cubicBezTo>
                <a:cubicBezTo>
                  <a:pt x="22912" y="12569"/>
                  <a:pt x="22888" y="12592"/>
                  <a:pt x="22820" y="12551"/>
                </a:cubicBezTo>
                <a:cubicBezTo>
                  <a:pt x="22918" y="12408"/>
                  <a:pt x="23021" y="12272"/>
                  <a:pt x="23118" y="12129"/>
                </a:cubicBezTo>
              </a:path>
              <a:path w="2159" h="2035">
                <a:moveTo>
                  <a:pt x="23589" y="11410"/>
                </a:moveTo>
                <a:cubicBezTo>
                  <a:pt x="23745" y="11381"/>
                  <a:pt x="23879" y="11908"/>
                  <a:pt x="23961" y="12129"/>
                </a:cubicBezTo>
                <a:cubicBezTo>
                  <a:pt x="23998" y="12240"/>
                  <a:pt x="23986" y="12260"/>
                  <a:pt x="24036" y="12303"/>
                </a:cubicBezTo>
              </a:path>
              <a:path w="2159" h="2035">
                <a:moveTo>
                  <a:pt x="24110" y="12923"/>
                </a:moveTo>
                <a:cubicBezTo>
                  <a:pt x="24179" y="13074"/>
                  <a:pt x="24185" y="13181"/>
                  <a:pt x="24185" y="13345"/>
                </a:cubicBezTo>
                <a:cubicBezTo>
                  <a:pt x="24185" y="13362"/>
                  <a:pt x="24185" y="13378"/>
                  <a:pt x="24185" y="13395"/>
                </a:cubicBezTo>
                <a:cubicBezTo>
                  <a:pt x="24224" y="13261"/>
                  <a:pt x="24217" y="13152"/>
                  <a:pt x="24333" y="13047"/>
                </a:cubicBezTo>
                <a:cubicBezTo>
                  <a:pt x="24350" y="13039"/>
                  <a:pt x="24366" y="13030"/>
                  <a:pt x="24383" y="13022"/>
                </a:cubicBezTo>
                <a:cubicBezTo>
                  <a:pt x="24469" y="13087"/>
                  <a:pt x="24531" y="13172"/>
                  <a:pt x="24507" y="13295"/>
                </a:cubicBezTo>
                <a:cubicBezTo>
                  <a:pt x="24499" y="13312"/>
                  <a:pt x="24490" y="13328"/>
                  <a:pt x="24482" y="13345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16840" y="6000840"/>
            <a:ext cx="1125360" cy="706320"/>
          </a:xfrm>
          <a:custGeom>
            <a:avLst/>
            <a:gdLst/>
            <a:ahLst/>
            <a:rect l="l" t="t" r="r" b="b"/>
            <a:pathLst>
              <a:path w="3127" h="1960">
                <a:moveTo>
                  <a:pt x="21506" y="17140"/>
                </a:moveTo>
                <a:cubicBezTo>
                  <a:pt x="21630" y="17066"/>
                  <a:pt x="21672" y="17041"/>
                  <a:pt x="21754" y="16991"/>
                </a:cubicBezTo>
              </a:path>
              <a:path w="3127" h="1960">
                <a:moveTo>
                  <a:pt x="21084" y="16842"/>
                </a:moveTo>
                <a:cubicBezTo>
                  <a:pt x="21066" y="16872"/>
                  <a:pt x="20829" y="17243"/>
                  <a:pt x="20910" y="17289"/>
                </a:cubicBezTo>
                <a:cubicBezTo>
                  <a:pt x="20935" y="17289"/>
                  <a:pt x="20960" y="17289"/>
                  <a:pt x="20985" y="17289"/>
                </a:cubicBezTo>
                <a:cubicBezTo>
                  <a:pt x="21087" y="17207"/>
                  <a:pt x="21273" y="17030"/>
                  <a:pt x="21158" y="16867"/>
                </a:cubicBezTo>
                <a:cubicBezTo>
                  <a:pt x="21107" y="16867"/>
                  <a:pt x="21088" y="16866"/>
                  <a:pt x="21059" y="16842"/>
                </a:cubicBezTo>
              </a:path>
              <a:path w="3127" h="1960">
                <a:moveTo>
                  <a:pt x="20613" y="17016"/>
                </a:moveTo>
                <a:cubicBezTo>
                  <a:pt x="20654" y="16944"/>
                  <a:pt x="20652" y="16917"/>
                  <a:pt x="20638" y="16842"/>
                </a:cubicBezTo>
                <a:cubicBezTo>
                  <a:pt x="20543" y="16866"/>
                  <a:pt x="20339" y="17032"/>
                  <a:pt x="20414" y="17165"/>
                </a:cubicBezTo>
                <a:cubicBezTo>
                  <a:pt x="20465" y="17256"/>
                  <a:pt x="20648" y="16992"/>
                  <a:pt x="20662" y="16966"/>
                </a:cubicBezTo>
                <a:cubicBezTo>
                  <a:pt x="20670" y="16950"/>
                  <a:pt x="20679" y="16933"/>
                  <a:pt x="20687" y="16917"/>
                </a:cubicBezTo>
                <a:cubicBezTo>
                  <a:pt x="20660" y="17070"/>
                  <a:pt x="20638" y="17208"/>
                  <a:pt x="20638" y="17363"/>
                </a:cubicBezTo>
              </a:path>
              <a:path w="3127" h="1960">
                <a:moveTo>
                  <a:pt x="20141" y="16917"/>
                </a:moveTo>
                <a:cubicBezTo>
                  <a:pt x="20107" y="17075"/>
                  <a:pt x="20036" y="17278"/>
                  <a:pt x="20042" y="17438"/>
                </a:cubicBezTo>
                <a:cubicBezTo>
                  <a:pt x="20050" y="17454"/>
                  <a:pt x="20059" y="17471"/>
                  <a:pt x="20067" y="17487"/>
                </a:cubicBezTo>
                <a:cubicBezTo>
                  <a:pt x="20229" y="17497"/>
                  <a:pt x="20312" y="17482"/>
                  <a:pt x="20365" y="17314"/>
                </a:cubicBezTo>
                <a:cubicBezTo>
                  <a:pt x="20387" y="17222"/>
                  <a:pt x="20403" y="17191"/>
                  <a:pt x="20315" y="17190"/>
                </a:cubicBezTo>
                <a:cubicBezTo>
                  <a:pt x="20256" y="17244"/>
                  <a:pt x="20095" y="17394"/>
                  <a:pt x="20216" y="17487"/>
                </a:cubicBezTo>
                <a:cubicBezTo>
                  <a:pt x="20232" y="17487"/>
                  <a:pt x="20249" y="17487"/>
                  <a:pt x="20265" y="17487"/>
                </a:cubicBezTo>
              </a:path>
              <a:path w="3127" h="1960">
                <a:moveTo>
                  <a:pt x="20762" y="17363"/>
                </a:moveTo>
                <a:cubicBezTo>
                  <a:pt x="20785" y="17246"/>
                  <a:pt x="20705" y="17333"/>
                  <a:pt x="20786" y="17314"/>
                </a:cubicBezTo>
              </a:path>
              <a:path w="3127" h="1960">
                <a:moveTo>
                  <a:pt x="22027" y="17413"/>
                </a:moveTo>
                <a:cubicBezTo>
                  <a:pt x="22234" y="17186"/>
                  <a:pt x="22515" y="17133"/>
                  <a:pt x="22796" y="17016"/>
                </a:cubicBezTo>
                <a:cubicBezTo>
                  <a:pt x="22829" y="16999"/>
                  <a:pt x="22862" y="16983"/>
                  <a:pt x="22895" y="16966"/>
                </a:cubicBezTo>
              </a:path>
              <a:path w="3127" h="1960">
                <a:moveTo>
                  <a:pt x="22473" y="17338"/>
                </a:moveTo>
                <a:cubicBezTo>
                  <a:pt x="22447" y="17380"/>
                  <a:pt x="22147" y="17778"/>
                  <a:pt x="22349" y="17760"/>
                </a:cubicBezTo>
                <a:cubicBezTo>
                  <a:pt x="22506" y="17746"/>
                  <a:pt x="22569" y="17620"/>
                  <a:pt x="22647" y="17512"/>
                </a:cubicBezTo>
                <a:cubicBezTo>
                  <a:pt x="22503" y="17496"/>
                  <a:pt x="22451" y="17612"/>
                  <a:pt x="22374" y="17735"/>
                </a:cubicBezTo>
              </a:path>
              <a:path w="3127" h="1960">
                <a:moveTo>
                  <a:pt x="22126" y="16669"/>
                </a:moveTo>
                <a:cubicBezTo>
                  <a:pt x="22186" y="16930"/>
                  <a:pt x="22231" y="17201"/>
                  <a:pt x="22299" y="17462"/>
                </a:cubicBezTo>
                <a:cubicBezTo>
                  <a:pt x="22343" y="17594"/>
                  <a:pt x="22356" y="17626"/>
                  <a:pt x="22374" y="17711"/>
                </a:cubicBezTo>
              </a:path>
              <a:path w="3127" h="1960">
                <a:moveTo>
                  <a:pt x="19769" y="17636"/>
                </a:moveTo>
                <a:cubicBezTo>
                  <a:pt x="20039" y="17569"/>
                  <a:pt x="20291" y="17471"/>
                  <a:pt x="20563" y="17413"/>
                </a:cubicBezTo>
                <a:cubicBezTo>
                  <a:pt x="20671" y="17395"/>
                  <a:pt x="20678" y="17387"/>
                  <a:pt x="20737" y="17388"/>
                </a:cubicBezTo>
              </a:path>
              <a:path w="3127" h="1960">
                <a:moveTo>
                  <a:pt x="20166" y="17686"/>
                </a:moveTo>
                <a:cubicBezTo>
                  <a:pt x="20152" y="17855"/>
                  <a:pt x="20107" y="18014"/>
                  <a:pt x="20092" y="18182"/>
                </a:cubicBezTo>
                <a:cubicBezTo>
                  <a:pt x="20309" y="18145"/>
                  <a:pt x="20338" y="18079"/>
                  <a:pt x="20414" y="17884"/>
                </a:cubicBezTo>
                <a:cubicBezTo>
                  <a:pt x="20324" y="18005"/>
                  <a:pt x="20206" y="18108"/>
                  <a:pt x="20340" y="18157"/>
                </a:cubicBezTo>
              </a:path>
              <a:path w="3127" h="1960">
                <a:moveTo>
                  <a:pt x="22151" y="18107"/>
                </a:moveTo>
                <a:cubicBezTo>
                  <a:pt x="22146" y="18243"/>
                  <a:pt x="22126" y="18370"/>
                  <a:pt x="22126" y="18504"/>
                </a:cubicBezTo>
                <a:cubicBezTo>
                  <a:pt x="22150" y="18466"/>
                  <a:pt x="22283" y="18171"/>
                  <a:pt x="22324" y="18182"/>
                </a:cubicBezTo>
                <a:cubicBezTo>
                  <a:pt x="22378" y="18197"/>
                  <a:pt x="22409" y="18361"/>
                  <a:pt x="22423" y="18405"/>
                </a:cubicBezTo>
              </a:path>
              <a:path w="3127" h="1960">
                <a:moveTo>
                  <a:pt x="21654" y="18281"/>
                </a:moveTo>
                <a:cubicBezTo>
                  <a:pt x="21715" y="18238"/>
                  <a:pt x="21780" y="18197"/>
                  <a:pt x="21853" y="18182"/>
                </a:cubicBezTo>
              </a:path>
              <a:path w="3127" h="1960">
                <a:moveTo>
                  <a:pt x="20910" y="18182"/>
                </a:moveTo>
                <a:cubicBezTo>
                  <a:pt x="20862" y="18280"/>
                  <a:pt x="20861" y="18369"/>
                  <a:pt x="20861" y="18479"/>
                </a:cubicBezTo>
              </a:path>
              <a:path w="3127" h="1960">
                <a:moveTo>
                  <a:pt x="21208" y="18008"/>
                </a:moveTo>
                <a:cubicBezTo>
                  <a:pt x="21103" y="18114"/>
                  <a:pt x="21113" y="18084"/>
                  <a:pt x="21134" y="18207"/>
                </a:cubicBezTo>
                <a:cubicBezTo>
                  <a:pt x="21134" y="18223"/>
                  <a:pt x="21134" y="18240"/>
                  <a:pt x="21134" y="18256"/>
                </a:cubicBezTo>
                <a:cubicBezTo>
                  <a:pt x="21210" y="18194"/>
                  <a:pt x="21291" y="18192"/>
                  <a:pt x="21332" y="18306"/>
                </a:cubicBezTo>
                <a:cubicBezTo>
                  <a:pt x="21379" y="18436"/>
                  <a:pt x="21210" y="18451"/>
                  <a:pt x="21134" y="18479"/>
                </a:cubicBezTo>
              </a:path>
              <a:path w="3127" h="1960">
                <a:moveTo>
                  <a:pt x="20513" y="18157"/>
                </a:moveTo>
                <a:cubicBezTo>
                  <a:pt x="20491" y="18330"/>
                  <a:pt x="20477" y="18405"/>
                  <a:pt x="20464" y="18579"/>
                </a:cubicBezTo>
                <a:cubicBezTo>
                  <a:pt x="20474" y="18381"/>
                  <a:pt x="20479" y="18206"/>
                  <a:pt x="20464" y="18008"/>
                </a:cubicBezTo>
                <a:cubicBezTo>
                  <a:pt x="20464" y="17983"/>
                  <a:pt x="20464" y="17959"/>
                  <a:pt x="20464" y="17934"/>
                </a:cubicBezTo>
                <a:cubicBezTo>
                  <a:pt x="20683" y="17873"/>
                  <a:pt x="20897" y="17792"/>
                  <a:pt x="21109" y="17711"/>
                </a:cubicBezTo>
                <a:cubicBezTo>
                  <a:pt x="21420" y="17592"/>
                  <a:pt x="21722" y="17535"/>
                  <a:pt x="22051" y="17487"/>
                </a:cubicBezTo>
                <a:cubicBezTo>
                  <a:pt x="22175" y="17469"/>
                  <a:pt x="22283" y="17455"/>
                  <a:pt x="22399" y="17413"/>
                </a:cubicBezTo>
                <a:cubicBezTo>
                  <a:pt x="22470" y="17569"/>
                  <a:pt x="22537" y="17731"/>
                  <a:pt x="22622" y="17884"/>
                </a:cubicBezTo>
                <a:cubicBezTo>
                  <a:pt x="22668" y="17966"/>
                  <a:pt x="22718" y="18033"/>
                  <a:pt x="22771" y="1810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6054840"/>
            <a:ext cx="6902640" cy="795240"/>
          </a:xfrm>
          <a:custGeom>
            <a:avLst/>
            <a:gdLst/>
            <a:ahLst/>
            <a:rect l="l" t="t" r="r" b="b"/>
            <a:pathLst>
              <a:path w="19175" h="2208">
                <a:moveTo>
                  <a:pt x="4068" y="19025"/>
                </a:moveTo>
                <a:lnTo>
                  <a:pt x="4068" y="19025"/>
                </a:lnTo>
              </a:path>
              <a:path w="19175" h="2208">
                <a:moveTo>
                  <a:pt x="21530" y="16942"/>
                </a:moveTo>
                <a:cubicBezTo>
                  <a:pt x="21638" y="16877"/>
                  <a:pt x="21664" y="16862"/>
                  <a:pt x="21729" y="16818"/>
                </a:cubicBezTo>
              </a:path>
              <a:path w="19175" h="2208">
                <a:moveTo>
                  <a:pt x="21630" y="18405"/>
                </a:moveTo>
                <a:cubicBezTo>
                  <a:pt x="21714" y="18384"/>
                  <a:pt x="21733" y="18382"/>
                  <a:pt x="21779" y="18355"/>
                </a:cubicBezTo>
              </a:path>
              <a:path w="19175" h="2208">
                <a:moveTo>
                  <a:pt x="20737" y="18207"/>
                </a:moveTo>
                <a:cubicBezTo>
                  <a:pt x="20700" y="18336"/>
                  <a:pt x="20684" y="18447"/>
                  <a:pt x="20662" y="18579"/>
                </a:cubicBezTo>
              </a:path>
              <a:path w="19175" h="2208">
                <a:moveTo>
                  <a:pt x="21059" y="18430"/>
                </a:moveTo>
                <a:cubicBezTo>
                  <a:pt x="21051" y="18446"/>
                  <a:pt x="21042" y="18463"/>
                  <a:pt x="21034" y="18479"/>
                </a:cubicBezTo>
              </a:path>
              <a:path w="19175" h="2208">
                <a:moveTo>
                  <a:pt x="22771" y="18157"/>
                </a:moveTo>
                <a:cubicBezTo>
                  <a:pt x="22699" y="18205"/>
                  <a:pt x="22678" y="18220"/>
                  <a:pt x="22622" y="18231"/>
                </a:cubicBezTo>
              </a:path>
              <a:path w="19175" h="2208">
                <a:moveTo>
                  <a:pt x="3597" y="19025"/>
                </a:moveTo>
                <a:lnTo>
                  <a:pt x="3597" y="19025"/>
                </a:ln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89840" y="3394080"/>
            <a:ext cx="233280" cy="61920"/>
          </a:xfrm>
          <a:custGeom>
            <a:avLst/>
            <a:gdLst/>
            <a:ahLst/>
            <a:rect l="l" t="t" r="r" b="b"/>
            <a:pathLst>
              <a:path w="646" h="174">
                <a:moveTo>
                  <a:pt x="19695" y="9599"/>
                </a:moveTo>
                <a:cubicBezTo>
                  <a:pt x="19914" y="9522"/>
                  <a:pt x="20112" y="9466"/>
                  <a:pt x="20340" y="942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15040" y="4321080"/>
            <a:ext cx="125280" cy="135000"/>
          </a:xfrm>
          <a:custGeom>
            <a:avLst/>
            <a:gdLst/>
            <a:ahLst/>
            <a:rect l="l" t="t" r="r" b="b"/>
            <a:pathLst>
              <a:path w="348" h="374">
                <a:moveTo>
                  <a:pt x="17264" y="12080"/>
                </a:moveTo>
                <a:cubicBezTo>
                  <a:pt x="17378" y="12034"/>
                  <a:pt x="17409" y="12020"/>
                  <a:pt x="17487" y="12005"/>
                </a:cubicBezTo>
                <a:cubicBezTo>
                  <a:pt x="17457" y="12144"/>
                  <a:pt x="17254" y="12380"/>
                  <a:pt x="17338" y="12378"/>
                </a:cubicBezTo>
                <a:cubicBezTo>
                  <a:pt x="17479" y="12354"/>
                  <a:pt x="17521" y="12348"/>
                  <a:pt x="17611" y="1232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32720" y="4133880"/>
            <a:ext cx="90360" cy="162000"/>
          </a:xfrm>
          <a:custGeom>
            <a:avLst/>
            <a:gdLst/>
            <a:ahLst/>
            <a:rect l="l" t="t" r="r" b="b"/>
            <a:pathLst>
              <a:path w="249" h="447">
                <a:moveTo>
                  <a:pt x="18728" y="11509"/>
                </a:moveTo>
                <a:cubicBezTo>
                  <a:pt x="18810" y="11489"/>
                  <a:pt x="18825" y="11481"/>
                  <a:pt x="18876" y="11485"/>
                </a:cubicBezTo>
                <a:cubicBezTo>
                  <a:pt x="18890" y="11672"/>
                  <a:pt x="18722" y="11771"/>
                  <a:pt x="18703" y="11931"/>
                </a:cubicBezTo>
                <a:cubicBezTo>
                  <a:pt x="18702" y="11943"/>
                  <a:pt x="18919" y="11890"/>
                  <a:pt x="18951" y="11881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53280" y="4081320"/>
            <a:ext cx="106560" cy="187560"/>
          </a:xfrm>
          <a:custGeom>
            <a:avLst/>
            <a:gdLst/>
            <a:ahLst/>
            <a:rect l="l" t="t" r="r" b="b"/>
            <a:pathLst>
              <a:path w="298" h="522">
                <a:moveTo>
                  <a:pt x="22721" y="11336"/>
                </a:moveTo>
                <a:cubicBezTo>
                  <a:pt x="22710" y="11498"/>
                  <a:pt x="22664" y="11648"/>
                  <a:pt x="22647" y="11807"/>
                </a:cubicBezTo>
                <a:cubicBezTo>
                  <a:pt x="22812" y="11816"/>
                  <a:pt x="22871" y="11830"/>
                  <a:pt x="22944" y="11658"/>
                </a:cubicBezTo>
                <a:cubicBezTo>
                  <a:pt x="22845" y="11716"/>
                  <a:pt x="22821" y="11749"/>
                  <a:pt x="22771" y="1185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51920" y="4106880"/>
            <a:ext cx="71280" cy="81000"/>
          </a:xfrm>
          <a:custGeom>
            <a:avLst/>
            <a:gdLst/>
            <a:ahLst/>
            <a:rect l="l" t="t" r="r" b="b"/>
            <a:pathLst>
              <a:path w="199" h="224">
                <a:moveTo>
                  <a:pt x="22944" y="11410"/>
                </a:moveTo>
                <a:cubicBezTo>
                  <a:pt x="22938" y="11477"/>
                  <a:pt x="22926" y="11542"/>
                  <a:pt x="22920" y="11609"/>
                </a:cubicBezTo>
                <a:cubicBezTo>
                  <a:pt x="23028" y="11630"/>
                  <a:pt x="23054" y="11643"/>
                  <a:pt x="23118" y="1160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96200" y="4062240"/>
            <a:ext cx="17640" cy="1890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23093" y="11286"/>
                </a:moveTo>
                <a:cubicBezTo>
                  <a:pt x="23052" y="11435"/>
                  <a:pt x="23051" y="11639"/>
                  <a:pt x="23044" y="1180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75680" y="4125960"/>
            <a:ext cx="482400" cy="330120"/>
          </a:xfrm>
          <a:custGeom>
            <a:avLst/>
            <a:gdLst/>
            <a:ahLst/>
            <a:rect l="l" t="t" r="r" b="b"/>
            <a:pathLst>
              <a:path w="1340" h="919">
                <a:moveTo>
                  <a:pt x="20489" y="12378"/>
                </a:moveTo>
                <a:cubicBezTo>
                  <a:pt x="20603" y="12120"/>
                  <a:pt x="20993" y="11897"/>
                  <a:pt x="21233" y="11757"/>
                </a:cubicBezTo>
                <a:cubicBezTo>
                  <a:pt x="21419" y="11648"/>
                  <a:pt x="21633" y="11558"/>
                  <a:pt x="21828" y="11460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501040" y="4017960"/>
            <a:ext cx="135000" cy="1890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23986" y="11187"/>
                </a:moveTo>
                <a:cubicBezTo>
                  <a:pt x="23926" y="11184"/>
                  <a:pt x="23507" y="11180"/>
                  <a:pt x="23614" y="11361"/>
                </a:cubicBezTo>
                <a:cubicBezTo>
                  <a:pt x="23694" y="11497"/>
                  <a:pt x="23769" y="11448"/>
                  <a:pt x="23812" y="11609"/>
                </a:cubicBezTo>
                <a:cubicBezTo>
                  <a:pt x="23787" y="11634"/>
                  <a:pt x="23763" y="11658"/>
                  <a:pt x="23738" y="11683"/>
                </a:cubicBezTo>
                <a:cubicBezTo>
                  <a:pt x="23584" y="11597"/>
                  <a:pt x="23739" y="11475"/>
                  <a:pt x="23837" y="11361"/>
                </a:cubicBezTo>
                <a:cubicBezTo>
                  <a:pt x="23862" y="11336"/>
                  <a:pt x="23887" y="11311"/>
                  <a:pt x="23912" y="1128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634240" y="3983040"/>
            <a:ext cx="81000" cy="177840"/>
          </a:xfrm>
          <a:custGeom>
            <a:avLst/>
            <a:gdLst/>
            <a:ahLst/>
            <a:rect l="l" t="t" r="r" b="b"/>
            <a:pathLst>
              <a:path w="224" h="497">
                <a:moveTo>
                  <a:pt x="24011" y="11063"/>
                </a:moveTo>
                <a:cubicBezTo>
                  <a:pt x="23995" y="11232"/>
                  <a:pt x="23986" y="11390"/>
                  <a:pt x="23986" y="11559"/>
                </a:cubicBezTo>
                <a:cubicBezTo>
                  <a:pt x="24001" y="11527"/>
                  <a:pt x="24091" y="11245"/>
                  <a:pt x="24160" y="11311"/>
                </a:cubicBezTo>
                <a:cubicBezTo>
                  <a:pt x="24211" y="11414"/>
                  <a:pt x="24227" y="11452"/>
                  <a:pt x="24209" y="1153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5120" y="4643280"/>
            <a:ext cx="108000" cy="179640"/>
          </a:xfrm>
          <a:custGeom>
            <a:avLst/>
            <a:gdLst/>
            <a:ahLst/>
            <a:rect l="l" t="t" r="r" b="b"/>
            <a:pathLst>
              <a:path w="298" h="498">
                <a:moveTo>
                  <a:pt x="23589" y="12898"/>
                </a:moveTo>
                <a:cubicBezTo>
                  <a:pt x="23468" y="12945"/>
                  <a:pt x="23395" y="12969"/>
                  <a:pt x="23292" y="13047"/>
                </a:cubicBezTo>
                <a:cubicBezTo>
                  <a:pt x="23449" y="13085"/>
                  <a:pt x="23660" y="13157"/>
                  <a:pt x="23490" y="13370"/>
                </a:cubicBezTo>
                <a:cubicBezTo>
                  <a:pt x="23423" y="13393"/>
                  <a:pt x="23405" y="13404"/>
                  <a:pt x="23366" y="13370"/>
                </a:cubicBezTo>
                <a:cubicBezTo>
                  <a:pt x="23366" y="13178"/>
                  <a:pt x="23395" y="13142"/>
                  <a:pt x="23540" y="1299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59840" y="4527720"/>
            <a:ext cx="554040" cy="401400"/>
          </a:xfrm>
          <a:custGeom>
            <a:avLst/>
            <a:gdLst/>
            <a:ahLst/>
            <a:rect l="l" t="t" r="r" b="b"/>
            <a:pathLst>
              <a:path w="1539" h="1117">
                <a:moveTo>
                  <a:pt x="22944" y="13022"/>
                </a:moveTo>
                <a:cubicBezTo>
                  <a:pt x="22961" y="13224"/>
                  <a:pt x="22949" y="13415"/>
                  <a:pt x="22944" y="13618"/>
                </a:cubicBezTo>
                <a:cubicBezTo>
                  <a:pt x="22944" y="13634"/>
                  <a:pt x="22944" y="13651"/>
                  <a:pt x="22944" y="13667"/>
                </a:cubicBezTo>
                <a:cubicBezTo>
                  <a:pt x="23182" y="13718"/>
                  <a:pt x="23395" y="13675"/>
                  <a:pt x="23639" y="13643"/>
                </a:cubicBezTo>
                <a:cubicBezTo>
                  <a:pt x="23871" y="13612"/>
                  <a:pt x="24231" y="13634"/>
                  <a:pt x="24457" y="13568"/>
                </a:cubicBezTo>
                <a:cubicBezTo>
                  <a:pt x="24531" y="13546"/>
                  <a:pt x="24482" y="13032"/>
                  <a:pt x="24482" y="12998"/>
                </a:cubicBezTo>
                <a:cubicBezTo>
                  <a:pt x="24482" y="12908"/>
                  <a:pt x="24491" y="12655"/>
                  <a:pt x="24383" y="12601"/>
                </a:cubicBezTo>
                <a:cubicBezTo>
                  <a:pt x="24214" y="12517"/>
                  <a:pt x="23931" y="12628"/>
                  <a:pt x="23763" y="12675"/>
                </a:cubicBezTo>
                <a:cubicBezTo>
                  <a:pt x="23527" y="12741"/>
                  <a:pt x="23300" y="12764"/>
                  <a:pt x="23068" y="12824"/>
                </a:cubicBezTo>
                <a:cubicBezTo>
                  <a:pt x="23030" y="12834"/>
                  <a:pt x="22980" y="12858"/>
                  <a:pt x="22944" y="1287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81960" y="5348160"/>
            <a:ext cx="115920" cy="206640"/>
          </a:xfrm>
          <a:custGeom>
            <a:avLst/>
            <a:gdLst/>
            <a:ahLst/>
            <a:rect l="l" t="t" r="r" b="b"/>
            <a:pathLst>
              <a:path w="324" h="572">
                <a:moveTo>
                  <a:pt x="21282" y="14858"/>
                </a:moveTo>
                <a:cubicBezTo>
                  <a:pt x="21144" y="14922"/>
                  <a:pt x="21144" y="14919"/>
                  <a:pt x="21134" y="15081"/>
                </a:cubicBezTo>
                <a:cubicBezTo>
                  <a:pt x="21134" y="15089"/>
                  <a:pt x="21134" y="15098"/>
                  <a:pt x="21134" y="15106"/>
                </a:cubicBezTo>
                <a:cubicBezTo>
                  <a:pt x="21228" y="15099"/>
                  <a:pt x="21292" y="15092"/>
                  <a:pt x="21382" y="15106"/>
                </a:cubicBezTo>
                <a:cubicBezTo>
                  <a:pt x="21366" y="15215"/>
                  <a:pt x="21289" y="15542"/>
                  <a:pt x="21084" y="15429"/>
                </a:cubicBezTo>
                <a:cubicBezTo>
                  <a:pt x="21076" y="15404"/>
                  <a:pt x="21067" y="15379"/>
                  <a:pt x="21059" y="1535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47000" y="5295960"/>
            <a:ext cx="117360" cy="241200"/>
          </a:xfrm>
          <a:custGeom>
            <a:avLst/>
            <a:gdLst/>
            <a:ahLst/>
            <a:rect l="l" t="t" r="r" b="b"/>
            <a:pathLst>
              <a:path w="324" h="671">
                <a:moveTo>
                  <a:pt x="22151" y="14709"/>
                </a:moveTo>
                <a:cubicBezTo>
                  <a:pt x="22151" y="14911"/>
                  <a:pt x="22107" y="15084"/>
                  <a:pt x="22076" y="15280"/>
                </a:cubicBezTo>
                <a:cubicBezTo>
                  <a:pt x="22036" y="15533"/>
                  <a:pt x="22316" y="15215"/>
                  <a:pt x="22349" y="15180"/>
                </a:cubicBezTo>
                <a:cubicBezTo>
                  <a:pt x="22482" y="14983"/>
                  <a:pt x="22208" y="15313"/>
                  <a:pt x="22175" y="1537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089920" y="5340240"/>
            <a:ext cx="71280" cy="187560"/>
          </a:xfrm>
          <a:custGeom>
            <a:avLst/>
            <a:gdLst/>
            <a:ahLst/>
            <a:rect l="l" t="t" r="r" b="b"/>
            <a:pathLst>
              <a:path w="199" h="522">
                <a:moveTo>
                  <a:pt x="22473" y="14833"/>
                </a:moveTo>
                <a:cubicBezTo>
                  <a:pt x="22496" y="15015"/>
                  <a:pt x="22504" y="15063"/>
                  <a:pt x="22498" y="15180"/>
                </a:cubicBezTo>
                <a:cubicBezTo>
                  <a:pt x="22410" y="15239"/>
                  <a:pt x="22538" y="15018"/>
                  <a:pt x="22547" y="15007"/>
                </a:cubicBezTo>
                <a:cubicBezTo>
                  <a:pt x="22689" y="14840"/>
                  <a:pt x="22652" y="15314"/>
                  <a:pt x="22647" y="1535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20000" y="5545080"/>
            <a:ext cx="250920" cy="71640"/>
          </a:xfrm>
          <a:custGeom>
            <a:avLst/>
            <a:gdLst/>
            <a:ahLst/>
            <a:rect l="l" t="t" r="r" b="b"/>
            <a:pathLst>
              <a:path w="695" h="199">
                <a:moveTo>
                  <a:pt x="22002" y="15602"/>
                </a:moveTo>
                <a:cubicBezTo>
                  <a:pt x="22233" y="15531"/>
                  <a:pt x="22461" y="15459"/>
                  <a:pt x="22696" y="15404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966080" y="5661000"/>
            <a:ext cx="123840" cy="1350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22175" y="15776"/>
                </a:moveTo>
                <a:cubicBezTo>
                  <a:pt x="22295" y="15747"/>
                  <a:pt x="22333" y="15688"/>
                  <a:pt x="22399" y="15776"/>
                </a:cubicBezTo>
                <a:cubicBezTo>
                  <a:pt x="22318" y="15890"/>
                  <a:pt x="22231" y="15975"/>
                  <a:pt x="22126" y="16073"/>
                </a:cubicBezTo>
                <a:cubicBezTo>
                  <a:pt x="22256" y="16087"/>
                  <a:pt x="22335" y="16018"/>
                  <a:pt x="22473" y="1594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67840" y="543888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23292" y="15131"/>
                </a:moveTo>
                <a:cubicBezTo>
                  <a:pt x="23407" y="15112"/>
                  <a:pt x="23423" y="15103"/>
                  <a:pt x="23490" y="15106"/>
                </a:cubicBezTo>
                <a:cubicBezTo>
                  <a:pt x="23428" y="15265"/>
                  <a:pt x="23326" y="15368"/>
                  <a:pt x="23242" y="15503"/>
                </a:cubicBezTo>
                <a:cubicBezTo>
                  <a:pt x="23397" y="15472"/>
                  <a:pt x="23467" y="15449"/>
                  <a:pt x="23564" y="15379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893000" y="5402160"/>
            <a:ext cx="689040" cy="376200"/>
          </a:xfrm>
          <a:custGeom>
            <a:avLst/>
            <a:gdLst/>
            <a:ahLst/>
            <a:rect l="l" t="t" r="r" b="b"/>
            <a:pathLst>
              <a:path w="1911" h="1043">
                <a:moveTo>
                  <a:pt x="21927" y="16049"/>
                </a:moveTo>
                <a:cubicBezTo>
                  <a:pt x="22340" y="15903"/>
                  <a:pt x="22624" y="15633"/>
                  <a:pt x="22994" y="15404"/>
                </a:cubicBezTo>
                <a:cubicBezTo>
                  <a:pt x="23276" y="15229"/>
                  <a:pt x="23529" y="15110"/>
                  <a:pt x="23837" y="1500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939080" y="5956200"/>
            <a:ext cx="150840" cy="204840"/>
          </a:xfrm>
          <a:custGeom>
            <a:avLst/>
            <a:gdLst/>
            <a:ahLst/>
            <a:rect l="l" t="t" r="r" b="b"/>
            <a:pathLst>
              <a:path w="423" h="571">
                <a:moveTo>
                  <a:pt x="22250" y="16545"/>
                </a:moveTo>
                <a:cubicBezTo>
                  <a:pt x="22174" y="16683"/>
                  <a:pt x="22064" y="16854"/>
                  <a:pt x="22051" y="17016"/>
                </a:cubicBezTo>
                <a:cubicBezTo>
                  <a:pt x="22059" y="17041"/>
                  <a:pt x="22068" y="17065"/>
                  <a:pt x="22076" y="17090"/>
                </a:cubicBezTo>
                <a:cubicBezTo>
                  <a:pt x="22295" y="17105"/>
                  <a:pt x="22356" y="17023"/>
                  <a:pt x="22473" y="16842"/>
                </a:cubicBezTo>
                <a:cubicBezTo>
                  <a:pt x="22344" y="16863"/>
                  <a:pt x="22293" y="16913"/>
                  <a:pt x="22250" y="17066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143920" y="5929200"/>
            <a:ext cx="71280" cy="162000"/>
          </a:xfrm>
          <a:custGeom>
            <a:avLst/>
            <a:gdLst/>
            <a:ahLst/>
            <a:rect l="l" t="t" r="r" b="b"/>
            <a:pathLst>
              <a:path w="199" h="448">
                <a:moveTo>
                  <a:pt x="22671" y="16470"/>
                </a:moveTo>
                <a:cubicBezTo>
                  <a:pt x="22640" y="16610"/>
                  <a:pt x="22632" y="16769"/>
                  <a:pt x="22622" y="16917"/>
                </a:cubicBezTo>
                <a:cubicBezTo>
                  <a:pt x="22629" y="16875"/>
                  <a:pt x="22733" y="16498"/>
                  <a:pt x="22820" y="16694"/>
                </a:cubicBezTo>
                <a:cubicBezTo>
                  <a:pt x="22820" y="16793"/>
                  <a:pt x="22820" y="16809"/>
                  <a:pt x="22820" y="16867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meter/Area/Missing Dimensions Workshee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rea and perimeter of polygons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imeter of a polygo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all outside edges/sides together to find the peri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angle:  Side 1 + Side2 + Side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tangle:  Side1 + Side2 + Side3 + Side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39080" y="5153040"/>
            <a:ext cx="27000" cy="106200"/>
          </a:xfrm>
          <a:custGeom>
            <a:avLst/>
            <a:gdLst/>
            <a:ahLst/>
            <a:rect l="l" t="t" r="r" b="b"/>
            <a:pathLst>
              <a:path w="76" h="299">
                <a:moveTo>
                  <a:pt x="22051" y="14312"/>
                </a:moveTo>
                <a:cubicBezTo>
                  <a:pt x="22079" y="14411"/>
                  <a:pt x="22102" y="14510"/>
                  <a:pt x="22126" y="1461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50000" y="3606840"/>
            <a:ext cx="974880" cy="768240"/>
          </a:xfrm>
          <a:custGeom>
            <a:avLst/>
            <a:gdLst/>
            <a:ahLst/>
            <a:rect l="l" t="t" r="r" b="b"/>
            <a:pathLst>
              <a:path w="2705" h="2134">
                <a:moveTo>
                  <a:pt x="19422" y="10220"/>
                </a:moveTo>
                <a:cubicBezTo>
                  <a:pt x="19549" y="9990"/>
                  <a:pt x="19591" y="9886"/>
                  <a:pt x="19496" y="10393"/>
                </a:cubicBezTo>
                <a:cubicBezTo>
                  <a:pt x="19485" y="10454"/>
                  <a:pt x="19253" y="11548"/>
                  <a:pt x="19199" y="11559"/>
                </a:cubicBezTo>
                <a:cubicBezTo>
                  <a:pt x="19199" y="11526"/>
                  <a:pt x="19199" y="11493"/>
                  <a:pt x="19199" y="11460"/>
                </a:cubicBezTo>
                <a:cubicBezTo>
                  <a:pt x="19178" y="11109"/>
                  <a:pt x="19234" y="10770"/>
                  <a:pt x="19273" y="10418"/>
                </a:cubicBezTo>
                <a:cubicBezTo>
                  <a:pt x="19294" y="10252"/>
                  <a:pt x="19295" y="10217"/>
                  <a:pt x="19323" y="10120"/>
                </a:cubicBezTo>
              </a:path>
              <a:path w="2705" h="2134">
                <a:moveTo>
                  <a:pt x="19472" y="10071"/>
                </a:moveTo>
                <a:cubicBezTo>
                  <a:pt x="19574" y="10128"/>
                  <a:pt x="19669" y="10187"/>
                  <a:pt x="19769" y="10244"/>
                </a:cubicBezTo>
                <a:cubicBezTo>
                  <a:pt x="19872" y="10303"/>
                  <a:pt x="19981" y="10354"/>
                  <a:pt x="20092" y="10393"/>
                </a:cubicBezTo>
                <a:cubicBezTo>
                  <a:pt x="20201" y="10431"/>
                  <a:pt x="20244" y="10511"/>
                  <a:pt x="20340" y="10567"/>
                </a:cubicBezTo>
                <a:cubicBezTo>
                  <a:pt x="20432" y="10621"/>
                  <a:pt x="20520" y="10678"/>
                  <a:pt x="20613" y="10740"/>
                </a:cubicBezTo>
                <a:cubicBezTo>
                  <a:pt x="20728" y="10817"/>
                  <a:pt x="20855" y="10874"/>
                  <a:pt x="20960" y="10964"/>
                </a:cubicBezTo>
                <a:cubicBezTo>
                  <a:pt x="21063" y="11052"/>
                  <a:pt x="21176" y="11104"/>
                  <a:pt x="21282" y="11187"/>
                </a:cubicBezTo>
                <a:cubicBezTo>
                  <a:pt x="21339" y="11232"/>
                  <a:pt x="21395" y="11272"/>
                  <a:pt x="21456" y="11311"/>
                </a:cubicBezTo>
              </a:path>
              <a:path w="2705" h="2134">
                <a:moveTo>
                  <a:pt x="19199" y="11485"/>
                </a:moveTo>
                <a:cubicBezTo>
                  <a:pt x="19323" y="11460"/>
                  <a:pt x="19483" y="11485"/>
                  <a:pt x="19621" y="11485"/>
                </a:cubicBezTo>
                <a:cubicBezTo>
                  <a:pt x="19823" y="11485"/>
                  <a:pt x="20017" y="11473"/>
                  <a:pt x="20216" y="11460"/>
                </a:cubicBezTo>
                <a:cubicBezTo>
                  <a:pt x="20349" y="11451"/>
                  <a:pt x="20482" y="11440"/>
                  <a:pt x="20613" y="11435"/>
                </a:cubicBezTo>
                <a:cubicBezTo>
                  <a:pt x="20700" y="11432"/>
                  <a:pt x="20771" y="11410"/>
                  <a:pt x="20861" y="11410"/>
                </a:cubicBezTo>
                <a:cubicBezTo>
                  <a:pt x="20935" y="11410"/>
                  <a:pt x="20989" y="11389"/>
                  <a:pt x="21059" y="11385"/>
                </a:cubicBezTo>
                <a:cubicBezTo>
                  <a:pt x="21145" y="11380"/>
                  <a:pt x="21224" y="11370"/>
                  <a:pt x="21307" y="11361"/>
                </a:cubicBezTo>
                <a:cubicBezTo>
                  <a:pt x="21340" y="11361"/>
                  <a:pt x="21357" y="11361"/>
                  <a:pt x="21382" y="11361"/>
                </a:cubicBezTo>
              </a:path>
              <a:path w="2705" h="2134">
                <a:moveTo>
                  <a:pt x="18777" y="10567"/>
                </a:moveTo>
                <a:cubicBezTo>
                  <a:pt x="18742" y="10704"/>
                  <a:pt x="18765" y="10822"/>
                  <a:pt x="18777" y="10964"/>
                </a:cubicBezTo>
              </a:path>
              <a:path w="2705" h="2134">
                <a:moveTo>
                  <a:pt x="20563" y="10220"/>
                </a:moveTo>
                <a:cubicBezTo>
                  <a:pt x="20630" y="10168"/>
                  <a:pt x="20652" y="10154"/>
                  <a:pt x="20737" y="10145"/>
                </a:cubicBezTo>
                <a:cubicBezTo>
                  <a:pt x="20714" y="10267"/>
                  <a:pt x="20556" y="10405"/>
                  <a:pt x="20662" y="10393"/>
                </a:cubicBezTo>
                <a:cubicBezTo>
                  <a:pt x="20746" y="10372"/>
                  <a:pt x="20765" y="10371"/>
                  <a:pt x="20811" y="10344"/>
                </a:cubicBezTo>
              </a:path>
              <a:path w="2705" h="2134">
                <a:moveTo>
                  <a:pt x="20241" y="11857"/>
                </a:moveTo>
                <a:cubicBezTo>
                  <a:pt x="20273" y="11833"/>
                  <a:pt x="20553" y="11670"/>
                  <a:pt x="20464" y="11832"/>
                </a:cubicBezTo>
                <a:cubicBezTo>
                  <a:pt x="20397" y="11898"/>
                  <a:pt x="20381" y="11914"/>
                  <a:pt x="20340" y="11956"/>
                </a:cubicBezTo>
                <a:cubicBezTo>
                  <a:pt x="20442" y="11925"/>
                  <a:pt x="20452" y="11929"/>
                  <a:pt x="20538" y="11981"/>
                </a:cubicBezTo>
                <a:cubicBezTo>
                  <a:pt x="20550" y="12067"/>
                  <a:pt x="20487" y="12162"/>
                  <a:pt x="20365" y="12154"/>
                </a:cubicBezTo>
                <a:cubicBezTo>
                  <a:pt x="20357" y="12146"/>
                  <a:pt x="20348" y="12137"/>
                  <a:pt x="20340" y="1212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18640" y="4653000"/>
            <a:ext cx="992160" cy="946080"/>
          </a:xfrm>
          <a:custGeom>
            <a:avLst/>
            <a:gdLst/>
            <a:ahLst/>
            <a:rect l="l" t="t" r="r" b="b"/>
            <a:pathLst>
              <a:path w="2754" h="2631">
                <a:moveTo>
                  <a:pt x="22423" y="13791"/>
                </a:moveTo>
                <a:cubicBezTo>
                  <a:pt x="22515" y="14065"/>
                  <a:pt x="22535" y="14349"/>
                  <a:pt x="22572" y="14635"/>
                </a:cubicBezTo>
                <a:cubicBezTo>
                  <a:pt x="22573" y="14639"/>
                  <a:pt x="22659" y="15035"/>
                  <a:pt x="22597" y="14883"/>
                </a:cubicBezTo>
              </a:path>
              <a:path w="2754" h="2631">
                <a:moveTo>
                  <a:pt x="22423" y="13816"/>
                </a:moveTo>
                <a:cubicBezTo>
                  <a:pt x="22369" y="13802"/>
                  <a:pt x="22332" y="13796"/>
                  <a:pt x="22275" y="13791"/>
                </a:cubicBezTo>
                <a:cubicBezTo>
                  <a:pt x="22399" y="13767"/>
                  <a:pt x="22520" y="13746"/>
                  <a:pt x="22647" y="13742"/>
                </a:cubicBezTo>
                <a:cubicBezTo>
                  <a:pt x="22773" y="13738"/>
                  <a:pt x="22890" y="13717"/>
                  <a:pt x="23019" y="13717"/>
                </a:cubicBezTo>
                <a:cubicBezTo>
                  <a:pt x="23181" y="13717"/>
                  <a:pt x="23331" y="13672"/>
                  <a:pt x="23490" y="13643"/>
                </a:cubicBezTo>
                <a:cubicBezTo>
                  <a:pt x="23655" y="13614"/>
                  <a:pt x="23821" y="13584"/>
                  <a:pt x="23986" y="13568"/>
                </a:cubicBezTo>
                <a:cubicBezTo>
                  <a:pt x="24055" y="13562"/>
                  <a:pt x="24117" y="13555"/>
                  <a:pt x="24185" y="13543"/>
                </a:cubicBezTo>
                <a:cubicBezTo>
                  <a:pt x="24275" y="13528"/>
                  <a:pt x="24337" y="13497"/>
                  <a:pt x="24408" y="13568"/>
                </a:cubicBezTo>
                <a:cubicBezTo>
                  <a:pt x="24468" y="13628"/>
                  <a:pt x="24522" y="13863"/>
                  <a:pt x="24532" y="13940"/>
                </a:cubicBezTo>
                <a:cubicBezTo>
                  <a:pt x="24550" y="14076"/>
                  <a:pt x="24589" y="14180"/>
                  <a:pt x="24631" y="14312"/>
                </a:cubicBezTo>
                <a:cubicBezTo>
                  <a:pt x="24645" y="14356"/>
                  <a:pt x="24665" y="14412"/>
                  <a:pt x="24681" y="14461"/>
                </a:cubicBezTo>
                <a:cubicBezTo>
                  <a:pt x="24700" y="14519"/>
                  <a:pt x="24725" y="14559"/>
                  <a:pt x="24755" y="14610"/>
                </a:cubicBezTo>
                <a:cubicBezTo>
                  <a:pt x="24657" y="14663"/>
                  <a:pt x="24631" y="14659"/>
                  <a:pt x="24532" y="14684"/>
                </a:cubicBezTo>
                <a:cubicBezTo>
                  <a:pt x="24484" y="14696"/>
                  <a:pt x="24442" y="14707"/>
                  <a:pt x="24383" y="14709"/>
                </a:cubicBezTo>
                <a:cubicBezTo>
                  <a:pt x="24310" y="14712"/>
                  <a:pt x="24268" y="14752"/>
                  <a:pt x="24209" y="14759"/>
                </a:cubicBezTo>
                <a:cubicBezTo>
                  <a:pt x="24136" y="14768"/>
                  <a:pt x="24055" y="14761"/>
                  <a:pt x="23986" y="14784"/>
                </a:cubicBezTo>
                <a:cubicBezTo>
                  <a:pt x="23903" y="14811"/>
                  <a:pt x="23822" y="14855"/>
                  <a:pt x="23738" y="14883"/>
                </a:cubicBezTo>
                <a:cubicBezTo>
                  <a:pt x="23674" y="14905"/>
                  <a:pt x="23581" y="14925"/>
                  <a:pt x="23515" y="14932"/>
                </a:cubicBezTo>
                <a:cubicBezTo>
                  <a:pt x="23412" y="14943"/>
                  <a:pt x="23317" y="14938"/>
                  <a:pt x="23217" y="14957"/>
                </a:cubicBezTo>
                <a:cubicBezTo>
                  <a:pt x="23118" y="14976"/>
                  <a:pt x="23018" y="14987"/>
                  <a:pt x="22920" y="15007"/>
                </a:cubicBezTo>
                <a:cubicBezTo>
                  <a:pt x="22866" y="15018"/>
                  <a:pt x="22794" y="15037"/>
                  <a:pt x="22746" y="15056"/>
                </a:cubicBezTo>
                <a:cubicBezTo>
                  <a:pt x="22729" y="15064"/>
                  <a:pt x="22713" y="15073"/>
                  <a:pt x="22696" y="15081"/>
                </a:cubicBezTo>
              </a:path>
              <a:path w="2754" h="2631">
                <a:moveTo>
                  <a:pt x="22994" y="12948"/>
                </a:moveTo>
                <a:cubicBezTo>
                  <a:pt x="23078" y="12948"/>
                  <a:pt x="23112" y="12946"/>
                  <a:pt x="23168" y="12923"/>
                </a:cubicBezTo>
                <a:cubicBezTo>
                  <a:pt x="23150" y="13075"/>
                  <a:pt x="23115" y="13175"/>
                  <a:pt x="23019" y="13295"/>
                </a:cubicBezTo>
                <a:cubicBezTo>
                  <a:pt x="23139" y="13267"/>
                  <a:pt x="23253" y="13229"/>
                  <a:pt x="23366" y="13196"/>
                </a:cubicBezTo>
              </a:path>
              <a:path w="2754" h="2631">
                <a:moveTo>
                  <a:pt x="24730" y="13568"/>
                </a:moveTo>
                <a:cubicBezTo>
                  <a:pt x="24800" y="13568"/>
                  <a:pt x="24861" y="13551"/>
                  <a:pt x="24929" y="13543"/>
                </a:cubicBezTo>
                <a:cubicBezTo>
                  <a:pt x="24913" y="13644"/>
                  <a:pt x="24906" y="13726"/>
                  <a:pt x="24805" y="13767"/>
                </a:cubicBezTo>
                <a:cubicBezTo>
                  <a:pt x="24904" y="13754"/>
                  <a:pt x="25036" y="13734"/>
                  <a:pt x="25028" y="13891"/>
                </a:cubicBezTo>
                <a:cubicBezTo>
                  <a:pt x="25022" y="14008"/>
                  <a:pt x="24890" y="13998"/>
                  <a:pt x="24829" y="13990"/>
                </a:cubicBezTo>
                <a:cubicBezTo>
                  <a:pt x="24821" y="13990"/>
                  <a:pt x="24813" y="13990"/>
                  <a:pt x="24805" y="13990"/>
                </a:cubicBezTo>
              </a:path>
              <a:path w="2754" h="2631">
                <a:moveTo>
                  <a:pt x="24011" y="15131"/>
                </a:moveTo>
                <a:cubicBezTo>
                  <a:pt x="24011" y="15150"/>
                  <a:pt x="24086" y="15446"/>
                  <a:pt x="24110" y="15304"/>
                </a:cubicBezTo>
                <a:cubicBezTo>
                  <a:pt x="24102" y="15279"/>
                  <a:pt x="24093" y="15255"/>
                  <a:pt x="24085" y="15230"/>
                </a:cubicBezTo>
              </a:path>
              <a:path w="2754" h="2631">
                <a:moveTo>
                  <a:pt x="24036" y="15032"/>
                </a:moveTo>
                <a:cubicBezTo>
                  <a:pt x="24021" y="15207"/>
                  <a:pt x="24026" y="15376"/>
                  <a:pt x="24011" y="15553"/>
                </a:cubicBezTo>
              </a:path>
              <a:path w="2754" h="2631">
                <a:moveTo>
                  <a:pt x="23937" y="15180"/>
                </a:moveTo>
                <a:cubicBezTo>
                  <a:pt x="23907" y="15151"/>
                  <a:pt x="23895" y="15137"/>
                  <a:pt x="23887" y="15106"/>
                </a:cubicBezTo>
                <a:cubicBezTo>
                  <a:pt x="23904" y="15258"/>
                  <a:pt x="23885" y="15243"/>
                  <a:pt x="24011" y="15280"/>
                </a:cubicBezTo>
                <a:cubicBezTo>
                  <a:pt x="24003" y="15280"/>
                  <a:pt x="23994" y="15280"/>
                  <a:pt x="23986" y="1528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03680" y="5884920"/>
            <a:ext cx="1188720" cy="36360"/>
          </a:xfrm>
          <a:custGeom>
            <a:avLst/>
            <a:gdLst/>
            <a:ahLst/>
            <a:rect l="l" t="t" r="r" b="b"/>
            <a:pathLst>
              <a:path w="3300" h="101">
                <a:moveTo>
                  <a:pt x="7789" y="16446"/>
                </a:moveTo>
                <a:cubicBezTo>
                  <a:pt x="7913" y="16436"/>
                  <a:pt x="8037" y="16414"/>
                  <a:pt x="8161" y="16396"/>
                </a:cubicBezTo>
              </a:path>
              <a:path w="3300" h="101">
                <a:moveTo>
                  <a:pt x="10840" y="16396"/>
                </a:moveTo>
                <a:cubicBezTo>
                  <a:pt x="10973" y="16374"/>
                  <a:pt x="11007" y="16369"/>
                  <a:pt x="11088" y="1634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880" y="5803920"/>
            <a:ext cx="1384200" cy="519120"/>
          </a:xfrm>
          <a:custGeom>
            <a:avLst/>
            <a:gdLst/>
            <a:ahLst/>
            <a:rect l="l" t="t" r="r" b="b"/>
            <a:pathLst>
              <a:path w="3846" h="1440">
                <a:moveTo>
                  <a:pt x="2654" y="16446"/>
                </a:moveTo>
                <a:cubicBezTo>
                  <a:pt x="2635" y="16613"/>
                  <a:pt x="2802" y="16880"/>
                  <a:pt x="2853" y="17066"/>
                </a:cubicBezTo>
                <a:cubicBezTo>
                  <a:pt x="2861" y="17107"/>
                  <a:pt x="2869" y="17149"/>
                  <a:pt x="2877" y="17190"/>
                </a:cubicBezTo>
              </a:path>
              <a:path w="3846" h="1440">
                <a:moveTo>
                  <a:pt x="2034" y="16644"/>
                </a:moveTo>
                <a:cubicBezTo>
                  <a:pt x="2211" y="16427"/>
                  <a:pt x="2499" y="16089"/>
                  <a:pt x="2803" y="16346"/>
                </a:cubicBezTo>
                <a:cubicBezTo>
                  <a:pt x="2943" y="16464"/>
                  <a:pt x="2944" y="16789"/>
                  <a:pt x="2778" y="16867"/>
                </a:cubicBezTo>
                <a:cubicBezTo>
                  <a:pt x="2753" y="16851"/>
                  <a:pt x="2729" y="16834"/>
                  <a:pt x="2704" y="16818"/>
                </a:cubicBezTo>
                <a:cubicBezTo>
                  <a:pt x="2821" y="16604"/>
                  <a:pt x="3013" y="16729"/>
                  <a:pt x="3175" y="16867"/>
                </a:cubicBezTo>
                <a:cubicBezTo>
                  <a:pt x="3247" y="16929"/>
                  <a:pt x="3303" y="17009"/>
                  <a:pt x="3324" y="17090"/>
                </a:cubicBezTo>
              </a:path>
              <a:path w="3846" h="1440">
                <a:moveTo>
                  <a:pt x="3349" y="16818"/>
                </a:moveTo>
                <a:cubicBezTo>
                  <a:pt x="3453" y="16744"/>
                  <a:pt x="3503" y="16724"/>
                  <a:pt x="3621" y="16793"/>
                </a:cubicBezTo>
                <a:cubicBezTo>
                  <a:pt x="3587" y="16746"/>
                  <a:pt x="3421" y="16460"/>
                  <a:pt x="3324" y="16619"/>
                </a:cubicBezTo>
                <a:cubicBezTo>
                  <a:pt x="3215" y="16797"/>
                  <a:pt x="3379" y="17026"/>
                  <a:pt x="3572" y="17041"/>
                </a:cubicBezTo>
                <a:cubicBezTo>
                  <a:pt x="3605" y="17033"/>
                  <a:pt x="3638" y="17024"/>
                  <a:pt x="3671" y="17016"/>
                </a:cubicBezTo>
              </a:path>
              <a:path w="3846" h="1440">
                <a:moveTo>
                  <a:pt x="3944" y="16570"/>
                </a:moveTo>
                <a:cubicBezTo>
                  <a:pt x="3836" y="16663"/>
                  <a:pt x="3785" y="16831"/>
                  <a:pt x="3894" y="16966"/>
                </a:cubicBezTo>
                <a:cubicBezTo>
                  <a:pt x="4034" y="17140"/>
                  <a:pt x="4020" y="16693"/>
                  <a:pt x="4018" y="16669"/>
                </a:cubicBezTo>
                <a:cubicBezTo>
                  <a:pt x="4196" y="16884"/>
                  <a:pt x="4380" y="17126"/>
                  <a:pt x="4192" y="17413"/>
                </a:cubicBezTo>
                <a:cubicBezTo>
                  <a:pt x="4054" y="17528"/>
                  <a:pt x="4018" y="17567"/>
                  <a:pt x="3894" y="17562"/>
                </a:cubicBezTo>
              </a:path>
              <a:path w="3846" h="1440">
                <a:moveTo>
                  <a:pt x="4192" y="16694"/>
                </a:moveTo>
                <a:cubicBezTo>
                  <a:pt x="4215" y="16806"/>
                  <a:pt x="4286" y="16939"/>
                  <a:pt x="4341" y="17041"/>
                </a:cubicBezTo>
                <a:cubicBezTo>
                  <a:pt x="4369" y="17069"/>
                  <a:pt x="4382" y="17078"/>
                  <a:pt x="4415" y="17066"/>
                </a:cubicBezTo>
                <a:cubicBezTo>
                  <a:pt x="4448" y="16940"/>
                  <a:pt x="4476" y="16822"/>
                  <a:pt x="4490" y="16694"/>
                </a:cubicBezTo>
                <a:cubicBezTo>
                  <a:pt x="4565" y="16831"/>
                  <a:pt x="4628" y="16964"/>
                  <a:pt x="4762" y="17041"/>
                </a:cubicBezTo>
              </a:path>
              <a:path w="3846" h="1440">
                <a:moveTo>
                  <a:pt x="4589" y="16123"/>
                </a:moveTo>
                <a:cubicBezTo>
                  <a:pt x="4720" y="16364"/>
                  <a:pt x="4862" y="16597"/>
                  <a:pt x="4986" y="16842"/>
                </a:cubicBezTo>
                <a:cubicBezTo>
                  <a:pt x="5002" y="16875"/>
                  <a:pt x="5019" y="16909"/>
                  <a:pt x="5035" y="16942"/>
                </a:cubicBezTo>
              </a:path>
              <a:path w="3846" h="1440">
                <a:moveTo>
                  <a:pt x="5457" y="16594"/>
                </a:moveTo>
                <a:cubicBezTo>
                  <a:pt x="5288" y="16531"/>
                  <a:pt x="5154" y="16527"/>
                  <a:pt x="5135" y="16768"/>
                </a:cubicBezTo>
                <a:cubicBezTo>
                  <a:pt x="5120" y="16958"/>
                  <a:pt x="5374" y="17203"/>
                  <a:pt x="5457" y="16917"/>
                </a:cubicBezTo>
                <a:cubicBezTo>
                  <a:pt x="5457" y="16867"/>
                  <a:pt x="5457" y="16818"/>
                  <a:pt x="5457" y="16768"/>
                </a:cubicBezTo>
                <a:cubicBezTo>
                  <a:pt x="5449" y="16743"/>
                  <a:pt x="5440" y="16719"/>
                  <a:pt x="5432" y="16694"/>
                </a:cubicBezTo>
                <a:cubicBezTo>
                  <a:pt x="5558" y="16872"/>
                  <a:pt x="5523" y="16824"/>
                  <a:pt x="5680" y="16842"/>
                </a:cubicBezTo>
                <a:cubicBezTo>
                  <a:pt x="5740" y="16872"/>
                  <a:pt x="5763" y="16890"/>
                  <a:pt x="5779" y="16942"/>
                </a:cubicBezTo>
                <a:cubicBezTo>
                  <a:pt x="5766" y="16829"/>
                  <a:pt x="5653" y="16583"/>
                  <a:pt x="5779" y="16520"/>
                </a:cubicBezTo>
                <a:cubicBezTo>
                  <a:pt x="5812" y="16512"/>
                  <a:pt x="5846" y="16503"/>
                  <a:pt x="5879" y="1649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36920" y="5769000"/>
            <a:ext cx="1231920" cy="509400"/>
          </a:xfrm>
          <a:custGeom>
            <a:avLst/>
            <a:gdLst/>
            <a:ahLst/>
            <a:rect l="l" t="t" r="r" b="b"/>
            <a:pathLst>
              <a:path w="3424" h="1415">
                <a:moveTo>
                  <a:pt x="7144" y="16520"/>
                </a:moveTo>
                <a:cubicBezTo>
                  <a:pt x="7040" y="16758"/>
                  <a:pt x="7000" y="16871"/>
                  <a:pt x="7169" y="17066"/>
                </a:cubicBezTo>
                <a:cubicBezTo>
                  <a:pt x="7332" y="16954"/>
                  <a:pt x="7573" y="16784"/>
                  <a:pt x="7367" y="16570"/>
                </a:cubicBezTo>
                <a:cubicBezTo>
                  <a:pt x="7286" y="16529"/>
                  <a:pt x="7273" y="16512"/>
                  <a:pt x="7218" y="16520"/>
                </a:cubicBezTo>
              </a:path>
              <a:path w="3424" h="1415">
                <a:moveTo>
                  <a:pt x="7739" y="16594"/>
                </a:moveTo>
                <a:cubicBezTo>
                  <a:pt x="7697" y="16512"/>
                  <a:pt x="7697" y="16487"/>
                  <a:pt x="7640" y="16470"/>
                </a:cubicBezTo>
                <a:cubicBezTo>
                  <a:pt x="7593" y="16602"/>
                  <a:pt x="7525" y="16960"/>
                  <a:pt x="7813" y="16892"/>
                </a:cubicBezTo>
                <a:cubicBezTo>
                  <a:pt x="7863" y="16859"/>
                  <a:pt x="7912" y="16826"/>
                  <a:pt x="7962" y="16793"/>
                </a:cubicBezTo>
              </a:path>
              <a:path w="3424" h="1415">
                <a:moveTo>
                  <a:pt x="7888" y="16024"/>
                </a:moveTo>
                <a:cubicBezTo>
                  <a:pt x="7989" y="16271"/>
                  <a:pt x="8098" y="16518"/>
                  <a:pt x="8186" y="16768"/>
                </a:cubicBezTo>
              </a:path>
              <a:path w="3424" h="1415">
                <a:moveTo>
                  <a:pt x="8806" y="16545"/>
                </a:moveTo>
                <a:cubicBezTo>
                  <a:pt x="8776" y="16485"/>
                  <a:pt x="8758" y="16462"/>
                  <a:pt x="8706" y="16446"/>
                </a:cubicBezTo>
                <a:cubicBezTo>
                  <a:pt x="8611" y="16549"/>
                  <a:pt x="8428" y="16816"/>
                  <a:pt x="8682" y="16892"/>
                </a:cubicBezTo>
                <a:cubicBezTo>
                  <a:pt x="8874" y="16950"/>
                  <a:pt x="8809" y="16661"/>
                  <a:pt x="8806" y="16594"/>
                </a:cubicBezTo>
                <a:cubicBezTo>
                  <a:pt x="8872" y="16743"/>
                  <a:pt x="8872" y="16732"/>
                  <a:pt x="9004" y="16818"/>
                </a:cubicBezTo>
              </a:path>
              <a:path w="3424" h="1415">
                <a:moveTo>
                  <a:pt x="9252" y="16371"/>
                </a:moveTo>
                <a:cubicBezTo>
                  <a:pt x="9201" y="16418"/>
                  <a:pt x="8937" y="16773"/>
                  <a:pt x="9178" y="16793"/>
                </a:cubicBezTo>
                <a:cubicBezTo>
                  <a:pt x="9339" y="16806"/>
                  <a:pt x="9280" y="16528"/>
                  <a:pt x="9277" y="16470"/>
                </a:cubicBezTo>
                <a:cubicBezTo>
                  <a:pt x="9277" y="16462"/>
                  <a:pt x="9277" y="16454"/>
                  <a:pt x="9277" y="16446"/>
                </a:cubicBezTo>
                <a:cubicBezTo>
                  <a:pt x="9377" y="16673"/>
                  <a:pt x="9581" y="16873"/>
                  <a:pt x="9525" y="17140"/>
                </a:cubicBezTo>
                <a:cubicBezTo>
                  <a:pt x="9468" y="17411"/>
                  <a:pt x="9211" y="17397"/>
                  <a:pt x="9004" y="17438"/>
                </a:cubicBezTo>
              </a:path>
              <a:path w="3424" h="1415">
                <a:moveTo>
                  <a:pt x="9550" y="16421"/>
                </a:moveTo>
                <a:cubicBezTo>
                  <a:pt x="9473" y="16604"/>
                  <a:pt x="9452" y="16708"/>
                  <a:pt x="9500" y="16892"/>
                </a:cubicBezTo>
                <a:cubicBezTo>
                  <a:pt x="9672" y="16884"/>
                  <a:pt x="9946" y="16762"/>
                  <a:pt x="9773" y="16520"/>
                </a:cubicBezTo>
                <a:cubicBezTo>
                  <a:pt x="9670" y="16468"/>
                  <a:pt x="9633" y="16451"/>
                  <a:pt x="9550" y="16470"/>
                </a:cubicBezTo>
              </a:path>
              <a:path w="3424" h="1415">
                <a:moveTo>
                  <a:pt x="9971" y="16644"/>
                </a:moveTo>
                <a:cubicBezTo>
                  <a:pt x="10011" y="16742"/>
                  <a:pt x="10027" y="16756"/>
                  <a:pt x="10021" y="16818"/>
                </a:cubicBezTo>
                <a:cubicBezTo>
                  <a:pt x="10013" y="16716"/>
                  <a:pt x="9949" y="16309"/>
                  <a:pt x="10195" y="16396"/>
                </a:cubicBezTo>
                <a:cubicBezTo>
                  <a:pt x="10402" y="16470"/>
                  <a:pt x="10475" y="16680"/>
                  <a:pt x="10443" y="1686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Objective: Determine the area of a polygon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minder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ea of a rectangle = Length x wid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rea of a parallelogram: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rea = base x height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 =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3962520"/>
            <a:ext cx="3200400" cy="1828800"/>
          </a:xfrm>
          <a:prstGeom prst="parallelogram">
            <a:avLst>
              <a:gd name="adj" fmla="val 61177"/>
            </a:avLst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541008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5410080"/>
            <a:ext cx="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5867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5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08960" y="2786040"/>
            <a:ext cx="527040" cy="152280"/>
          </a:xfrm>
          <a:custGeom>
            <a:avLst/>
            <a:gdLst/>
            <a:ahLst/>
            <a:rect l="l" t="t" r="r" b="b"/>
            <a:pathLst>
              <a:path w="1464" h="423">
                <a:moveTo>
                  <a:pt x="21134" y="8136"/>
                </a:moveTo>
                <a:cubicBezTo>
                  <a:pt x="21258" y="8111"/>
                  <a:pt x="21299" y="8103"/>
                  <a:pt x="21382" y="8086"/>
                </a:cubicBezTo>
              </a:path>
              <a:path w="1464" h="423">
                <a:moveTo>
                  <a:pt x="22399" y="7813"/>
                </a:moveTo>
                <a:cubicBezTo>
                  <a:pt x="22458" y="7921"/>
                  <a:pt x="22511" y="8029"/>
                  <a:pt x="22572" y="8136"/>
                </a:cubicBezTo>
              </a:path>
              <a:path w="1464" h="423">
                <a:moveTo>
                  <a:pt x="22597" y="7739"/>
                </a:moveTo>
                <a:cubicBezTo>
                  <a:pt x="22516" y="7888"/>
                  <a:pt x="22423" y="8024"/>
                  <a:pt x="22324" y="816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53200" y="2670120"/>
            <a:ext cx="223920" cy="401760"/>
          </a:xfrm>
          <a:custGeom>
            <a:avLst/>
            <a:gdLst/>
            <a:ahLst/>
            <a:rect l="l" t="t" r="r" b="b"/>
            <a:pathLst>
              <a:path w="621" h="1117">
                <a:moveTo>
                  <a:pt x="20191" y="7665"/>
                </a:moveTo>
                <a:cubicBezTo>
                  <a:pt x="20095" y="7903"/>
                  <a:pt x="20004" y="8141"/>
                  <a:pt x="19918" y="8384"/>
                </a:cubicBezTo>
                <a:cubicBezTo>
                  <a:pt x="19902" y="8434"/>
                  <a:pt x="19885" y="8483"/>
                  <a:pt x="19869" y="8533"/>
                </a:cubicBezTo>
                <a:cubicBezTo>
                  <a:pt x="19963" y="8247"/>
                  <a:pt x="20002" y="7963"/>
                  <a:pt x="20141" y="7689"/>
                </a:cubicBezTo>
                <a:cubicBezTo>
                  <a:pt x="20215" y="7543"/>
                  <a:pt x="20257" y="7461"/>
                  <a:pt x="20389" y="7417"/>
                </a:cubicBezTo>
                <a:cubicBezTo>
                  <a:pt x="20483" y="7697"/>
                  <a:pt x="20485" y="7987"/>
                  <a:pt x="20489" y="8285"/>
                </a:cubicBezTo>
                <a:cubicBezTo>
                  <a:pt x="20489" y="8409"/>
                  <a:pt x="20489" y="8434"/>
                  <a:pt x="20489" y="8508"/>
                </a:cubicBezTo>
              </a:path>
              <a:path w="621" h="1117">
                <a:moveTo>
                  <a:pt x="20092" y="8186"/>
                </a:moveTo>
                <a:cubicBezTo>
                  <a:pt x="20207" y="8159"/>
                  <a:pt x="20323" y="8128"/>
                  <a:pt x="20439" y="811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9240" y="2847960"/>
            <a:ext cx="8892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21109" y="7938"/>
                </a:moveTo>
                <a:cubicBezTo>
                  <a:pt x="21203" y="7938"/>
                  <a:pt x="21267" y="7929"/>
                  <a:pt x="21357" y="791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93000" y="2714760"/>
            <a:ext cx="19080" cy="268200"/>
          </a:xfrm>
          <a:custGeom>
            <a:avLst/>
            <a:gdLst/>
            <a:ahLst/>
            <a:rect l="l" t="t" r="r" b="b"/>
            <a:pathLst>
              <a:path w="51" h="745">
                <a:moveTo>
                  <a:pt x="21927" y="7541"/>
                </a:moveTo>
                <a:cubicBezTo>
                  <a:pt x="21964" y="7773"/>
                  <a:pt x="21970" y="8021"/>
                  <a:pt x="21977" y="8260"/>
                </a:cubicBezTo>
                <a:cubicBezTo>
                  <a:pt x="21977" y="8268"/>
                  <a:pt x="21977" y="8277"/>
                  <a:pt x="21977" y="828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32840" y="2786040"/>
            <a:ext cx="260280" cy="169920"/>
          </a:xfrm>
          <a:custGeom>
            <a:avLst/>
            <a:gdLst/>
            <a:ahLst/>
            <a:rect l="l" t="t" r="r" b="b"/>
            <a:pathLst>
              <a:path w="720" h="472">
                <a:moveTo>
                  <a:pt x="22944" y="7838"/>
                </a:moveTo>
                <a:cubicBezTo>
                  <a:pt x="22917" y="7898"/>
                  <a:pt x="22779" y="8311"/>
                  <a:pt x="22994" y="8161"/>
                </a:cubicBezTo>
                <a:cubicBezTo>
                  <a:pt x="23095" y="8035"/>
                  <a:pt x="23129" y="7991"/>
                  <a:pt x="23168" y="7888"/>
                </a:cubicBezTo>
                <a:cubicBezTo>
                  <a:pt x="23176" y="7880"/>
                  <a:pt x="23184" y="7871"/>
                  <a:pt x="23192" y="7863"/>
                </a:cubicBezTo>
                <a:cubicBezTo>
                  <a:pt x="23156" y="8012"/>
                  <a:pt x="23145" y="8219"/>
                  <a:pt x="23366" y="8210"/>
                </a:cubicBezTo>
                <a:cubicBezTo>
                  <a:pt x="23610" y="8200"/>
                  <a:pt x="23630" y="7958"/>
                  <a:pt x="23540" y="7789"/>
                </a:cubicBezTo>
                <a:cubicBezTo>
                  <a:pt x="23523" y="7772"/>
                  <a:pt x="23507" y="7756"/>
                  <a:pt x="23490" y="773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29680" y="3133800"/>
            <a:ext cx="268200" cy="135000"/>
          </a:xfrm>
          <a:custGeom>
            <a:avLst/>
            <a:gdLst/>
            <a:ahLst/>
            <a:rect l="l" t="t" r="r" b="b"/>
            <a:pathLst>
              <a:path w="745" h="374">
                <a:moveTo>
                  <a:pt x="20638" y="8756"/>
                </a:moveTo>
                <a:cubicBezTo>
                  <a:pt x="20667" y="8855"/>
                  <a:pt x="20662" y="8947"/>
                  <a:pt x="20662" y="9054"/>
                </a:cubicBezTo>
                <a:cubicBezTo>
                  <a:pt x="20662" y="9062"/>
                  <a:pt x="20662" y="9071"/>
                  <a:pt x="20662" y="9079"/>
                </a:cubicBezTo>
                <a:cubicBezTo>
                  <a:pt x="20807" y="9079"/>
                  <a:pt x="20942" y="9070"/>
                  <a:pt x="21084" y="9054"/>
                </a:cubicBezTo>
                <a:cubicBezTo>
                  <a:pt x="21154" y="9046"/>
                  <a:pt x="21205" y="9067"/>
                  <a:pt x="21258" y="9079"/>
                </a:cubicBezTo>
                <a:cubicBezTo>
                  <a:pt x="21289" y="9086"/>
                  <a:pt x="21350" y="9079"/>
                  <a:pt x="21382" y="9079"/>
                </a:cubicBezTo>
                <a:cubicBezTo>
                  <a:pt x="21373" y="9009"/>
                  <a:pt x="21357" y="8954"/>
                  <a:pt x="21357" y="8880"/>
                </a:cubicBezTo>
                <a:cubicBezTo>
                  <a:pt x="21357" y="8840"/>
                  <a:pt x="21377" y="8723"/>
                  <a:pt x="21332" y="8706"/>
                </a:cubicBezTo>
                <a:cubicBezTo>
                  <a:pt x="21286" y="8688"/>
                  <a:pt x="21198" y="8717"/>
                  <a:pt x="21158" y="8731"/>
                </a:cubicBezTo>
                <a:cubicBezTo>
                  <a:pt x="21082" y="8758"/>
                  <a:pt x="21011" y="8736"/>
                  <a:pt x="20935" y="8756"/>
                </a:cubicBezTo>
                <a:cubicBezTo>
                  <a:pt x="20876" y="8772"/>
                  <a:pt x="20851" y="8781"/>
                  <a:pt x="20786" y="8781"/>
                </a:cubicBezTo>
                <a:cubicBezTo>
                  <a:pt x="20737" y="8781"/>
                  <a:pt x="20687" y="8781"/>
                  <a:pt x="20638" y="878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9120" y="4303800"/>
            <a:ext cx="874800" cy="625320"/>
          </a:xfrm>
          <a:custGeom>
            <a:avLst/>
            <a:gdLst/>
            <a:ahLst/>
            <a:rect l="l" t="t" r="r" b="b"/>
            <a:pathLst>
              <a:path w="2431" h="1737">
                <a:moveTo>
                  <a:pt x="17338" y="13618"/>
                </a:moveTo>
                <a:cubicBezTo>
                  <a:pt x="17593" y="13676"/>
                  <a:pt x="17794" y="13710"/>
                  <a:pt x="18058" y="13667"/>
                </a:cubicBezTo>
                <a:cubicBezTo>
                  <a:pt x="18362" y="13618"/>
                  <a:pt x="18709" y="13525"/>
                  <a:pt x="18976" y="13370"/>
                </a:cubicBezTo>
                <a:cubicBezTo>
                  <a:pt x="19196" y="13242"/>
                  <a:pt x="19367" y="13011"/>
                  <a:pt x="19372" y="12750"/>
                </a:cubicBezTo>
                <a:cubicBezTo>
                  <a:pt x="19376" y="12540"/>
                  <a:pt x="19298" y="12346"/>
                  <a:pt x="19149" y="12204"/>
                </a:cubicBezTo>
                <a:cubicBezTo>
                  <a:pt x="18931" y="11996"/>
                  <a:pt x="18625" y="11952"/>
                  <a:pt x="18331" y="11956"/>
                </a:cubicBezTo>
                <a:cubicBezTo>
                  <a:pt x="18045" y="11960"/>
                  <a:pt x="17771" y="12038"/>
                  <a:pt x="17512" y="12154"/>
                </a:cubicBezTo>
                <a:cubicBezTo>
                  <a:pt x="17270" y="12262"/>
                  <a:pt x="17079" y="12387"/>
                  <a:pt x="16991" y="12650"/>
                </a:cubicBezTo>
                <a:cubicBezTo>
                  <a:pt x="16932" y="12826"/>
                  <a:pt x="16922" y="13054"/>
                  <a:pt x="17016" y="13221"/>
                </a:cubicBezTo>
                <a:cubicBezTo>
                  <a:pt x="17099" y="13369"/>
                  <a:pt x="17281" y="13552"/>
                  <a:pt x="17438" y="13618"/>
                </a:cubicBezTo>
                <a:cubicBezTo>
                  <a:pt x="17532" y="13657"/>
                  <a:pt x="17568" y="13628"/>
                  <a:pt x="17661" y="1361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96040" y="4554360"/>
            <a:ext cx="150840" cy="241560"/>
          </a:xfrm>
          <a:custGeom>
            <a:avLst/>
            <a:gdLst/>
            <a:ahLst/>
            <a:rect l="l" t="t" r="r" b="b"/>
            <a:pathLst>
              <a:path w="423" h="671">
                <a:moveTo>
                  <a:pt x="17562" y="12874"/>
                </a:moveTo>
                <a:cubicBezTo>
                  <a:pt x="17562" y="12819"/>
                  <a:pt x="17556" y="12713"/>
                  <a:pt x="17611" y="12675"/>
                </a:cubicBezTo>
                <a:cubicBezTo>
                  <a:pt x="17699" y="12615"/>
                  <a:pt x="17770" y="12668"/>
                  <a:pt x="17835" y="12725"/>
                </a:cubicBezTo>
                <a:cubicBezTo>
                  <a:pt x="17886" y="12769"/>
                  <a:pt x="17858" y="12846"/>
                  <a:pt x="17835" y="12898"/>
                </a:cubicBezTo>
                <a:cubicBezTo>
                  <a:pt x="17808" y="12960"/>
                  <a:pt x="17743" y="12988"/>
                  <a:pt x="17686" y="13022"/>
                </a:cubicBezTo>
                <a:cubicBezTo>
                  <a:pt x="17592" y="13078"/>
                  <a:pt x="17547" y="13158"/>
                  <a:pt x="17512" y="13246"/>
                </a:cubicBezTo>
                <a:cubicBezTo>
                  <a:pt x="17492" y="13286"/>
                  <a:pt x="17483" y="13292"/>
                  <a:pt x="17487" y="13320"/>
                </a:cubicBezTo>
                <a:cubicBezTo>
                  <a:pt x="17533" y="13279"/>
                  <a:pt x="17639" y="13167"/>
                  <a:pt x="17711" y="13171"/>
                </a:cubicBezTo>
                <a:cubicBezTo>
                  <a:pt x="17771" y="13174"/>
                  <a:pt x="17829" y="13276"/>
                  <a:pt x="17884" y="13271"/>
                </a:cubicBezTo>
                <a:cubicBezTo>
                  <a:pt x="17892" y="13263"/>
                  <a:pt x="17901" y="13254"/>
                  <a:pt x="17909" y="1324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0240" y="4653000"/>
            <a:ext cx="204840" cy="125280"/>
          </a:xfrm>
          <a:custGeom>
            <a:avLst/>
            <a:gdLst/>
            <a:ahLst/>
            <a:rect l="l" t="t" r="r" b="b"/>
            <a:pathLst>
              <a:path w="571" h="349">
                <a:moveTo>
                  <a:pt x="18107" y="12973"/>
                </a:moveTo>
                <a:cubicBezTo>
                  <a:pt x="18097" y="13075"/>
                  <a:pt x="18093" y="13144"/>
                  <a:pt x="18107" y="13246"/>
                </a:cubicBezTo>
                <a:cubicBezTo>
                  <a:pt x="18107" y="13186"/>
                  <a:pt x="18086" y="13043"/>
                  <a:pt x="18132" y="12998"/>
                </a:cubicBezTo>
                <a:cubicBezTo>
                  <a:pt x="18217" y="12914"/>
                  <a:pt x="18289" y="12942"/>
                  <a:pt x="18331" y="13047"/>
                </a:cubicBezTo>
                <a:cubicBezTo>
                  <a:pt x="18387" y="13188"/>
                  <a:pt x="18320" y="13222"/>
                  <a:pt x="18355" y="13097"/>
                </a:cubicBezTo>
                <a:cubicBezTo>
                  <a:pt x="18375" y="13024"/>
                  <a:pt x="18446" y="12912"/>
                  <a:pt x="18529" y="12923"/>
                </a:cubicBezTo>
                <a:cubicBezTo>
                  <a:pt x="18648" y="12939"/>
                  <a:pt x="18649" y="13075"/>
                  <a:pt x="18653" y="13171"/>
                </a:cubicBezTo>
                <a:cubicBezTo>
                  <a:pt x="18653" y="13221"/>
                  <a:pt x="18653" y="13238"/>
                  <a:pt x="18653" y="1327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5840" y="5545080"/>
            <a:ext cx="2009520" cy="455760"/>
          </a:xfrm>
          <a:custGeom>
            <a:avLst/>
            <a:gdLst/>
            <a:ahLst/>
            <a:rect l="l" t="t" r="r" b="b"/>
            <a:pathLst>
              <a:path w="5582" h="1266">
                <a:moveTo>
                  <a:pt x="9451" y="16669"/>
                </a:moveTo>
                <a:lnTo>
                  <a:pt x="9451" y="16669"/>
                </a:lnTo>
              </a:path>
              <a:path w="5582" h="1266">
                <a:moveTo>
                  <a:pt x="7293" y="15776"/>
                </a:moveTo>
                <a:lnTo>
                  <a:pt x="7293" y="15776"/>
                </a:lnTo>
              </a:path>
              <a:path w="5582" h="1266">
                <a:moveTo>
                  <a:pt x="8260" y="15925"/>
                </a:moveTo>
                <a:cubicBezTo>
                  <a:pt x="8483" y="15900"/>
                  <a:pt x="8556" y="15892"/>
                  <a:pt x="8706" y="15900"/>
                </a:cubicBezTo>
              </a:path>
              <a:path w="5582" h="1266">
                <a:moveTo>
                  <a:pt x="9971" y="15776"/>
                </a:moveTo>
                <a:cubicBezTo>
                  <a:pt x="9825" y="15658"/>
                  <a:pt x="9693" y="15657"/>
                  <a:pt x="9599" y="15875"/>
                </a:cubicBezTo>
                <a:cubicBezTo>
                  <a:pt x="9488" y="16131"/>
                  <a:pt x="9658" y="16103"/>
                  <a:pt x="9823" y="16123"/>
                </a:cubicBezTo>
              </a:path>
              <a:path w="5582" h="1266">
                <a:moveTo>
                  <a:pt x="10220" y="15726"/>
                </a:moveTo>
                <a:cubicBezTo>
                  <a:pt x="10099" y="15867"/>
                  <a:pt x="10046" y="15896"/>
                  <a:pt x="10046" y="16073"/>
                </a:cubicBezTo>
                <a:cubicBezTo>
                  <a:pt x="10148" y="16059"/>
                  <a:pt x="10567" y="15965"/>
                  <a:pt x="10418" y="15751"/>
                </a:cubicBezTo>
                <a:cubicBezTo>
                  <a:pt x="10377" y="15734"/>
                  <a:pt x="10335" y="15718"/>
                  <a:pt x="10294" y="15701"/>
                </a:cubicBezTo>
              </a:path>
              <a:path w="5582" h="1266">
                <a:moveTo>
                  <a:pt x="12179" y="15478"/>
                </a:moveTo>
                <a:cubicBezTo>
                  <a:pt x="12411" y="15457"/>
                  <a:pt x="12643" y="15432"/>
                  <a:pt x="12874" y="1540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82800" y="5518080"/>
            <a:ext cx="714240" cy="357120"/>
          </a:xfrm>
          <a:custGeom>
            <a:avLst/>
            <a:gdLst/>
            <a:ahLst/>
            <a:rect l="l" t="t" r="r" b="b"/>
            <a:pathLst>
              <a:path w="1985" h="993">
                <a:moveTo>
                  <a:pt x="2853" y="15329"/>
                </a:moveTo>
                <a:cubicBezTo>
                  <a:pt x="2853" y="15598"/>
                  <a:pt x="2859" y="15881"/>
                  <a:pt x="2828" y="16148"/>
                </a:cubicBezTo>
                <a:cubicBezTo>
                  <a:pt x="2820" y="16173"/>
                  <a:pt x="2811" y="16197"/>
                  <a:pt x="2803" y="16222"/>
                </a:cubicBezTo>
                <a:cubicBezTo>
                  <a:pt x="2795" y="16013"/>
                  <a:pt x="2810" y="15746"/>
                  <a:pt x="3076" y="15677"/>
                </a:cubicBezTo>
                <a:cubicBezTo>
                  <a:pt x="3117" y="15685"/>
                  <a:pt x="3159" y="15693"/>
                  <a:pt x="3200" y="15701"/>
                </a:cubicBezTo>
                <a:cubicBezTo>
                  <a:pt x="3347" y="15936"/>
                  <a:pt x="3382" y="16135"/>
                  <a:pt x="3026" y="16222"/>
                </a:cubicBezTo>
                <a:cubicBezTo>
                  <a:pt x="2866" y="16222"/>
                  <a:pt x="2821" y="16227"/>
                  <a:pt x="2729" y="16173"/>
                </a:cubicBezTo>
              </a:path>
              <a:path w="1985" h="993">
                <a:moveTo>
                  <a:pt x="3770" y="15999"/>
                </a:moveTo>
                <a:cubicBezTo>
                  <a:pt x="3770" y="15903"/>
                  <a:pt x="3772" y="15873"/>
                  <a:pt x="3721" y="15825"/>
                </a:cubicBezTo>
                <a:cubicBezTo>
                  <a:pt x="3569" y="15882"/>
                  <a:pt x="3384" y="15989"/>
                  <a:pt x="3423" y="16197"/>
                </a:cubicBezTo>
                <a:cubicBezTo>
                  <a:pt x="3492" y="16567"/>
                  <a:pt x="3738" y="16075"/>
                  <a:pt x="3770" y="15999"/>
                </a:cubicBezTo>
                <a:cubicBezTo>
                  <a:pt x="3732" y="15807"/>
                  <a:pt x="3782" y="16192"/>
                  <a:pt x="3795" y="16247"/>
                </a:cubicBezTo>
              </a:path>
              <a:path w="1985" h="993">
                <a:moveTo>
                  <a:pt x="4242" y="15801"/>
                </a:moveTo>
                <a:cubicBezTo>
                  <a:pt x="4108" y="15890"/>
                  <a:pt x="4073" y="15912"/>
                  <a:pt x="3994" y="15974"/>
                </a:cubicBezTo>
                <a:cubicBezTo>
                  <a:pt x="4135" y="16026"/>
                  <a:pt x="4247" y="16066"/>
                  <a:pt x="4366" y="16148"/>
                </a:cubicBezTo>
                <a:cubicBezTo>
                  <a:pt x="4232" y="16244"/>
                  <a:pt x="4189" y="16234"/>
                  <a:pt x="4018" y="16247"/>
                </a:cubicBezTo>
              </a:path>
              <a:path w="1985" h="993">
                <a:moveTo>
                  <a:pt x="4465" y="15925"/>
                </a:moveTo>
                <a:cubicBezTo>
                  <a:pt x="4504" y="15942"/>
                  <a:pt x="4676" y="16036"/>
                  <a:pt x="4713" y="15999"/>
                </a:cubicBezTo>
                <a:cubicBezTo>
                  <a:pt x="4713" y="15982"/>
                  <a:pt x="4713" y="15966"/>
                  <a:pt x="4713" y="15949"/>
                </a:cubicBezTo>
                <a:cubicBezTo>
                  <a:pt x="4612" y="15849"/>
                  <a:pt x="4457" y="15800"/>
                  <a:pt x="4390" y="15999"/>
                </a:cubicBezTo>
                <a:cubicBezTo>
                  <a:pt x="4324" y="16197"/>
                  <a:pt x="4492" y="16206"/>
                  <a:pt x="4614" y="1624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1240" y="5537160"/>
            <a:ext cx="1241640" cy="463680"/>
          </a:xfrm>
          <a:custGeom>
            <a:avLst/>
            <a:gdLst/>
            <a:ahLst/>
            <a:rect l="l" t="t" r="r" b="b"/>
            <a:pathLst>
              <a:path w="3449" h="1291">
                <a:moveTo>
                  <a:pt x="5655" y="15801"/>
                </a:moveTo>
                <a:cubicBezTo>
                  <a:pt x="5670" y="15903"/>
                  <a:pt x="5693" y="15994"/>
                  <a:pt x="5705" y="16098"/>
                </a:cubicBezTo>
                <a:cubicBezTo>
                  <a:pt x="5548" y="15971"/>
                  <a:pt x="5501" y="15881"/>
                  <a:pt x="5308" y="15949"/>
                </a:cubicBezTo>
                <a:cubicBezTo>
                  <a:pt x="5364" y="16062"/>
                  <a:pt x="5643" y="15966"/>
                  <a:pt x="5779" y="15949"/>
                </a:cubicBezTo>
              </a:path>
              <a:path w="3449" h="1291">
                <a:moveTo>
                  <a:pt x="6127" y="15379"/>
                </a:moveTo>
                <a:cubicBezTo>
                  <a:pt x="6151" y="15614"/>
                  <a:pt x="6231" y="15833"/>
                  <a:pt x="6251" y="16073"/>
                </a:cubicBezTo>
                <a:cubicBezTo>
                  <a:pt x="6251" y="16181"/>
                  <a:pt x="6251" y="16189"/>
                  <a:pt x="6251" y="16247"/>
                </a:cubicBezTo>
                <a:cubicBezTo>
                  <a:pt x="6232" y="16131"/>
                  <a:pt x="6200" y="15982"/>
                  <a:pt x="6325" y="15900"/>
                </a:cubicBezTo>
                <a:cubicBezTo>
                  <a:pt x="6519" y="15772"/>
                  <a:pt x="6676" y="16046"/>
                  <a:pt x="6672" y="16197"/>
                </a:cubicBezTo>
                <a:cubicBezTo>
                  <a:pt x="6664" y="16222"/>
                  <a:pt x="6656" y="16247"/>
                  <a:pt x="6648" y="16272"/>
                </a:cubicBezTo>
              </a:path>
              <a:path w="3449" h="1291">
                <a:moveTo>
                  <a:pt x="6846" y="15974"/>
                </a:moveTo>
                <a:cubicBezTo>
                  <a:pt x="6920" y="15993"/>
                  <a:pt x="6994" y="16013"/>
                  <a:pt x="7069" y="16024"/>
                </a:cubicBezTo>
                <a:cubicBezTo>
                  <a:pt x="6973" y="15879"/>
                  <a:pt x="6987" y="15875"/>
                  <a:pt x="6821" y="15875"/>
                </a:cubicBezTo>
                <a:cubicBezTo>
                  <a:pt x="6768" y="16006"/>
                  <a:pt x="6661" y="16218"/>
                  <a:pt x="6871" y="16272"/>
                </a:cubicBezTo>
                <a:cubicBezTo>
                  <a:pt x="7012" y="16272"/>
                  <a:pt x="7055" y="16273"/>
                  <a:pt x="7144" y="16247"/>
                </a:cubicBezTo>
              </a:path>
              <a:path w="3449" h="1291">
                <a:moveTo>
                  <a:pt x="7342" y="15974"/>
                </a:moveTo>
                <a:cubicBezTo>
                  <a:pt x="7320" y="16076"/>
                  <a:pt x="7317" y="16166"/>
                  <a:pt x="7317" y="16272"/>
                </a:cubicBezTo>
              </a:path>
              <a:path w="3449" h="1291">
                <a:moveTo>
                  <a:pt x="7863" y="16024"/>
                </a:moveTo>
                <a:cubicBezTo>
                  <a:pt x="7686" y="15971"/>
                  <a:pt x="7473" y="16020"/>
                  <a:pt x="7466" y="16272"/>
                </a:cubicBezTo>
                <a:cubicBezTo>
                  <a:pt x="7483" y="16297"/>
                  <a:pt x="7499" y="16321"/>
                  <a:pt x="7516" y="16346"/>
                </a:cubicBezTo>
                <a:cubicBezTo>
                  <a:pt x="7692" y="16258"/>
                  <a:pt x="7722" y="16205"/>
                  <a:pt x="7739" y="15999"/>
                </a:cubicBezTo>
                <a:cubicBezTo>
                  <a:pt x="7760" y="16186"/>
                  <a:pt x="7807" y="16351"/>
                  <a:pt x="7813" y="16545"/>
                </a:cubicBezTo>
                <a:cubicBezTo>
                  <a:pt x="7813" y="16586"/>
                  <a:pt x="7813" y="16628"/>
                  <a:pt x="7813" y="16669"/>
                </a:cubicBezTo>
              </a:path>
              <a:path w="3449" h="1291">
                <a:moveTo>
                  <a:pt x="7962" y="15677"/>
                </a:moveTo>
                <a:cubicBezTo>
                  <a:pt x="7974" y="15885"/>
                  <a:pt x="7987" y="16088"/>
                  <a:pt x="7987" y="16297"/>
                </a:cubicBezTo>
                <a:cubicBezTo>
                  <a:pt x="8008" y="16095"/>
                  <a:pt x="8014" y="15986"/>
                  <a:pt x="8210" y="15925"/>
                </a:cubicBezTo>
                <a:cubicBezTo>
                  <a:pt x="8285" y="16017"/>
                  <a:pt x="8222" y="16205"/>
                  <a:pt x="8334" y="16247"/>
                </a:cubicBezTo>
                <a:cubicBezTo>
                  <a:pt x="8359" y="16239"/>
                  <a:pt x="8384" y="16230"/>
                  <a:pt x="8409" y="16222"/>
                </a:cubicBezTo>
              </a:path>
              <a:path w="3449" h="1291">
                <a:moveTo>
                  <a:pt x="8533" y="15528"/>
                </a:moveTo>
                <a:cubicBezTo>
                  <a:pt x="8555" y="15698"/>
                  <a:pt x="8558" y="15870"/>
                  <a:pt x="8558" y="16049"/>
                </a:cubicBezTo>
                <a:cubicBezTo>
                  <a:pt x="8558" y="16233"/>
                  <a:pt x="8580" y="16292"/>
                  <a:pt x="8756" y="1632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30760" y="5464080"/>
            <a:ext cx="696960" cy="322200"/>
          </a:xfrm>
          <a:custGeom>
            <a:avLst/>
            <a:gdLst/>
            <a:ahLst/>
            <a:rect l="l" t="t" r="r" b="b"/>
            <a:pathLst>
              <a:path w="1936" h="894">
                <a:moveTo>
                  <a:pt x="10641" y="15801"/>
                </a:moveTo>
                <a:cubicBezTo>
                  <a:pt x="10661" y="15942"/>
                  <a:pt x="10680" y="15970"/>
                  <a:pt x="10641" y="16049"/>
                </a:cubicBezTo>
                <a:cubicBezTo>
                  <a:pt x="10641" y="15877"/>
                  <a:pt x="10660" y="15810"/>
                  <a:pt x="10765" y="15677"/>
                </a:cubicBezTo>
                <a:cubicBezTo>
                  <a:pt x="10916" y="15760"/>
                  <a:pt x="10903" y="15895"/>
                  <a:pt x="10914" y="16073"/>
                </a:cubicBezTo>
              </a:path>
              <a:path w="1936" h="894">
                <a:moveTo>
                  <a:pt x="11112" y="15701"/>
                </a:moveTo>
                <a:cubicBezTo>
                  <a:pt x="11088" y="15849"/>
                  <a:pt x="11080" y="15898"/>
                  <a:pt x="11088" y="15999"/>
                </a:cubicBezTo>
                <a:cubicBezTo>
                  <a:pt x="11102" y="15936"/>
                  <a:pt x="11144" y="15535"/>
                  <a:pt x="11286" y="15627"/>
                </a:cubicBezTo>
                <a:cubicBezTo>
                  <a:pt x="11439" y="15727"/>
                  <a:pt x="11391" y="15929"/>
                  <a:pt x="11385" y="16073"/>
                </a:cubicBezTo>
              </a:path>
              <a:path w="1936" h="894">
                <a:moveTo>
                  <a:pt x="11485" y="15776"/>
                </a:moveTo>
                <a:cubicBezTo>
                  <a:pt x="11567" y="15776"/>
                  <a:pt x="11629" y="15769"/>
                  <a:pt x="11708" y="15751"/>
                </a:cubicBezTo>
                <a:cubicBezTo>
                  <a:pt x="11579" y="15608"/>
                  <a:pt x="11443" y="15682"/>
                  <a:pt x="11460" y="15900"/>
                </a:cubicBezTo>
                <a:cubicBezTo>
                  <a:pt x="11516" y="15984"/>
                  <a:pt x="11545" y="16012"/>
                  <a:pt x="11633" y="15999"/>
                </a:cubicBezTo>
              </a:path>
              <a:path w="1936" h="894">
                <a:moveTo>
                  <a:pt x="12229" y="15627"/>
                </a:moveTo>
                <a:cubicBezTo>
                  <a:pt x="12059" y="15536"/>
                  <a:pt x="11908" y="15549"/>
                  <a:pt x="11832" y="15776"/>
                </a:cubicBezTo>
                <a:cubicBezTo>
                  <a:pt x="11832" y="15826"/>
                  <a:pt x="11832" y="15875"/>
                  <a:pt x="11832" y="15925"/>
                </a:cubicBezTo>
                <a:cubicBezTo>
                  <a:pt x="12195" y="15955"/>
                  <a:pt x="12464" y="15898"/>
                  <a:pt x="12576" y="15478"/>
                </a:cubicBezTo>
                <a:cubicBezTo>
                  <a:pt x="12576" y="15312"/>
                  <a:pt x="12584" y="15276"/>
                  <a:pt x="12551" y="15180"/>
                </a:cubicBezTo>
                <a:cubicBezTo>
                  <a:pt x="12551" y="15395"/>
                  <a:pt x="12551" y="15610"/>
                  <a:pt x="12551" y="1582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05680" y="5456160"/>
            <a:ext cx="331560" cy="339840"/>
          </a:xfrm>
          <a:custGeom>
            <a:avLst/>
            <a:gdLst/>
            <a:ahLst/>
            <a:rect l="l" t="t" r="r" b="b"/>
            <a:pathLst>
              <a:path w="919" h="943">
                <a:moveTo>
                  <a:pt x="17338" y="15329"/>
                </a:moveTo>
                <a:cubicBezTo>
                  <a:pt x="17414" y="15283"/>
                  <a:pt x="17500" y="15328"/>
                  <a:pt x="17587" y="15354"/>
                </a:cubicBezTo>
                <a:cubicBezTo>
                  <a:pt x="17678" y="15382"/>
                  <a:pt x="17771" y="15379"/>
                  <a:pt x="17859" y="15404"/>
                </a:cubicBezTo>
                <a:cubicBezTo>
                  <a:pt x="17932" y="15425"/>
                  <a:pt x="18008" y="15443"/>
                  <a:pt x="18083" y="15453"/>
                </a:cubicBezTo>
                <a:cubicBezTo>
                  <a:pt x="18168" y="15465"/>
                  <a:pt x="18179" y="15472"/>
                  <a:pt x="18157" y="15577"/>
                </a:cubicBezTo>
                <a:cubicBezTo>
                  <a:pt x="18134" y="15687"/>
                  <a:pt x="18094" y="15786"/>
                  <a:pt x="18083" y="15900"/>
                </a:cubicBezTo>
                <a:cubicBezTo>
                  <a:pt x="18076" y="15975"/>
                  <a:pt x="18077" y="16028"/>
                  <a:pt x="18058" y="16098"/>
                </a:cubicBezTo>
                <a:cubicBezTo>
                  <a:pt x="18058" y="15959"/>
                  <a:pt x="18144" y="15363"/>
                  <a:pt x="17983" y="15329"/>
                </a:cubicBezTo>
                <a:cubicBezTo>
                  <a:pt x="17780" y="15286"/>
                  <a:pt x="17541" y="15335"/>
                  <a:pt x="17338" y="15304"/>
                </a:cubicBezTo>
                <a:cubicBezTo>
                  <a:pt x="17294" y="15304"/>
                  <a:pt x="17280" y="15301"/>
                  <a:pt x="17264" y="15329"/>
                </a:cubicBezTo>
                <a:cubicBezTo>
                  <a:pt x="17423" y="15271"/>
                  <a:pt x="17593" y="15260"/>
                  <a:pt x="17760" y="15230"/>
                </a:cubicBezTo>
                <a:cubicBezTo>
                  <a:pt x="17856" y="15213"/>
                  <a:pt x="17937" y="15184"/>
                  <a:pt x="18033" y="15180"/>
                </a:cubicBezTo>
                <a:cubicBezTo>
                  <a:pt x="18138" y="15175"/>
                  <a:pt x="18093" y="15334"/>
                  <a:pt x="18083" y="15404"/>
                </a:cubicBezTo>
                <a:cubicBezTo>
                  <a:pt x="18064" y="15534"/>
                  <a:pt x="18060" y="15674"/>
                  <a:pt x="18033" y="15801"/>
                </a:cubicBezTo>
                <a:cubicBezTo>
                  <a:pt x="18025" y="15826"/>
                  <a:pt x="18016" y="15850"/>
                  <a:pt x="18008" y="15875"/>
                </a:cubicBezTo>
                <a:cubicBezTo>
                  <a:pt x="18008" y="15925"/>
                  <a:pt x="18008" y="15941"/>
                  <a:pt x="18008" y="15974"/>
                </a:cubicBezTo>
                <a:cubicBezTo>
                  <a:pt x="17953" y="16029"/>
                  <a:pt x="18030" y="15784"/>
                  <a:pt x="18033" y="15726"/>
                </a:cubicBezTo>
                <a:cubicBezTo>
                  <a:pt x="18042" y="15576"/>
                  <a:pt x="18075" y="15427"/>
                  <a:pt x="18083" y="15280"/>
                </a:cubicBezTo>
                <a:cubicBezTo>
                  <a:pt x="18089" y="15172"/>
                  <a:pt x="18033" y="15183"/>
                  <a:pt x="17934" y="15180"/>
                </a:cubicBezTo>
                <a:cubicBezTo>
                  <a:pt x="17802" y="15176"/>
                  <a:pt x="17669" y="15180"/>
                  <a:pt x="17537" y="15180"/>
                </a:cubicBezTo>
                <a:cubicBezTo>
                  <a:pt x="17229" y="15090"/>
                  <a:pt x="17755" y="15178"/>
                  <a:pt x="17835" y="15180"/>
                </a:cubicBezTo>
                <a:cubicBezTo>
                  <a:pt x="17936" y="15182"/>
                  <a:pt x="18011" y="15172"/>
                  <a:pt x="18033" y="15280"/>
                </a:cubicBezTo>
                <a:cubicBezTo>
                  <a:pt x="18063" y="15432"/>
                  <a:pt x="18019" y="15601"/>
                  <a:pt x="18008" y="15751"/>
                </a:cubicBezTo>
                <a:cubicBezTo>
                  <a:pt x="18000" y="15850"/>
                  <a:pt x="17970" y="15929"/>
                  <a:pt x="17959" y="16024"/>
                </a:cubicBezTo>
                <a:cubicBezTo>
                  <a:pt x="17959" y="15808"/>
                  <a:pt x="18055" y="15440"/>
                  <a:pt x="17859" y="15329"/>
                </a:cubicBezTo>
                <a:cubicBezTo>
                  <a:pt x="17710" y="15245"/>
                  <a:pt x="17482" y="15224"/>
                  <a:pt x="17314" y="15205"/>
                </a:cubicBezTo>
                <a:cubicBezTo>
                  <a:pt x="17126" y="15184"/>
                  <a:pt x="17578" y="15208"/>
                  <a:pt x="17636" y="15205"/>
                </a:cubicBezTo>
                <a:cubicBezTo>
                  <a:pt x="17752" y="15205"/>
                  <a:pt x="17769" y="15205"/>
                  <a:pt x="17835" y="1520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19160" y="5938920"/>
            <a:ext cx="1090800" cy="241200"/>
          </a:xfrm>
          <a:custGeom>
            <a:avLst/>
            <a:gdLst/>
            <a:ahLst/>
            <a:rect l="l" t="t" r="r" b="b"/>
            <a:pathLst>
              <a:path w="3027" h="671">
                <a:moveTo>
                  <a:pt x="5333" y="16495"/>
                </a:moveTo>
                <a:cubicBezTo>
                  <a:pt x="5373" y="16699"/>
                  <a:pt x="5400" y="16882"/>
                  <a:pt x="5407" y="17090"/>
                </a:cubicBezTo>
              </a:path>
              <a:path w="3027" h="671">
                <a:moveTo>
                  <a:pt x="8334" y="17041"/>
                </a:moveTo>
                <a:cubicBezTo>
                  <a:pt x="8342" y="17082"/>
                  <a:pt x="8351" y="17124"/>
                  <a:pt x="8359" y="17165"/>
                </a:cubicBezTo>
              </a:path>
              <a:path w="3027" h="671">
                <a:moveTo>
                  <a:pt x="8310" y="16619"/>
                </a:moveTo>
                <a:lnTo>
                  <a:pt x="8310" y="16619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0040" y="6010200"/>
            <a:ext cx="366840" cy="169920"/>
          </a:xfrm>
          <a:custGeom>
            <a:avLst/>
            <a:gdLst/>
            <a:ahLst/>
            <a:rect l="l" t="t" r="r" b="b"/>
            <a:pathLst>
              <a:path w="1018" h="472">
                <a:moveTo>
                  <a:pt x="4986" y="16842"/>
                </a:moveTo>
                <a:cubicBezTo>
                  <a:pt x="4843" y="16676"/>
                  <a:pt x="4715" y="16660"/>
                  <a:pt x="4638" y="16942"/>
                </a:cubicBezTo>
                <a:cubicBezTo>
                  <a:pt x="4638" y="17000"/>
                  <a:pt x="4638" y="17057"/>
                  <a:pt x="4638" y="17115"/>
                </a:cubicBezTo>
                <a:cubicBezTo>
                  <a:pt x="4655" y="17132"/>
                  <a:pt x="4671" y="17148"/>
                  <a:pt x="4688" y="17165"/>
                </a:cubicBezTo>
                <a:cubicBezTo>
                  <a:pt x="4879" y="17035"/>
                  <a:pt x="4896" y="17015"/>
                  <a:pt x="4961" y="16793"/>
                </a:cubicBezTo>
                <a:cubicBezTo>
                  <a:pt x="4869" y="16792"/>
                  <a:pt x="4965" y="17028"/>
                  <a:pt x="5110" y="17090"/>
                </a:cubicBezTo>
                <a:cubicBezTo>
                  <a:pt x="5135" y="17090"/>
                  <a:pt x="5159" y="17090"/>
                  <a:pt x="5184" y="17090"/>
                </a:cubicBezTo>
              </a:path>
              <a:path w="1018" h="472">
                <a:moveTo>
                  <a:pt x="5110" y="16743"/>
                </a:moveTo>
                <a:cubicBezTo>
                  <a:pt x="5296" y="16743"/>
                  <a:pt x="5471" y="16747"/>
                  <a:pt x="5655" y="1676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03640" y="6054840"/>
            <a:ext cx="188640" cy="169920"/>
          </a:xfrm>
          <a:custGeom>
            <a:avLst/>
            <a:gdLst/>
            <a:ahLst/>
            <a:rect l="l" t="t" r="r" b="b"/>
            <a:pathLst>
              <a:path w="522" h="472">
                <a:moveTo>
                  <a:pt x="6796" y="16966"/>
                </a:moveTo>
                <a:cubicBezTo>
                  <a:pt x="6691" y="16821"/>
                  <a:pt x="6643" y="16757"/>
                  <a:pt x="6499" y="16942"/>
                </a:cubicBezTo>
                <a:cubicBezTo>
                  <a:pt x="6412" y="17093"/>
                  <a:pt x="6379" y="17126"/>
                  <a:pt x="6400" y="17239"/>
                </a:cubicBezTo>
                <a:cubicBezTo>
                  <a:pt x="6620" y="17266"/>
                  <a:pt x="6659" y="17171"/>
                  <a:pt x="6697" y="16942"/>
                </a:cubicBezTo>
                <a:cubicBezTo>
                  <a:pt x="6724" y="17126"/>
                  <a:pt x="6742" y="17166"/>
                  <a:pt x="6921" y="1719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3040" y="5911920"/>
            <a:ext cx="1704960" cy="438120"/>
          </a:xfrm>
          <a:custGeom>
            <a:avLst/>
            <a:gdLst/>
            <a:ahLst/>
            <a:rect l="l" t="t" r="r" b="b"/>
            <a:pathLst>
              <a:path w="4739" h="1216">
                <a:moveTo>
                  <a:pt x="7813" y="17041"/>
                </a:moveTo>
                <a:cubicBezTo>
                  <a:pt x="7813" y="17074"/>
                  <a:pt x="7813" y="17107"/>
                  <a:pt x="7813" y="17140"/>
                </a:cubicBezTo>
                <a:cubicBezTo>
                  <a:pt x="7872" y="17256"/>
                  <a:pt x="7780" y="16964"/>
                  <a:pt x="7913" y="16842"/>
                </a:cubicBezTo>
                <a:cubicBezTo>
                  <a:pt x="7994" y="16816"/>
                  <a:pt x="8025" y="16808"/>
                  <a:pt x="8086" y="16818"/>
                </a:cubicBezTo>
              </a:path>
              <a:path w="4739" h="1216">
                <a:moveTo>
                  <a:pt x="8930" y="16917"/>
                </a:moveTo>
                <a:cubicBezTo>
                  <a:pt x="8771" y="16780"/>
                  <a:pt x="8628" y="16995"/>
                  <a:pt x="8533" y="17140"/>
                </a:cubicBezTo>
                <a:cubicBezTo>
                  <a:pt x="8427" y="17303"/>
                  <a:pt x="8753" y="17184"/>
                  <a:pt x="8806" y="17041"/>
                </a:cubicBezTo>
                <a:cubicBezTo>
                  <a:pt x="8806" y="17008"/>
                  <a:pt x="8806" y="16975"/>
                  <a:pt x="8806" y="16942"/>
                </a:cubicBezTo>
                <a:cubicBezTo>
                  <a:pt x="8859" y="17148"/>
                  <a:pt x="8892" y="17349"/>
                  <a:pt x="8905" y="17562"/>
                </a:cubicBezTo>
              </a:path>
              <a:path w="4739" h="1216">
                <a:moveTo>
                  <a:pt x="9054" y="16520"/>
                </a:moveTo>
                <a:cubicBezTo>
                  <a:pt x="9062" y="16740"/>
                  <a:pt x="9068" y="16947"/>
                  <a:pt x="9054" y="17165"/>
                </a:cubicBezTo>
                <a:cubicBezTo>
                  <a:pt x="9085" y="17024"/>
                  <a:pt x="9086" y="16795"/>
                  <a:pt x="9277" y="16768"/>
                </a:cubicBezTo>
                <a:cubicBezTo>
                  <a:pt x="9481" y="16739"/>
                  <a:pt x="9469" y="17021"/>
                  <a:pt x="9475" y="17140"/>
                </a:cubicBezTo>
              </a:path>
              <a:path w="4739" h="1216">
                <a:moveTo>
                  <a:pt x="9674" y="16545"/>
                </a:moveTo>
                <a:cubicBezTo>
                  <a:pt x="9674" y="16713"/>
                  <a:pt x="9667" y="16875"/>
                  <a:pt x="9699" y="17041"/>
                </a:cubicBezTo>
                <a:cubicBezTo>
                  <a:pt x="9737" y="17237"/>
                  <a:pt x="9827" y="17146"/>
                  <a:pt x="9947" y="17090"/>
                </a:cubicBezTo>
              </a:path>
              <a:path w="4739" h="1216">
                <a:moveTo>
                  <a:pt x="9178" y="16768"/>
                </a:moveTo>
                <a:cubicBezTo>
                  <a:pt x="9403" y="16750"/>
                  <a:pt x="9621" y="16743"/>
                  <a:pt x="9847" y="16743"/>
                </a:cubicBezTo>
              </a:path>
              <a:path w="4739" h="1216">
                <a:moveTo>
                  <a:pt x="10616" y="16842"/>
                </a:moveTo>
                <a:cubicBezTo>
                  <a:pt x="10644" y="16628"/>
                  <a:pt x="10398" y="16812"/>
                  <a:pt x="10344" y="16917"/>
                </a:cubicBezTo>
                <a:cubicBezTo>
                  <a:pt x="10321" y="17057"/>
                  <a:pt x="10307" y="17099"/>
                  <a:pt x="10393" y="17165"/>
                </a:cubicBezTo>
                <a:cubicBezTo>
                  <a:pt x="10606" y="17119"/>
                  <a:pt x="10662" y="17108"/>
                  <a:pt x="10716" y="16867"/>
                </a:cubicBezTo>
                <a:cubicBezTo>
                  <a:pt x="10712" y="16938"/>
                  <a:pt x="10734" y="17278"/>
                  <a:pt x="10914" y="17115"/>
                </a:cubicBezTo>
                <a:cubicBezTo>
                  <a:pt x="11026" y="17013"/>
                  <a:pt x="11013" y="16849"/>
                  <a:pt x="11013" y="17115"/>
                </a:cubicBezTo>
                <a:cubicBezTo>
                  <a:pt x="11029" y="16885"/>
                  <a:pt x="11044" y="16814"/>
                  <a:pt x="11237" y="16718"/>
                </a:cubicBezTo>
                <a:cubicBezTo>
                  <a:pt x="11358" y="16874"/>
                  <a:pt x="11369" y="16916"/>
                  <a:pt x="11385" y="17115"/>
                </a:cubicBezTo>
              </a:path>
              <a:path w="4739" h="1216">
                <a:moveTo>
                  <a:pt x="11584" y="16793"/>
                </a:moveTo>
                <a:cubicBezTo>
                  <a:pt x="11546" y="16852"/>
                  <a:pt x="11282" y="17341"/>
                  <a:pt x="11609" y="17165"/>
                </a:cubicBezTo>
                <a:cubicBezTo>
                  <a:pt x="11718" y="17056"/>
                  <a:pt x="11754" y="17010"/>
                  <a:pt x="11757" y="16892"/>
                </a:cubicBezTo>
                <a:cubicBezTo>
                  <a:pt x="11757" y="16867"/>
                  <a:pt x="11757" y="16843"/>
                  <a:pt x="11757" y="16818"/>
                </a:cubicBezTo>
                <a:cubicBezTo>
                  <a:pt x="11737" y="17037"/>
                  <a:pt x="11833" y="17300"/>
                  <a:pt x="11757" y="17512"/>
                </a:cubicBezTo>
                <a:cubicBezTo>
                  <a:pt x="11670" y="17753"/>
                  <a:pt x="11417" y="17593"/>
                  <a:pt x="11286" y="17512"/>
                </a:cubicBezTo>
              </a:path>
              <a:path w="4739" h="1216">
                <a:moveTo>
                  <a:pt x="11981" y="16421"/>
                </a:moveTo>
                <a:cubicBezTo>
                  <a:pt x="11956" y="16660"/>
                  <a:pt x="11936" y="16878"/>
                  <a:pt x="11956" y="17115"/>
                </a:cubicBezTo>
              </a:path>
              <a:path w="4739" h="1216">
                <a:moveTo>
                  <a:pt x="12229" y="16818"/>
                </a:moveTo>
                <a:cubicBezTo>
                  <a:pt x="12373" y="16818"/>
                  <a:pt x="12497" y="16875"/>
                  <a:pt x="12526" y="16743"/>
                </a:cubicBezTo>
                <a:cubicBezTo>
                  <a:pt x="12415" y="16557"/>
                  <a:pt x="12278" y="16624"/>
                  <a:pt x="12254" y="16867"/>
                </a:cubicBezTo>
                <a:cubicBezTo>
                  <a:pt x="12230" y="17117"/>
                  <a:pt x="12390" y="17065"/>
                  <a:pt x="12551" y="1706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48200" y="5840280"/>
            <a:ext cx="706680" cy="554040"/>
          </a:xfrm>
          <a:custGeom>
            <a:avLst/>
            <a:gdLst/>
            <a:ahLst/>
            <a:rect l="l" t="t" r="r" b="b"/>
            <a:pathLst>
              <a:path w="1961" h="1539">
                <a:moveTo>
                  <a:pt x="17611" y="16222"/>
                </a:moveTo>
                <a:cubicBezTo>
                  <a:pt x="17441" y="16252"/>
                  <a:pt x="17258" y="16249"/>
                  <a:pt x="17090" y="16297"/>
                </a:cubicBezTo>
                <a:cubicBezTo>
                  <a:pt x="16802" y="16380"/>
                  <a:pt x="16499" y="16577"/>
                  <a:pt x="16321" y="16818"/>
                </a:cubicBezTo>
                <a:cubicBezTo>
                  <a:pt x="16156" y="17042"/>
                  <a:pt x="16320" y="17327"/>
                  <a:pt x="16470" y="17512"/>
                </a:cubicBezTo>
                <a:cubicBezTo>
                  <a:pt x="16650" y="17734"/>
                  <a:pt x="16961" y="17806"/>
                  <a:pt x="17239" y="17760"/>
                </a:cubicBezTo>
                <a:cubicBezTo>
                  <a:pt x="17557" y="17708"/>
                  <a:pt x="17933" y="17523"/>
                  <a:pt x="18107" y="17239"/>
                </a:cubicBezTo>
                <a:cubicBezTo>
                  <a:pt x="18251" y="17005"/>
                  <a:pt x="18248" y="16703"/>
                  <a:pt x="18083" y="16495"/>
                </a:cubicBezTo>
                <a:cubicBezTo>
                  <a:pt x="17977" y="16361"/>
                  <a:pt x="17790" y="16240"/>
                  <a:pt x="17611" y="16247"/>
                </a:cubicBezTo>
                <a:cubicBezTo>
                  <a:pt x="17595" y="16255"/>
                  <a:pt x="17578" y="16264"/>
                  <a:pt x="17562" y="1627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70880" y="4714920"/>
            <a:ext cx="669960" cy="509400"/>
          </a:xfrm>
          <a:custGeom>
            <a:avLst/>
            <a:gdLst/>
            <a:ahLst/>
            <a:rect l="l" t="t" r="r" b="b"/>
            <a:pathLst>
              <a:path w="1862" h="1415">
                <a:moveTo>
                  <a:pt x="21729" y="13568"/>
                </a:moveTo>
                <a:cubicBezTo>
                  <a:pt x="21729" y="13644"/>
                  <a:pt x="21729" y="13670"/>
                  <a:pt x="21704" y="13717"/>
                </a:cubicBezTo>
                <a:cubicBezTo>
                  <a:pt x="21769" y="13596"/>
                  <a:pt x="21793" y="13561"/>
                  <a:pt x="21903" y="13494"/>
                </a:cubicBezTo>
                <a:cubicBezTo>
                  <a:pt x="21972" y="13452"/>
                  <a:pt x="21984" y="13448"/>
                  <a:pt x="22051" y="13419"/>
                </a:cubicBezTo>
                <a:cubicBezTo>
                  <a:pt x="22031" y="13632"/>
                  <a:pt x="21960" y="13828"/>
                  <a:pt x="21927" y="14039"/>
                </a:cubicBezTo>
                <a:cubicBezTo>
                  <a:pt x="21927" y="14056"/>
                  <a:pt x="21927" y="14072"/>
                  <a:pt x="21927" y="14089"/>
                </a:cubicBezTo>
              </a:path>
              <a:path w="1862" h="1415">
                <a:moveTo>
                  <a:pt x="22225" y="13643"/>
                </a:moveTo>
                <a:cubicBezTo>
                  <a:pt x="22248" y="13720"/>
                  <a:pt x="22250" y="13783"/>
                  <a:pt x="22250" y="13866"/>
                </a:cubicBezTo>
                <a:cubicBezTo>
                  <a:pt x="22270" y="13767"/>
                  <a:pt x="22274" y="13536"/>
                  <a:pt x="22399" y="13494"/>
                </a:cubicBezTo>
                <a:cubicBezTo>
                  <a:pt x="22548" y="13444"/>
                  <a:pt x="22559" y="13677"/>
                  <a:pt x="22572" y="13767"/>
                </a:cubicBezTo>
                <a:cubicBezTo>
                  <a:pt x="22572" y="13783"/>
                  <a:pt x="22572" y="13800"/>
                  <a:pt x="22572" y="13816"/>
                </a:cubicBezTo>
                <a:cubicBezTo>
                  <a:pt x="22554" y="13605"/>
                  <a:pt x="22532" y="13514"/>
                  <a:pt x="22721" y="13419"/>
                </a:cubicBezTo>
                <a:cubicBezTo>
                  <a:pt x="22795" y="13552"/>
                  <a:pt x="22815" y="13636"/>
                  <a:pt x="22820" y="13791"/>
                </a:cubicBezTo>
                <a:cubicBezTo>
                  <a:pt x="22820" y="13808"/>
                  <a:pt x="22820" y="13824"/>
                  <a:pt x="22820" y="13841"/>
                </a:cubicBezTo>
              </a:path>
              <a:path w="1862" h="1415">
                <a:moveTo>
                  <a:pt x="21555" y="13196"/>
                </a:moveTo>
                <a:cubicBezTo>
                  <a:pt x="21703" y="13374"/>
                  <a:pt x="21912" y="13476"/>
                  <a:pt x="22126" y="13568"/>
                </a:cubicBezTo>
                <a:cubicBezTo>
                  <a:pt x="22452" y="13709"/>
                  <a:pt x="22761" y="13811"/>
                  <a:pt x="23068" y="13990"/>
                </a:cubicBezTo>
                <a:cubicBezTo>
                  <a:pt x="23085" y="13998"/>
                  <a:pt x="23101" y="14007"/>
                  <a:pt x="23118" y="14015"/>
                </a:cubicBezTo>
              </a:path>
              <a:path w="1862" h="1415">
                <a:moveTo>
                  <a:pt x="21307" y="14511"/>
                </a:moveTo>
                <a:cubicBezTo>
                  <a:pt x="21613" y="14174"/>
                  <a:pt x="21981" y="13934"/>
                  <a:pt x="22349" y="13667"/>
                </a:cubicBezTo>
                <a:cubicBezTo>
                  <a:pt x="22619" y="13471"/>
                  <a:pt x="22888" y="13272"/>
                  <a:pt x="23168" y="1309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3973680"/>
            <a:ext cx="88920" cy="1839600"/>
          </a:xfrm>
          <a:custGeom>
            <a:avLst/>
            <a:gdLst/>
            <a:ahLst/>
            <a:rect l="l" t="t" r="r" b="b"/>
            <a:pathLst>
              <a:path w="249" h="5111">
                <a:moveTo>
                  <a:pt x="17314" y="11112"/>
                </a:moveTo>
                <a:cubicBezTo>
                  <a:pt x="17328" y="11200"/>
                  <a:pt x="17335" y="11268"/>
                  <a:pt x="17338" y="11361"/>
                </a:cubicBezTo>
                <a:cubicBezTo>
                  <a:pt x="17341" y="11486"/>
                  <a:pt x="17333" y="11611"/>
                  <a:pt x="17314" y="11733"/>
                </a:cubicBezTo>
                <a:cubicBezTo>
                  <a:pt x="17302" y="11807"/>
                  <a:pt x="17281" y="11885"/>
                  <a:pt x="17264" y="11956"/>
                </a:cubicBezTo>
                <a:cubicBezTo>
                  <a:pt x="17245" y="12033"/>
                  <a:pt x="17241" y="12075"/>
                  <a:pt x="17239" y="12154"/>
                </a:cubicBezTo>
                <a:cubicBezTo>
                  <a:pt x="17224" y="12700"/>
                  <a:pt x="17231" y="13252"/>
                  <a:pt x="17289" y="13791"/>
                </a:cubicBezTo>
                <a:cubicBezTo>
                  <a:pt x="17302" y="13909"/>
                  <a:pt x="17320" y="14022"/>
                  <a:pt x="17338" y="14139"/>
                </a:cubicBezTo>
                <a:cubicBezTo>
                  <a:pt x="17357" y="14263"/>
                  <a:pt x="17349" y="14387"/>
                  <a:pt x="17363" y="14511"/>
                </a:cubicBezTo>
                <a:cubicBezTo>
                  <a:pt x="17373" y="14604"/>
                  <a:pt x="17386" y="14687"/>
                  <a:pt x="17388" y="14784"/>
                </a:cubicBezTo>
                <a:cubicBezTo>
                  <a:pt x="17390" y="14861"/>
                  <a:pt x="17386" y="14908"/>
                  <a:pt x="17363" y="14982"/>
                </a:cubicBezTo>
                <a:cubicBezTo>
                  <a:pt x="17342" y="15048"/>
                  <a:pt x="17310" y="15113"/>
                  <a:pt x="17289" y="15180"/>
                </a:cubicBezTo>
                <a:cubicBezTo>
                  <a:pt x="17253" y="15295"/>
                  <a:pt x="17260" y="15412"/>
                  <a:pt x="17239" y="15528"/>
                </a:cubicBezTo>
                <a:cubicBezTo>
                  <a:pt x="17230" y="15577"/>
                  <a:pt x="17223" y="15642"/>
                  <a:pt x="17214" y="15701"/>
                </a:cubicBezTo>
                <a:cubicBezTo>
                  <a:pt x="17200" y="15796"/>
                  <a:pt x="17184" y="15902"/>
                  <a:pt x="17165" y="15999"/>
                </a:cubicBezTo>
                <a:cubicBezTo>
                  <a:pt x="17155" y="16050"/>
                  <a:pt x="17150" y="16097"/>
                  <a:pt x="17140" y="16148"/>
                </a:cubicBezTo>
                <a:cubicBezTo>
                  <a:pt x="17175" y="15997"/>
                  <a:pt x="17210" y="15858"/>
                  <a:pt x="17214" y="15701"/>
                </a:cubicBezTo>
                <a:cubicBezTo>
                  <a:pt x="17217" y="15589"/>
                  <a:pt x="17222" y="15487"/>
                  <a:pt x="17239" y="15379"/>
                </a:cubicBezTo>
                <a:cubicBezTo>
                  <a:pt x="17251" y="15302"/>
                  <a:pt x="17262" y="15235"/>
                  <a:pt x="17264" y="15156"/>
                </a:cubicBezTo>
                <a:cubicBezTo>
                  <a:pt x="17267" y="15054"/>
                  <a:pt x="17282" y="14956"/>
                  <a:pt x="17289" y="14858"/>
                </a:cubicBezTo>
                <a:cubicBezTo>
                  <a:pt x="17295" y="14779"/>
                  <a:pt x="17269" y="14706"/>
                  <a:pt x="17264" y="14635"/>
                </a:cubicBezTo>
                <a:cubicBezTo>
                  <a:pt x="17258" y="14551"/>
                  <a:pt x="17244" y="14468"/>
                  <a:pt x="17239" y="14387"/>
                </a:cubicBezTo>
                <a:cubicBezTo>
                  <a:pt x="17224" y="14156"/>
                  <a:pt x="17229" y="13919"/>
                  <a:pt x="17214" y="13692"/>
                </a:cubicBezTo>
                <a:cubicBezTo>
                  <a:pt x="17207" y="13582"/>
                  <a:pt x="17173" y="13477"/>
                  <a:pt x="17165" y="13370"/>
                </a:cubicBezTo>
                <a:cubicBezTo>
                  <a:pt x="17156" y="13242"/>
                  <a:pt x="17182" y="13117"/>
                  <a:pt x="17190" y="12998"/>
                </a:cubicBezTo>
                <a:cubicBezTo>
                  <a:pt x="17200" y="12844"/>
                  <a:pt x="17205" y="12666"/>
                  <a:pt x="17214" y="12526"/>
                </a:cubicBezTo>
                <a:cubicBezTo>
                  <a:pt x="17221" y="12424"/>
                  <a:pt x="17223" y="12329"/>
                  <a:pt x="17239" y="12229"/>
                </a:cubicBezTo>
                <a:cubicBezTo>
                  <a:pt x="17254" y="12137"/>
                  <a:pt x="17262" y="12052"/>
                  <a:pt x="17264" y="11956"/>
                </a:cubicBezTo>
                <a:cubicBezTo>
                  <a:pt x="17266" y="11863"/>
                  <a:pt x="17283" y="11769"/>
                  <a:pt x="17289" y="11683"/>
                </a:cubicBezTo>
                <a:cubicBezTo>
                  <a:pt x="17298" y="11561"/>
                  <a:pt x="17306" y="11427"/>
                  <a:pt x="17314" y="11311"/>
                </a:cubicBezTo>
                <a:cubicBezTo>
                  <a:pt x="17320" y="11221"/>
                  <a:pt x="17314" y="11128"/>
                  <a:pt x="17314" y="1103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Area of a triangl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52480" y="2743200"/>
          <a:ext cx="39117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3911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133720" y="4038480"/>
          <a:ext cx="14097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038480"/>
                    <a:ext cx="1409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257800" y="3581280"/>
            <a:ext cx="3048120" cy="19051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3581280"/>
            <a:ext cx="0" cy="1905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518148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51814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057400" y="5638680"/>
          <a:ext cx="198108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638680"/>
                    <a:ext cx="1981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666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46720" y="4394160"/>
            <a:ext cx="241200" cy="54000"/>
          </a:xfrm>
          <a:custGeom>
            <a:avLst/>
            <a:gdLst/>
            <a:ahLst/>
            <a:rect l="l" t="t" r="r" b="b"/>
            <a:pathLst>
              <a:path w="670" h="150">
                <a:moveTo>
                  <a:pt x="12353" y="12353"/>
                </a:moveTo>
                <a:cubicBezTo>
                  <a:pt x="12578" y="12280"/>
                  <a:pt x="12785" y="12222"/>
                  <a:pt x="13022" y="1220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94120" y="4456080"/>
            <a:ext cx="285840" cy="196920"/>
          </a:xfrm>
          <a:custGeom>
            <a:avLst/>
            <a:gdLst/>
            <a:ahLst/>
            <a:rect l="l" t="t" r="r" b="b"/>
            <a:pathLst>
              <a:path w="795" h="546">
                <a:moveTo>
                  <a:pt x="11063" y="12551"/>
                </a:moveTo>
                <a:cubicBezTo>
                  <a:pt x="10885" y="12499"/>
                  <a:pt x="10864" y="12677"/>
                  <a:pt x="10815" y="12849"/>
                </a:cubicBezTo>
                <a:cubicBezTo>
                  <a:pt x="10935" y="12913"/>
                  <a:pt x="11244" y="12909"/>
                  <a:pt x="11162" y="12650"/>
                </a:cubicBezTo>
                <a:cubicBezTo>
                  <a:pt x="11097" y="12629"/>
                  <a:pt x="11081" y="12621"/>
                  <a:pt x="11038" y="12626"/>
                </a:cubicBezTo>
              </a:path>
              <a:path w="795" h="546">
                <a:moveTo>
                  <a:pt x="11385" y="12774"/>
                </a:moveTo>
                <a:cubicBezTo>
                  <a:pt x="11385" y="12799"/>
                  <a:pt x="11385" y="12824"/>
                  <a:pt x="11385" y="12849"/>
                </a:cubicBezTo>
                <a:cubicBezTo>
                  <a:pt x="11385" y="12694"/>
                  <a:pt x="11378" y="12540"/>
                  <a:pt x="11509" y="12427"/>
                </a:cubicBezTo>
                <a:cubicBezTo>
                  <a:pt x="11542" y="12411"/>
                  <a:pt x="11576" y="12394"/>
                  <a:pt x="11609" y="123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1000" y="4197240"/>
            <a:ext cx="625680" cy="509760"/>
          </a:xfrm>
          <a:custGeom>
            <a:avLst/>
            <a:gdLst/>
            <a:ahLst/>
            <a:rect l="l" t="t" r="r" b="b"/>
            <a:pathLst>
              <a:path w="1737" h="1415">
                <a:moveTo>
                  <a:pt x="12650" y="11658"/>
                </a:moveTo>
                <a:cubicBezTo>
                  <a:pt x="12659" y="11866"/>
                  <a:pt x="12675" y="12069"/>
                  <a:pt x="12675" y="12278"/>
                </a:cubicBezTo>
              </a:path>
              <a:path w="1737" h="1415">
                <a:moveTo>
                  <a:pt x="12477" y="12626"/>
                </a:moveTo>
                <a:cubicBezTo>
                  <a:pt x="12599" y="12604"/>
                  <a:pt x="12700" y="12539"/>
                  <a:pt x="12824" y="12601"/>
                </a:cubicBezTo>
                <a:cubicBezTo>
                  <a:pt x="12832" y="12609"/>
                  <a:pt x="12841" y="12618"/>
                  <a:pt x="12849" y="12626"/>
                </a:cubicBezTo>
                <a:cubicBezTo>
                  <a:pt x="12756" y="12793"/>
                  <a:pt x="12647" y="12906"/>
                  <a:pt x="12526" y="13047"/>
                </a:cubicBezTo>
                <a:cubicBezTo>
                  <a:pt x="12670" y="13073"/>
                  <a:pt x="12802" y="13014"/>
                  <a:pt x="12948" y="12973"/>
                </a:cubicBezTo>
              </a:path>
              <a:path w="1737" h="1415">
                <a:moveTo>
                  <a:pt x="13171" y="11931"/>
                </a:moveTo>
                <a:cubicBezTo>
                  <a:pt x="13217" y="12170"/>
                  <a:pt x="13238" y="12406"/>
                  <a:pt x="13246" y="12650"/>
                </a:cubicBezTo>
                <a:cubicBezTo>
                  <a:pt x="13246" y="12781"/>
                  <a:pt x="13263" y="12441"/>
                  <a:pt x="13271" y="12402"/>
                </a:cubicBezTo>
                <a:cubicBezTo>
                  <a:pt x="13279" y="12369"/>
                  <a:pt x="13287" y="12336"/>
                  <a:pt x="13295" y="12303"/>
                </a:cubicBezTo>
                <a:cubicBezTo>
                  <a:pt x="13433" y="12303"/>
                  <a:pt x="13471" y="12333"/>
                  <a:pt x="13519" y="12477"/>
                </a:cubicBezTo>
                <a:cubicBezTo>
                  <a:pt x="13543" y="12548"/>
                  <a:pt x="13557" y="12650"/>
                  <a:pt x="13568" y="12725"/>
                </a:cubicBezTo>
              </a:path>
              <a:path w="1737" h="1415">
                <a:moveTo>
                  <a:pt x="13667" y="11857"/>
                </a:moveTo>
                <a:cubicBezTo>
                  <a:pt x="13683" y="12061"/>
                  <a:pt x="13719" y="12253"/>
                  <a:pt x="13767" y="12452"/>
                </a:cubicBezTo>
                <a:cubicBezTo>
                  <a:pt x="13775" y="12485"/>
                  <a:pt x="13783" y="12518"/>
                  <a:pt x="13791" y="12551"/>
                </a:cubicBezTo>
                <a:cubicBezTo>
                  <a:pt x="13791" y="12454"/>
                  <a:pt x="13762" y="12270"/>
                  <a:pt x="13866" y="12204"/>
                </a:cubicBezTo>
                <a:cubicBezTo>
                  <a:pt x="14013" y="12111"/>
                  <a:pt x="14226" y="12297"/>
                  <a:pt x="14213" y="12452"/>
                </a:cubicBezTo>
                <a:cubicBezTo>
                  <a:pt x="14199" y="12619"/>
                  <a:pt x="13983" y="12618"/>
                  <a:pt x="13866" y="1262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41320" y="5392800"/>
            <a:ext cx="2759400" cy="1268280"/>
          </a:xfrm>
          <a:custGeom>
            <a:avLst/>
            <a:gdLst/>
            <a:ahLst/>
            <a:rect l="l" t="t" r="r" b="b"/>
            <a:pathLst>
              <a:path w="7666" h="3523">
                <a:moveTo>
                  <a:pt x="9897" y="15180"/>
                </a:moveTo>
                <a:cubicBezTo>
                  <a:pt x="9698" y="15135"/>
                  <a:pt x="9533" y="15111"/>
                  <a:pt x="9327" y="15106"/>
                </a:cubicBezTo>
                <a:cubicBezTo>
                  <a:pt x="9150" y="15102"/>
                  <a:pt x="8914" y="15235"/>
                  <a:pt x="8781" y="15205"/>
                </a:cubicBezTo>
                <a:cubicBezTo>
                  <a:pt x="8247" y="15085"/>
                  <a:pt x="8020" y="14918"/>
                  <a:pt x="7466" y="15131"/>
                </a:cubicBezTo>
                <a:cubicBezTo>
                  <a:pt x="7140" y="15256"/>
                  <a:pt x="7520" y="15205"/>
                  <a:pt x="6995" y="15156"/>
                </a:cubicBezTo>
                <a:cubicBezTo>
                  <a:pt x="6639" y="15122"/>
                  <a:pt x="5761" y="15075"/>
                  <a:pt x="5531" y="15453"/>
                </a:cubicBezTo>
                <a:cubicBezTo>
                  <a:pt x="5469" y="15556"/>
                  <a:pt x="5497" y="15711"/>
                  <a:pt x="5457" y="15726"/>
                </a:cubicBezTo>
                <a:cubicBezTo>
                  <a:pt x="5288" y="15789"/>
                  <a:pt x="5111" y="15678"/>
                  <a:pt x="4911" y="15875"/>
                </a:cubicBezTo>
                <a:cubicBezTo>
                  <a:pt x="4674" y="16109"/>
                  <a:pt x="4906" y="16805"/>
                  <a:pt x="5060" y="17016"/>
                </a:cubicBezTo>
                <a:cubicBezTo>
                  <a:pt x="5240" y="17262"/>
                  <a:pt x="5430" y="17155"/>
                  <a:pt x="5655" y="17115"/>
                </a:cubicBezTo>
                <a:cubicBezTo>
                  <a:pt x="5675" y="17367"/>
                  <a:pt x="5676" y="17574"/>
                  <a:pt x="5854" y="17785"/>
                </a:cubicBezTo>
                <a:cubicBezTo>
                  <a:pt x="6158" y="18146"/>
                  <a:pt x="6462" y="17972"/>
                  <a:pt x="6821" y="18132"/>
                </a:cubicBezTo>
                <a:cubicBezTo>
                  <a:pt x="6984" y="18205"/>
                  <a:pt x="7018" y="18385"/>
                  <a:pt x="7243" y="18455"/>
                </a:cubicBezTo>
                <a:cubicBezTo>
                  <a:pt x="7583" y="18561"/>
                  <a:pt x="7832" y="18266"/>
                  <a:pt x="8111" y="18281"/>
                </a:cubicBezTo>
                <a:cubicBezTo>
                  <a:pt x="8333" y="18293"/>
                  <a:pt x="8490" y="18514"/>
                  <a:pt x="8781" y="18504"/>
                </a:cubicBezTo>
                <a:cubicBezTo>
                  <a:pt x="9135" y="18492"/>
                  <a:pt x="9508" y="18237"/>
                  <a:pt x="9773" y="18207"/>
                </a:cubicBezTo>
                <a:cubicBezTo>
                  <a:pt x="10197" y="18159"/>
                  <a:pt x="10468" y="18231"/>
                  <a:pt x="10889" y="17983"/>
                </a:cubicBezTo>
                <a:cubicBezTo>
                  <a:pt x="11296" y="17743"/>
                  <a:pt x="11131" y="17871"/>
                  <a:pt x="11460" y="17760"/>
                </a:cubicBezTo>
                <a:cubicBezTo>
                  <a:pt x="11784" y="17651"/>
                  <a:pt x="12038" y="17256"/>
                  <a:pt x="12105" y="16942"/>
                </a:cubicBezTo>
                <a:cubicBezTo>
                  <a:pt x="12173" y="16625"/>
                  <a:pt x="12164" y="16946"/>
                  <a:pt x="12353" y="16644"/>
                </a:cubicBezTo>
                <a:cubicBezTo>
                  <a:pt x="12613" y="16229"/>
                  <a:pt x="12552" y="15560"/>
                  <a:pt x="12105" y="15304"/>
                </a:cubicBezTo>
                <a:cubicBezTo>
                  <a:pt x="11938" y="15208"/>
                  <a:pt x="11696" y="15136"/>
                  <a:pt x="11534" y="15081"/>
                </a:cubicBezTo>
                <a:cubicBezTo>
                  <a:pt x="11200" y="14967"/>
                  <a:pt x="10878" y="15289"/>
                  <a:pt x="10592" y="15230"/>
                </a:cubicBezTo>
                <a:cubicBezTo>
                  <a:pt x="10429" y="15196"/>
                  <a:pt x="10420" y="15023"/>
                  <a:pt x="10096" y="15056"/>
                </a:cubicBezTo>
                <a:cubicBezTo>
                  <a:pt x="9925" y="15074"/>
                  <a:pt x="9784" y="15133"/>
                  <a:pt x="9624" y="1518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EX1.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= 4ft  h= 11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38280" y="2895480"/>
          <a:ext cx="11685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95480"/>
                    <a:ext cx="11685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3962520"/>
          <a:ext cx="160020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962520"/>
                    <a:ext cx="16002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362320" y="4952880"/>
          <a:ext cx="116820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952880"/>
                    <a:ext cx="1168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0" y="6019920"/>
          <a:ext cx="15746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6019920"/>
                    <a:ext cx="1574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848640" y="750960"/>
            <a:ext cx="1028520" cy="222120"/>
          </a:xfrm>
          <a:custGeom>
            <a:avLst/>
            <a:gdLst/>
            <a:ahLst/>
            <a:rect l="l" t="t" r="r" b="b"/>
            <a:pathLst>
              <a:path w="2854" h="621">
                <a:moveTo>
                  <a:pt x="19025" y="2332"/>
                </a:moveTo>
                <a:cubicBezTo>
                  <a:pt x="19229" y="2266"/>
                  <a:pt x="19411" y="2237"/>
                  <a:pt x="19621" y="2208"/>
                </a:cubicBezTo>
              </a:path>
              <a:path w="2854" h="621">
                <a:moveTo>
                  <a:pt x="19943" y="2158"/>
                </a:moveTo>
                <a:cubicBezTo>
                  <a:pt x="20054" y="2102"/>
                  <a:pt x="20100" y="2083"/>
                  <a:pt x="20191" y="2084"/>
                </a:cubicBezTo>
              </a:path>
              <a:path w="2854" h="621">
                <a:moveTo>
                  <a:pt x="20042" y="2406"/>
                </a:moveTo>
                <a:cubicBezTo>
                  <a:pt x="20100" y="2398"/>
                  <a:pt x="20158" y="2389"/>
                  <a:pt x="20216" y="2381"/>
                </a:cubicBezTo>
              </a:path>
              <a:path w="2854" h="621">
                <a:moveTo>
                  <a:pt x="20613" y="2704"/>
                </a:moveTo>
                <a:cubicBezTo>
                  <a:pt x="21037" y="2619"/>
                  <a:pt x="21445" y="2544"/>
                  <a:pt x="21878" y="253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0360" y="517680"/>
            <a:ext cx="196920" cy="482400"/>
          </a:xfrm>
          <a:custGeom>
            <a:avLst/>
            <a:gdLst/>
            <a:ahLst/>
            <a:rect l="l" t="t" r="r" b="b"/>
            <a:pathLst>
              <a:path w="547" h="1340">
                <a:moveTo>
                  <a:pt x="19100" y="1885"/>
                </a:moveTo>
                <a:cubicBezTo>
                  <a:pt x="19073" y="2168"/>
                  <a:pt x="19056" y="2451"/>
                  <a:pt x="19000" y="2729"/>
                </a:cubicBezTo>
                <a:cubicBezTo>
                  <a:pt x="19007" y="2426"/>
                  <a:pt x="19012" y="2135"/>
                  <a:pt x="19075" y="1836"/>
                </a:cubicBezTo>
                <a:cubicBezTo>
                  <a:pt x="19140" y="1598"/>
                  <a:pt x="19139" y="1532"/>
                  <a:pt x="19273" y="1439"/>
                </a:cubicBezTo>
                <a:cubicBezTo>
                  <a:pt x="19556" y="1569"/>
                  <a:pt x="19493" y="1965"/>
                  <a:pt x="19521" y="2257"/>
                </a:cubicBezTo>
                <a:cubicBezTo>
                  <a:pt x="19539" y="2445"/>
                  <a:pt x="19531" y="2594"/>
                  <a:pt x="19521" y="27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2960" y="527040"/>
            <a:ext cx="465120" cy="393840"/>
          </a:xfrm>
          <a:custGeom>
            <a:avLst/>
            <a:gdLst/>
            <a:ahLst/>
            <a:rect l="l" t="t" r="r" b="b"/>
            <a:pathLst>
              <a:path w="1291" h="1093">
                <a:moveTo>
                  <a:pt x="20538" y="1513"/>
                </a:moveTo>
                <a:cubicBezTo>
                  <a:pt x="20580" y="1844"/>
                  <a:pt x="20631" y="2173"/>
                  <a:pt x="20662" y="2505"/>
                </a:cubicBezTo>
                <a:cubicBezTo>
                  <a:pt x="20662" y="2522"/>
                  <a:pt x="20662" y="2538"/>
                  <a:pt x="20662" y="2555"/>
                </a:cubicBezTo>
                <a:cubicBezTo>
                  <a:pt x="20674" y="2366"/>
                  <a:pt x="20678" y="2097"/>
                  <a:pt x="20910" y="2034"/>
                </a:cubicBezTo>
                <a:cubicBezTo>
                  <a:pt x="21061" y="2059"/>
                  <a:pt x="21113" y="2069"/>
                  <a:pt x="21183" y="2158"/>
                </a:cubicBezTo>
                <a:cubicBezTo>
                  <a:pt x="21126" y="2434"/>
                  <a:pt x="21002" y="2548"/>
                  <a:pt x="20687" y="2555"/>
                </a:cubicBezTo>
                <a:cubicBezTo>
                  <a:pt x="20662" y="2547"/>
                  <a:pt x="20638" y="2538"/>
                  <a:pt x="20613" y="2530"/>
                </a:cubicBezTo>
              </a:path>
              <a:path w="1291" h="1093">
                <a:moveTo>
                  <a:pt x="21208" y="1463"/>
                </a:moveTo>
                <a:cubicBezTo>
                  <a:pt x="21272" y="1769"/>
                  <a:pt x="21321" y="2069"/>
                  <a:pt x="21332" y="2381"/>
                </a:cubicBezTo>
                <a:cubicBezTo>
                  <a:pt x="21332" y="2414"/>
                  <a:pt x="21332" y="2447"/>
                  <a:pt x="21332" y="2480"/>
                </a:cubicBezTo>
                <a:cubicBezTo>
                  <a:pt x="21378" y="2250"/>
                  <a:pt x="21400" y="2104"/>
                  <a:pt x="21580" y="1960"/>
                </a:cubicBezTo>
                <a:cubicBezTo>
                  <a:pt x="21792" y="2112"/>
                  <a:pt x="21814" y="2239"/>
                  <a:pt x="21803" y="250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81960" y="1000080"/>
            <a:ext cx="204840" cy="187200"/>
          </a:xfrm>
          <a:custGeom>
            <a:avLst/>
            <a:gdLst/>
            <a:ahLst/>
            <a:rect l="l" t="t" r="r" b="b"/>
            <a:pathLst>
              <a:path w="572" h="522">
                <a:moveTo>
                  <a:pt x="21059" y="2828"/>
                </a:moveTo>
                <a:cubicBezTo>
                  <a:pt x="21196" y="2803"/>
                  <a:pt x="21596" y="2687"/>
                  <a:pt x="21630" y="2927"/>
                </a:cubicBezTo>
                <a:cubicBezTo>
                  <a:pt x="21669" y="3199"/>
                  <a:pt x="21308" y="3274"/>
                  <a:pt x="21134" y="3274"/>
                </a:cubicBezTo>
                <a:cubicBezTo>
                  <a:pt x="21266" y="3168"/>
                  <a:pt x="21371" y="3134"/>
                  <a:pt x="21530" y="3225"/>
                </a:cubicBezTo>
                <a:cubicBezTo>
                  <a:pt x="21547" y="3241"/>
                  <a:pt x="21563" y="3258"/>
                  <a:pt x="21580" y="327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71840" y="2874960"/>
            <a:ext cx="376200" cy="27000"/>
          </a:xfrm>
          <a:custGeom>
            <a:avLst/>
            <a:gdLst/>
            <a:ahLst/>
            <a:rect l="l" t="t" r="r" b="b"/>
            <a:pathLst>
              <a:path w="1043" h="76">
                <a:moveTo>
                  <a:pt x="7144" y="8062"/>
                </a:moveTo>
                <a:cubicBezTo>
                  <a:pt x="7377" y="8027"/>
                  <a:pt x="7626" y="8023"/>
                  <a:pt x="7863" y="8012"/>
                </a:cubicBezTo>
                <a:cubicBezTo>
                  <a:pt x="7984" y="8007"/>
                  <a:pt x="8069" y="8002"/>
                  <a:pt x="8186" y="798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48040" y="2840040"/>
            <a:ext cx="536760" cy="169920"/>
          </a:xfrm>
          <a:custGeom>
            <a:avLst/>
            <a:gdLst/>
            <a:ahLst/>
            <a:rect l="l" t="t" r="r" b="b"/>
            <a:pathLst>
              <a:path w="1489" h="472">
                <a:moveTo>
                  <a:pt x="10691" y="8086"/>
                </a:moveTo>
                <a:cubicBezTo>
                  <a:pt x="10937" y="7985"/>
                  <a:pt x="11146" y="8026"/>
                  <a:pt x="11410" y="8012"/>
                </a:cubicBezTo>
                <a:cubicBezTo>
                  <a:pt x="11627" y="8000"/>
                  <a:pt x="11837" y="7962"/>
                  <a:pt x="12055" y="7962"/>
                </a:cubicBezTo>
              </a:path>
              <a:path w="1489" h="472">
                <a:moveTo>
                  <a:pt x="11559" y="7987"/>
                </a:moveTo>
                <a:cubicBezTo>
                  <a:pt x="11732" y="7975"/>
                  <a:pt x="11909" y="7947"/>
                  <a:pt x="12080" y="7913"/>
                </a:cubicBezTo>
                <a:cubicBezTo>
                  <a:pt x="12113" y="7905"/>
                  <a:pt x="12146" y="7896"/>
                  <a:pt x="12179" y="7888"/>
                </a:cubicBezTo>
              </a:path>
              <a:path w="1489" h="472">
                <a:moveTo>
                  <a:pt x="11435" y="8186"/>
                </a:moveTo>
                <a:cubicBezTo>
                  <a:pt x="11601" y="8165"/>
                  <a:pt x="11766" y="8117"/>
                  <a:pt x="11931" y="8086"/>
                </a:cubicBezTo>
                <a:cubicBezTo>
                  <a:pt x="12030" y="8067"/>
                  <a:pt x="12046" y="8059"/>
                  <a:pt x="12105" y="8062"/>
                </a:cubicBezTo>
              </a:path>
              <a:path w="1489" h="472">
                <a:moveTo>
                  <a:pt x="11534" y="8260"/>
                </a:moveTo>
                <a:cubicBezTo>
                  <a:pt x="11697" y="8246"/>
                  <a:pt x="11870" y="8223"/>
                  <a:pt x="12030" y="8186"/>
                </a:cubicBezTo>
                <a:cubicBezTo>
                  <a:pt x="12055" y="8178"/>
                  <a:pt x="12080" y="8169"/>
                  <a:pt x="12105" y="8161"/>
                </a:cubicBezTo>
              </a:path>
              <a:path w="1489" h="472">
                <a:moveTo>
                  <a:pt x="11584" y="8359"/>
                </a:moveTo>
                <a:cubicBezTo>
                  <a:pt x="11735" y="8301"/>
                  <a:pt x="11893" y="8265"/>
                  <a:pt x="12055" y="8235"/>
                </a:cubicBezTo>
                <a:cubicBezTo>
                  <a:pt x="12063" y="8235"/>
                  <a:pt x="12072" y="8235"/>
                  <a:pt x="12080" y="823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2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2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.5c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4c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5y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8y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12k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4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24800" y="322200"/>
            <a:ext cx="455400" cy="704880"/>
          </a:xfrm>
          <a:custGeom>
            <a:avLst/>
            <a:gdLst/>
            <a:ahLst/>
            <a:rect l="l" t="t" r="r" b="b"/>
            <a:pathLst>
              <a:path w="1266" h="1961">
                <a:moveTo>
                  <a:pt x="18852" y="1116"/>
                </a:moveTo>
                <a:cubicBezTo>
                  <a:pt x="18815" y="1492"/>
                  <a:pt x="18761" y="1840"/>
                  <a:pt x="18678" y="2208"/>
                </a:cubicBezTo>
                <a:cubicBezTo>
                  <a:pt x="18678" y="2216"/>
                  <a:pt x="18678" y="2224"/>
                  <a:pt x="18678" y="2232"/>
                </a:cubicBezTo>
                <a:cubicBezTo>
                  <a:pt x="18715" y="1906"/>
                  <a:pt x="18733" y="1561"/>
                  <a:pt x="18802" y="1240"/>
                </a:cubicBezTo>
                <a:cubicBezTo>
                  <a:pt x="18842" y="1055"/>
                  <a:pt x="18867" y="978"/>
                  <a:pt x="19000" y="893"/>
                </a:cubicBezTo>
                <a:cubicBezTo>
                  <a:pt x="19219" y="1057"/>
                  <a:pt x="19236" y="1390"/>
                  <a:pt x="19273" y="1662"/>
                </a:cubicBezTo>
                <a:cubicBezTo>
                  <a:pt x="19298" y="1846"/>
                  <a:pt x="19291" y="2029"/>
                  <a:pt x="19323" y="2208"/>
                </a:cubicBezTo>
              </a:path>
              <a:path w="1266" h="1961">
                <a:moveTo>
                  <a:pt x="18728" y="1910"/>
                </a:moveTo>
                <a:cubicBezTo>
                  <a:pt x="18920" y="1848"/>
                  <a:pt x="19072" y="1811"/>
                  <a:pt x="19273" y="1811"/>
                </a:cubicBezTo>
              </a:path>
              <a:path w="1266" h="1961">
                <a:moveTo>
                  <a:pt x="19645" y="2332"/>
                </a:moveTo>
                <a:cubicBezTo>
                  <a:pt x="19627" y="2482"/>
                  <a:pt x="19531" y="2614"/>
                  <a:pt x="19472" y="2753"/>
                </a:cubicBezTo>
                <a:cubicBezTo>
                  <a:pt x="19447" y="2828"/>
                  <a:pt x="19439" y="2853"/>
                  <a:pt x="19472" y="2753"/>
                </a:cubicBezTo>
                <a:cubicBezTo>
                  <a:pt x="19574" y="2596"/>
                  <a:pt x="19633" y="2461"/>
                  <a:pt x="19695" y="2282"/>
                </a:cubicBezTo>
                <a:cubicBezTo>
                  <a:pt x="19768" y="2412"/>
                  <a:pt x="19934" y="2651"/>
                  <a:pt x="19943" y="2803"/>
                </a:cubicBezTo>
                <a:cubicBezTo>
                  <a:pt x="19948" y="2886"/>
                  <a:pt x="19460" y="2853"/>
                  <a:pt x="19397" y="2853"/>
                </a:cubicBezTo>
                <a:cubicBezTo>
                  <a:pt x="19389" y="2853"/>
                  <a:pt x="19380" y="2853"/>
                  <a:pt x="19372" y="285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18240" y="339840"/>
            <a:ext cx="474840" cy="758880"/>
          </a:xfrm>
          <a:custGeom>
            <a:avLst/>
            <a:gdLst/>
            <a:ahLst/>
            <a:rect l="l" t="t" r="r" b="b"/>
            <a:pathLst>
              <a:path w="1315" h="2109">
                <a:moveTo>
                  <a:pt x="20886" y="1067"/>
                </a:moveTo>
                <a:cubicBezTo>
                  <a:pt x="20947" y="1406"/>
                  <a:pt x="21040" y="1746"/>
                  <a:pt x="21084" y="2084"/>
                </a:cubicBezTo>
                <a:cubicBezTo>
                  <a:pt x="21084" y="1906"/>
                  <a:pt x="21025" y="1479"/>
                  <a:pt x="21357" y="1538"/>
                </a:cubicBezTo>
                <a:cubicBezTo>
                  <a:pt x="21398" y="1571"/>
                  <a:pt x="21440" y="1604"/>
                  <a:pt x="21481" y="1637"/>
                </a:cubicBezTo>
                <a:cubicBezTo>
                  <a:pt x="21474" y="1823"/>
                  <a:pt x="21387" y="2180"/>
                  <a:pt x="21084" y="2059"/>
                </a:cubicBezTo>
                <a:cubicBezTo>
                  <a:pt x="21059" y="2026"/>
                  <a:pt x="21035" y="1993"/>
                  <a:pt x="21010" y="1960"/>
                </a:cubicBezTo>
              </a:path>
              <a:path w="1315" h="2109">
                <a:moveTo>
                  <a:pt x="21506" y="943"/>
                </a:moveTo>
                <a:cubicBezTo>
                  <a:pt x="21570" y="1286"/>
                  <a:pt x="21689" y="1615"/>
                  <a:pt x="21754" y="1960"/>
                </a:cubicBezTo>
                <a:cubicBezTo>
                  <a:pt x="21754" y="1976"/>
                  <a:pt x="21754" y="1993"/>
                  <a:pt x="21754" y="2009"/>
                </a:cubicBezTo>
                <a:cubicBezTo>
                  <a:pt x="21754" y="1868"/>
                  <a:pt x="21702" y="1625"/>
                  <a:pt x="21878" y="1563"/>
                </a:cubicBezTo>
                <a:cubicBezTo>
                  <a:pt x="22117" y="1479"/>
                  <a:pt x="22120" y="1891"/>
                  <a:pt x="22126" y="2009"/>
                </a:cubicBezTo>
                <a:cubicBezTo>
                  <a:pt x="22126" y="2059"/>
                  <a:pt x="22126" y="2108"/>
                  <a:pt x="22126" y="2158"/>
                </a:cubicBezTo>
              </a:path>
              <a:path w="1315" h="2109">
                <a:moveTo>
                  <a:pt x="21109" y="2381"/>
                </a:moveTo>
                <a:cubicBezTo>
                  <a:pt x="21415" y="2317"/>
                  <a:pt x="21760" y="2252"/>
                  <a:pt x="22076" y="2257"/>
                </a:cubicBezTo>
                <a:cubicBezTo>
                  <a:pt x="22117" y="2265"/>
                  <a:pt x="22159" y="2274"/>
                  <a:pt x="22200" y="2282"/>
                </a:cubicBezTo>
              </a:path>
              <a:path w="1315" h="2109">
                <a:moveTo>
                  <a:pt x="21506" y="2654"/>
                </a:moveTo>
                <a:cubicBezTo>
                  <a:pt x="21704" y="2565"/>
                  <a:pt x="21933" y="2528"/>
                  <a:pt x="22027" y="2803"/>
                </a:cubicBezTo>
                <a:cubicBezTo>
                  <a:pt x="22099" y="3012"/>
                  <a:pt x="21800" y="3015"/>
                  <a:pt x="21679" y="3051"/>
                </a:cubicBezTo>
                <a:cubicBezTo>
                  <a:pt x="21606" y="3051"/>
                  <a:pt x="21581" y="3052"/>
                  <a:pt x="21654" y="3001"/>
                </a:cubicBezTo>
                <a:cubicBezTo>
                  <a:pt x="21847" y="2937"/>
                  <a:pt x="21950" y="2885"/>
                  <a:pt x="22101" y="3026"/>
                </a:cubicBezTo>
                <a:cubicBezTo>
                  <a:pt x="22109" y="3034"/>
                  <a:pt x="22118" y="3043"/>
                  <a:pt x="22126" y="305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38960" y="615960"/>
            <a:ext cx="928800" cy="5153040"/>
          </a:xfrm>
          <a:custGeom>
            <a:avLst/>
            <a:gdLst/>
            <a:ahLst/>
            <a:rect l="l" t="t" r="r" b="b"/>
            <a:pathLst>
              <a:path w="2581" h="14313">
                <a:moveTo>
                  <a:pt x="20191" y="1761"/>
                </a:moveTo>
                <a:cubicBezTo>
                  <a:pt x="20332" y="1737"/>
                  <a:pt x="20373" y="1731"/>
                  <a:pt x="20464" y="1712"/>
                </a:cubicBezTo>
              </a:path>
              <a:path w="2581" h="14313">
                <a:moveTo>
                  <a:pt x="20141" y="2034"/>
                </a:moveTo>
                <a:cubicBezTo>
                  <a:pt x="20191" y="2034"/>
                  <a:pt x="20240" y="2034"/>
                  <a:pt x="20290" y="2034"/>
                </a:cubicBezTo>
              </a:path>
              <a:path w="2581" h="14313">
                <a:moveTo>
                  <a:pt x="18728" y="9277"/>
                </a:moveTo>
                <a:cubicBezTo>
                  <a:pt x="18756" y="9410"/>
                  <a:pt x="18764" y="9540"/>
                  <a:pt x="18802" y="9674"/>
                </a:cubicBezTo>
              </a:path>
              <a:path w="2581" h="14313">
                <a:moveTo>
                  <a:pt x="18752" y="9004"/>
                </a:moveTo>
                <a:cubicBezTo>
                  <a:pt x="18989" y="9128"/>
                  <a:pt x="19134" y="9272"/>
                  <a:pt x="19100" y="9575"/>
                </a:cubicBezTo>
                <a:cubicBezTo>
                  <a:pt x="19058" y="9719"/>
                  <a:pt x="19058" y="9752"/>
                  <a:pt x="19000" y="9823"/>
                </a:cubicBezTo>
              </a:path>
              <a:path w="2581" h="14313">
                <a:moveTo>
                  <a:pt x="17909" y="15280"/>
                </a:moveTo>
                <a:cubicBezTo>
                  <a:pt x="17921" y="15424"/>
                  <a:pt x="17940" y="15537"/>
                  <a:pt x="17983" y="15677"/>
                </a:cubicBezTo>
              </a:path>
              <a:path w="2581" h="14313">
                <a:moveTo>
                  <a:pt x="17884" y="14932"/>
                </a:moveTo>
                <a:cubicBezTo>
                  <a:pt x="18208" y="15176"/>
                  <a:pt x="18380" y="15374"/>
                  <a:pt x="18231" y="15801"/>
                </a:cubicBezTo>
                <a:cubicBezTo>
                  <a:pt x="18190" y="15875"/>
                  <a:pt x="18148" y="15950"/>
                  <a:pt x="18107" y="1602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3160" y="2394000"/>
            <a:ext cx="2259000" cy="330120"/>
          </a:xfrm>
          <a:custGeom>
            <a:avLst/>
            <a:gdLst/>
            <a:ahLst/>
            <a:rect l="l" t="t" r="r" b="b"/>
            <a:pathLst>
              <a:path w="6277" h="918">
                <a:moveTo>
                  <a:pt x="15230" y="7441"/>
                </a:moveTo>
                <a:cubicBezTo>
                  <a:pt x="15312" y="7405"/>
                  <a:pt x="15394" y="7372"/>
                  <a:pt x="15478" y="7342"/>
                </a:cubicBezTo>
              </a:path>
              <a:path w="6277" h="918">
                <a:moveTo>
                  <a:pt x="16396" y="7193"/>
                </a:moveTo>
                <a:cubicBezTo>
                  <a:pt x="16486" y="7171"/>
                  <a:pt x="16510" y="7163"/>
                  <a:pt x="16570" y="7169"/>
                </a:cubicBezTo>
              </a:path>
              <a:path w="6277" h="918">
                <a:moveTo>
                  <a:pt x="16470" y="7317"/>
                </a:moveTo>
                <a:cubicBezTo>
                  <a:pt x="16503" y="7317"/>
                  <a:pt x="16537" y="7317"/>
                  <a:pt x="16570" y="7317"/>
                </a:cubicBezTo>
              </a:path>
              <a:path w="6277" h="918">
                <a:moveTo>
                  <a:pt x="17859" y="6796"/>
                </a:moveTo>
                <a:cubicBezTo>
                  <a:pt x="17824" y="7065"/>
                  <a:pt x="17798" y="7204"/>
                  <a:pt x="17934" y="7441"/>
                </a:cubicBezTo>
              </a:path>
              <a:path w="6277" h="918">
                <a:moveTo>
                  <a:pt x="18058" y="6896"/>
                </a:moveTo>
                <a:cubicBezTo>
                  <a:pt x="18109" y="7048"/>
                  <a:pt x="18146" y="7183"/>
                  <a:pt x="18157" y="7342"/>
                </a:cubicBezTo>
              </a:path>
              <a:path w="6277" h="918">
                <a:moveTo>
                  <a:pt x="18455" y="6648"/>
                </a:moveTo>
                <a:cubicBezTo>
                  <a:pt x="18648" y="6762"/>
                  <a:pt x="18934" y="6943"/>
                  <a:pt x="18901" y="7218"/>
                </a:cubicBezTo>
                <a:cubicBezTo>
                  <a:pt x="18876" y="7268"/>
                  <a:pt x="18852" y="7317"/>
                  <a:pt x="18827" y="7367"/>
                </a:cubicBezTo>
              </a:path>
              <a:path w="6277" h="918">
                <a:moveTo>
                  <a:pt x="19174" y="7441"/>
                </a:moveTo>
                <a:cubicBezTo>
                  <a:pt x="19274" y="7421"/>
                  <a:pt x="19375" y="7381"/>
                  <a:pt x="19472" y="7342"/>
                </a:cubicBezTo>
              </a:path>
              <a:path w="6277" h="918">
                <a:moveTo>
                  <a:pt x="19298" y="7565"/>
                </a:moveTo>
                <a:cubicBezTo>
                  <a:pt x="19384" y="7544"/>
                  <a:pt x="19464" y="7524"/>
                  <a:pt x="19546" y="7491"/>
                </a:cubicBezTo>
              </a:path>
              <a:path w="6277" h="918">
                <a:moveTo>
                  <a:pt x="20762" y="6722"/>
                </a:moveTo>
                <a:cubicBezTo>
                  <a:pt x="20802" y="6866"/>
                  <a:pt x="20811" y="6896"/>
                  <a:pt x="20960" y="6921"/>
                </a:cubicBezTo>
              </a:path>
              <a:path w="6277" h="918">
                <a:moveTo>
                  <a:pt x="21208" y="7342"/>
                </a:moveTo>
                <a:cubicBezTo>
                  <a:pt x="21313" y="7316"/>
                  <a:pt x="21399" y="7299"/>
                  <a:pt x="21506" y="7293"/>
                </a:cubicBezTo>
              </a:path>
              <a:path w="6277" h="918">
                <a:moveTo>
                  <a:pt x="21208" y="7441"/>
                </a:moveTo>
                <a:cubicBezTo>
                  <a:pt x="21333" y="7441"/>
                  <a:pt x="21375" y="7441"/>
                  <a:pt x="21456" y="741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46800" y="2455920"/>
            <a:ext cx="144360" cy="312840"/>
          </a:xfrm>
          <a:custGeom>
            <a:avLst/>
            <a:gdLst/>
            <a:ahLst/>
            <a:rect l="l" t="t" r="r" b="b"/>
            <a:pathLst>
              <a:path w="398" h="869">
                <a:moveTo>
                  <a:pt x="15379" y="7020"/>
                </a:moveTo>
                <a:cubicBezTo>
                  <a:pt x="15298" y="7244"/>
                  <a:pt x="15216" y="7468"/>
                  <a:pt x="15131" y="7689"/>
                </a:cubicBezTo>
                <a:cubicBezTo>
                  <a:pt x="15170" y="7514"/>
                  <a:pt x="15250" y="7323"/>
                  <a:pt x="15304" y="7144"/>
                </a:cubicBezTo>
                <a:cubicBezTo>
                  <a:pt x="15335" y="7041"/>
                  <a:pt x="15378" y="6924"/>
                  <a:pt x="15404" y="6821"/>
                </a:cubicBezTo>
                <a:cubicBezTo>
                  <a:pt x="15503" y="7050"/>
                  <a:pt x="15524" y="7262"/>
                  <a:pt x="15528" y="7516"/>
                </a:cubicBezTo>
                <a:cubicBezTo>
                  <a:pt x="15528" y="7566"/>
                  <a:pt x="15528" y="7615"/>
                  <a:pt x="15528" y="766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0120" y="2482920"/>
            <a:ext cx="142920" cy="1602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17165" y="6970"/>
                </a:moveTo>
                <a:cubicBezTo>
                  <a:pt x="17264" y="6925"/>
                  <a:pt x="17333" y="6908"/>
                  <a:pt x="17438" y="6896"/>
                </a:cubicBezTo>
                <a:cubicBezTo>
                  <a:pt x="17415" y="7101"/>
                  <a:pt x="17327" y="7172"/>
                  <a:pt x="17190" y="7317"/>
                </a:cubicBezTo>
                <a:cubicBezTo>
                  <a:pt x="17318" y="7339"/>
                  <a:pt x="17435" y="7314"/>
                  <a:pt x="17562" y="726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9800" y="2500200"/>
            <a:ext cx="98280" cy="12564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8306" y="6970"/>
                </a:moveTo>
                <a:cubicBezTo>
                  <a:pt x="18409" y="6953"/>
                  <a:pt x="18454" y="6955"/>
                  <a:pt x="18554" y="6995"/>
                </a:cubicBezTo>
                <a:cubicBezTo>
                  <a:pt x="18520" y="7151"/>
                  <a:pt x="18470" y="7208"/>
                  <a:pt x="18331" y="7293"/>
                </a:cubicBezTo>
                <a:cubicBezTo>
                  <a:pt x="18414" y="7293"/>
                  <a:pt x="18496" y="7293"/>
                  <a:pt x="18579" y="729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15120" y="2357280"/>
            <a:ext cx="374760" cy="517680"/>
          </a:xfrm>
          <a:custGeom>
            <a:avLst/>
            <a:gdLst/>
            <a:ahLst/>
            <a:rect l="l" t="t" r="r" b="b"/>
            <a:pathLst>
              <a:path w="1043" h="1440">
                <a:moveTo>
                  <a:pt x="20340" y="6747"/>
                </a:moveTo>
                <a:cubicBezTo>
                  <a:pt x="20375" y="6712"/>
                  <a:pt x="20397" y="6699"/>
                  <a:pt x="20439" y="6697"/>
                </a:cubicBezTo>
                <a:cubicBezTo>
                  <a:pt x="20563" y="6797"/>
                  <a:pt x="20589" y="6980"/>
                  <a:pt x="20414" y="7094"/>
                </a:cubicBezTo>
                <a:cubicBezTo>
                  <a:pt x="20314" y="7159"/>
                  <a:pt x="20254" y="7172"/>
                  <a:pt x="20216" y="7094"/>
                </a:cubicBezTo>
                <a:cubicBezTo>
                  <a:pt x="20330" y="7041"/>
                  <a:pt x="20444" y="6977"/>
                  <a:pt x="20538" y="7069"/>
                </a:cubicBezTo>
              </a:path>
              <a:path w="1043" h="1440">
                <a:moveTo>
                  <a:pt x="20985" y="6548"/>
                </a:moveTo>
                <a:cubicBezTo>
                  <a:pt x="21002" y="6724"/>
                  <a:pt x="21010" y="6892"/>
                  <a:pt x="21010" y="7069"/>
                </a:cubicBezTo>
              </a:path>
              <a:path w="1043" h="1440">
                <a:moveTo>
                  <a:pt x="20042" y="7293"/>
                </a:moveTo>
                <a:cubicBezTo>
                  <a:pt x="20348" y="7249"/>
                  <a:pt x="20654" y="7247"/>
                  <a:pt x="20960" y="7218"/>
                </a:cubicBezTo>
                <a:cubicBezTo>
                  <a:pt x="21001" y="7210"/>
                  <a:pt x="21043" y="7201"/>
                  <a:pt x="21084" y="7193"/>
                </a:cubicBezTo>
              </a:path>
              <a:path w="1043" h="1440">
                <a:moveTo>
                  <a:pt x="20439" y="7541"/>
                </a:moveTo>
                <a:cubicBezTo>
                  <a:pt x="20627" y="7503"/>
                  <a:pt x="20823" y="7526"/>
                  <a:pt x="20762" y="7789"/>
                </a:cubicBezTo>
                <a:cubicBezTo>
                  <a:pt x="20734" y="7912"/>
                  <a:pt x="20484" y="8105"/>
                  <a:pt x="20414" y="7913"/>
                </a:cubicBezTo>
                <a:cubicBezTo>
                  <a:pt x="20414" y="7888"/>
                  <a:pt x="20414" y="7863"/>
                  <a:pt x="20414" y="7838"/>
                </a:cubicBezTo>
                <a:cubicBezTo>
                  <a:pt x="20567" y="7824"/>
                  <a:pt x="20640" y="7835"/>
                  <a:pt x="20786" y="788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12080" y="2455920"/>
            <a:ext cx="652320" cy="312840"/>
          </a:xfrm>
          <a:custGeom>
            <a:avLst/>
            <a:gdLst/>
            <a:ahLst/>
            <a:rect l="l" t="t" r="r" b="b"/>
            <a:pathLst>
              <a:path w="1812" h="869">
                <a:moveTo>
                  <a:pt x="21977" y="7020"/>
                </a:moveTo>
                <a:cubicBezTo>
                  <a:pt x="22012" y="7205"/>
                  <a:pt x="22025" y="7425"/>
                  <a:pt x="22002" y="7615"/>
                </a:cubicBezTo>
                <a:cubicBezTo>
                  <a:pt x="21994" y="7640"/>
                  <a:pt x="21985" y="7664"/>
                  <a:pt x="21977" y="7689"/>
                </a:cubicBezTo>
              </a:path>
              <a:path w="1812" h="869">
                <a:moveTo>
                  <a:pt x="22250" y="7094"/>
                </a:moveTo>
                <a:cubicBezTo>
                  <a:pt x="22378" y="7026"/>
                  <a:pt x="22493" y="6967"/>
                  <a:pt x="22572" y="7144"/>
                </a:cubicBezTo>
                <a:cubicBezTo>
                  <a:pt x="22655" y="7330"/>
                  <a:pt x="22523" y="7538"/>
                  <a:pt x="22324" y="7565"/>
                </a:cubicBezTo>
                <a:cubicBezTo>
                  <a:pt x="22212" y="7543"/>
                  <a:pt x="22177" y="7546"/>
                  <a:pt x="22151" y="7466"/>
                </a:cubicBezTo>
                <a:cubicBezTo>
                  <a:pt x="22225" y="7362"/>
                  <a:pt x="22296" y="7346"/>
                  <a:pt x="22423" y="7367"/>
                </a:cubicBezTo>
                <a:cubicBezTo>
                  <a:pt x="22549" y="7388"/>
                  <a:pt x="22604" y="7464"/>
                  <a:pt x="22671" y="7565"/>
                </a:cubicBezTo>
              </a:path>
              <a:path w="1812" h="869">
                <a:moveTo>
                  <a:pt x="22920" y="7317"/>
                </a:moveTo>
                <a:cubicBezTo>
                  <a:pt x="22920" y="7383"/>
                  <a:pt x="22920" y="7450"/>
                  <a:pt x="22920" y="7516"/>
                </a:cubicBezTo>
                <a:cubicBezTo>
                  <a:pt x="22913" y="7467"/>
                  <a:pt x="22891" y="7192"/>
                  <a:pt x="23044" y="7268"/>
                </a:cubicBezTo>
                <a:cubicBezTo>
                  <a:pt x="23119" y="7305"/>
                  <a:pt x="23148" y="7404"/>
                  <a:pt x="23192" y="7466"/>
                </a:cubicBezTo>
                <a:cubicBezTo>
                  <a:pt x="23192" y="7426"/>
                  <a:pt x="23167" y="7220"/>
                  <a:pt x="23267" y="7243"/>
                </a:cubicBezTo>
                <a:cubicBezTo>
                  <a:pt x="23385" y="7270"/>
                  <a:pt x="23450" y="7420"/>
                  <a:pt x="23490" y="7516"/>
                </a:cubicBezTo>
              </a:path>
              <a:path w="1812" h="869">
                <a:moveTo>
                  <a:pt x="23540" y="6896"/>
                </a:moveTo>
                <a:cubicBezTo>
                  <a:pt x="23605" y="6852"/>
                  <a:pt x="23619" y="6841"/>
                  <a:pt x="23664" y="6821"/>
                </a:cubicBezTo>
                <a:cubicBezTo>
                  <a:pt x="23673" y="6933"/>
                  <a:pt x="23668" y="6931"/>
                  <a:pt x="23589" y="7020"/>
                </a:cubicBezTo>
                <a:cubicBezTo>
                  <a:pt x="23671" y="7034"/>
                  <a:pt x="23706" y="7029"/>
                  <a:pt x="23788" y="702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99080" y="2714760"/>
            <a:ext cx="142920" cy="152280"/>
          </a:xfrm>
          <a:custGeom>
            <a:avLst/>
            <a:gdLst/>
            <a:ahLst/>
            <a:rect l="l" t="t" r="r" b="b"/>
            <a:pathLst>
              <a:path w="397" h="422">
                <a:moveTo>
                  <a:pt x="15701" y="7541"/>
                </a:moveTo>
                <a:cubicBezTo>
                  <a:pt x="15694" y="7680"/>
                  <a:pt x="15671" y="7781"/>
                  <a:pt x="15627" y="7913"/>
                </a:cubicBezTo>
                <a:cubicBezTo>
                  <a:pt x="15646" y="7912"/>
                  <a:pt x="15642" y="7687"/>
                  <a:pt x="15726" y="7565"/>
                </a:cubicBezTo>
                <a:cubicBezTo>
                  <a:pt x="15743" y="7557"/>
                  <a:pt x="15759" y="7549"/>
                  <a:pt x="15776" y="7541"/>
                </a:cubicBezTo>
                <a:cubicBezTo>
                  <a:pt x="15884" y="7647"/>
                  <a:pt x="15927" y="7735"/>
                  <a:pt x="15949" y="7888"/>
                </a:cubicBezTo>
                <a:cubicBezTo>
                  <a:pt x="15969" y="8029"/>
                  <a:pt x="15724" y="7962"/>
                  <a:pt x="15627" y="7962"/>
                </a:cubicBezTo>
                <a:cubicBezTo>
                  <a:pt x="15602" y="7962"/>
                  <a:pt x="15578" y="7962"/>
                  <a:pt x="15553" y="796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30960" y="3276720"/>
            <a:ext cx="420840" cy="241200"/>
          </a:xfrm>
          <a:custGeom>
            <a:avLst/>
            <a:gdLst/>
            <a:ahLst/>
            <a:rect l="l" t="t" r="r" b="b"/>
            <a:pathLst>
              <a:path w="1166" h="671">
                <a:moveTo>
                  <a:pt x="17835" y="9252"/>
                </a:moveTo>
                <a:cubicBezTo>
                  <a:pt x="17695" y="9252"/>
                  <a:pt x="17684" y="9246"/>
                  <a:pt x="17611" y="9376"/>
                </a:cubicBezTo>
                <a:cubicBezTo>
                  <a:pt x="17603" y="9393"/>
                  <a:pt x="17595" y="9409"/>
                  <a:pt x="17587" y="9426"/>
                </a:cubicBezTo>
                <a:cubicBezTo>
                  <a:pt x="17672" y="9445"/>
                  <a:pt x="17771" y="9386"/>
                  <a:pt x="17835" y="9475"/>
                </a:cubicBezTo>
                <a:cubicBezTo>
                  <a:pt x="17947" y="9629"/>
                  <a:pt x="17860" y="9703"/>
                  <a:pt x="17711" y="9748"/>
                </a:cubicBezTo>
                <a:cubicBezTo>
                  <a:pt x="17703" y="9748"/>
                  <a:pt x="17694" y="9748"/>
                  <a:pt x="17686" y="9748"/>
                </a:cubicBezTo>
              </a:path>
              <a:path w="1166" h="671">
                <a:moveTo>
                  <a:pt x="18331" y="9103"/>
                </a:moveTo>
                <a:cubicBezTo>
                  <a:pt x="18272" y="9327"/>
                  <a:pt x="18207" y="9496"/>
                  <a:pt x="18281" y="9723"/>
                </a:cubicBezTo>
                <a:cubicBezTo>
                  <a:pt x="18306" y="9748"/>
                  <a:pt x="18314" y="9756"/>
                  <a:pt x="18331" y="9773"/>
                </a:cubicBezTo>
              </a:path>
              <a:path w="1166" h="671">
                <a:moveTo>
                  <a:pt x="18479" y="9376"/>
                </a:moveTo>
                <a:cubicBezTo>
                  <a:pt x="18553" y="9511"/>
                  <a:pt x="18598" y="9500"/>
                  <a:pt x="18752" y="950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24760" y="2697120"/>
            <a:ext cx="482400" cy="268200"/>
          </a:xfrm>
          <a:custGeom>
            <a:avLst/>
            <a:gdLst/>
            <a:ahLst/>
            <a:rect l="l" t="t" r="r" b="b"/>
            <a:pathLst>
              <a:path w="1340" h="745">
                <a:moveTo>
                  <a:pt x="17289" y="7615"/>
                </a:moveTo>
                <a:cubicBezTo>
                  <a:pt x="17691" y="7592"/>
                  <a:pt x="18102" y="7562"/>
                  <a:pt x="18504" y="7516"/>
                </a:cubicBezTo>
                <a:cubicBezTo>
                  <a:pt x="18545" y="7508"/>
                  <a:pt x="18587" y="7499"/>
                  <a:pt x="18628" y="7491"/>
                </a:cubicBezTo>
              </a:path>
              <a:path w="1340" h="745">
                <a:moveTo>
                  <a:pt x="17760" y="7888"/>
                </a:moveTo>
                <a:cubicBezTo>
                  <a:pt x="17864" y="7796"/>
                  <a:pt x="17921" y="7764"/>
                  <a:pt x="18058" y="7789"/>
                </a:cubicBezTo>
                <a:cubicBezTo>
                  <a:pt x="18075" y="8020"/>
                  <a:pt x="17936" y="8030"/>
                  <a:pt x="17785" y="8186"/>
                </a:cubicBezTo>
                <a:cubicBezTo>
                  <a:pt x="17777" y="8202"/>
                  <a:pt x="17768" y="8219"/>
                  <a:pt x="17760" y="8235"/>
                </a:cubicBezTo>
                <a:cubicBezTo>
                  <a:pt x="17916" y="8194"/>
                  <a:pt x="18070" y="8171"/>
                  <a:pt x="18231" y="816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84920" y="3500280"/>
            <a:ext cx="366480" cy="152640"/>
          </a:xfrm>
          <a:custGeom>
            <a:avLst/>
            <a:gdLst/>
            <a:ahLst/>
            <a:rect l="l" t="t" r="r" b="b"/>
            <a:pathLst>
              <a:path w="1018" h="423">
                <a:moveTo>
                  <a:pt x="16371" y="10046"/>
                </a:moveTo>
                <a:cubicBezTo>
                  <a:pt x="16436" y="10024"/>
                  <a:pt x="16451" y="10016"/>
                  <a:pt x="16495" y="10021"/>
                </a:cubicBezTo>
              </a:path>
              <a:path w="1018" h="423">
                <a:moveTo>
                  <a:pt x="16346" y="10145"/>
                </a:moveTo>
                <a:cubicBezTo>
                  <a:pt x="16389" y="10145"/>
                  <a:pt x="16414" y="10139"/>
                  <a:pt x="16446" y="10120"/>
                </a:cubicBezTo>
              </a:path>
              <a:path w="1018" h="423">
                <a:moveTo>
                  <a:pt x="17363" y="9723"/>
                </a:moveTo>
                <a:lnTo>
                  <a:pt x="17363" y="9723"/>
                </a:lnTo>
              </a:path>
              <a:path w="1018" h="423">
                <a:moveTo>
                  <a:pt x="17115" y="10021"/>
                </a:moveTo>
                <a:lnTo>
                  <a:pt x="17115" y="10021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75160" y="3456000"/>
            <a:ext cx="376200" cy="384120"/>
          </a:xfrm>
          <a:custGeom>
            <a:avLst/>
            <a:gdLst/>
            <a:ahLst/>
            <a:rect l="l" t="t" r="r" b="b"/>
            <a:pathLst>
              <a:path w="1043" h="1068">
                <a:moveTo>
                  <a:pt x="15205" y="9798"/>
                </a:moveTo>
                <a:cubicBezTo>
                  <a:pt x="15136" y="10056"/>
                  <a:pt x="15059" y="10255"/>
                  <a:pt x="14932" y="10492"/>
                </a:cubicBezTo>
                <a:cubicBezTo>
                  <a:pt x="15014" y="10185"/>
                  <a:pt x="15093" y="9912"/>
                  <a:pt x="15280" y="9649"/>
                </a:cubicBezTo>
                <a:cubicBezTo>
                  <a:pt x="15296" y="9632"/>
                  <a:pt x="15313" y="9616"/>
                  <a:pt x="15329" y="9599"/>
                </a:cubicBezTo>
                <a:cubicBezTo>
                  <a:pt x="15389" y="9861"/>
                  <a:pt x="15445" y="10146"/>
                  <a:pt x="15404" y="10418"/>
                </a:cubicBezTo>
                <a:cubicBezTo>
                  <a:pt x="15396" y="10426"/>
                  <a:pt x="15387" y="10435"/>
                  <a:pt x="15379" y="10443"/>
                </a:cubicBezTo>
              </a:path>
              <a:path w="1043" h="1068">
                <a:moveTo>
                  <a:pt x="15081" y="10344"/>
                </a:moveTo>
                <a:cubicBezTo>
                  <a:pt x="15186" y="10306"/>
                  <a:pt x="15270" y="10282"/>
                  <a:pt x="15379" y="10269"/>
                </a:cubicBezTo>
              </a:path>
              <a:path w="1043" h="1068">
                <a:moveTo>
                  <a:pt x="15701" y="10344"/>
                </a:moveTo>
                <a:cubicBezTo>
                  <a:pt x="15670" y="10483"/>
                  <a:pt x="15651" y="10547"/>
                  <a:pt x="15577" y="10666"/>
                </a:cubicBezTo>
                <a:cubicBezTo>
                  <a:pt x="15651" y="10534"/>
                  <a:pt x="15727" y="10410"/>
                  <a:pt x="15825" y="10294"/>
                </a:cubicBezTo>
                <a:cubicBezTo>
                  <a:pt x="15950" y="10475"/>
                  <a:pt x="16060" y="10523"/>
                  <a:pt x="15801" y="10567"/>
                </a:cubicBezTo>
                <a:cubicBezTo>
                  <a:pt x="15652" y="10586"/>
                  <a:pt x="15636" y="10594"/>
                  <a:pt x="15553" y="1059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70760" y="3313080"/>
            <a:ext cx="2411280" cy="527040"/>
          </a:xfrm>
          <a:custGeom>
            <a:avLst/>
            <a:gdLst/>
            <a:ahLst/>
            <a:rect l="l" t="t" r="r" b="b"/>
            <a:pathLst>
              <a:path w="6698" h="1464">
                <a:moveTo>
                  <a:pt x="17190" y="9376"/>
                </a:moveTo>
                <a:cubicBezTo>
                  <a:pt x="17166" y="9516"/>
                  <a:pt x="17165" y="9653"/>
                  <a:pt x="17165" y="9798"/>
                </a:cubicBezTo>
                <a:cubicBezTo>
                  <a:pt x="17165" y="9806"/>
                  <a:pt x="17165" y="9815"/>
                  <a:pt x="17165" y="9823"/>
                </a:cubicBezTo>
              </a:path>
              <a:path w="6698" h="1464">
                <a:moveTo>
                  <a:pt x="17140" y="9996"/>
                </a:moveTo>
                <a:cubicBezTo>
                  <a:pt x="17319" y="10101"/>
                  <a:pt x="17548" y="10062"/>
                  <a:pt x="17760" y="10046"/>
                </a:cubicBezTo>
                <a:cubicBezTo>
                  <a:pt x="18025" y="10026"/>
                  <a:pt x="18289" y="9986"/>
                  <a:pt x="18554" y="9971"/>
                </a:cubicBezTo>
                <a:cubicBezTo>
                  <a:pt x="18703" y="9963"/>
                  <a:pt x="18852" y="9953"/>
                  <a:pt x="19000" y="9947"/>
                </a:cubicBezTo>
                <a:cubicBezTo>
                  <a:pt x="19017" y="9947"/>
                  <a:pt x="19033" y="9947"/>
                  <a:pt x="19050" y="9947"/>
                </a:cubicBezTo>
              </a:path>
              <a:path w="6698" h="1464">
                <a:moveTo>
                  <a:pt x="17661" y="10368"/>
                </a:moveTo>
                <a:cubicBezTo>
                  <a:pt x="17766" y="10323"/>
                  <a:pt x="17845" y="10319"/>
                  <a:pt x="17959" y="10319"/>
                </a:cubicBezTo>
                <a:cubicBezTo>
                  <a:pt x="17883" y="10480"/>
                  <a:pt x="17750" y="10544"/>
                  <a:pt x="17611" y="10666"/>
                </a:cubicBezTo>
                <a:cubicBezTo>
                  <a:pt x="17771" y="10655"/>
                  <a:pt x="17926" y="10626"/>
                  <a:pt x="18083" y="10592"/>
                </a:cubicBezTo>
              </a:path>
              <a:path w="6698" h="1464">
                <a:moveTo>
                  <a:pt x="19174" y="10096"/>
                </a:moveTo>
                <a:cubicBezTo>
                  <a:pt x="19259" y="10086"/>
                  <a:pt x="19333" y="10071"/>
                  <a:pt x="19422" y="10071"/>
                </a:cubicBezTo>
              </a:path>
              <a:path w="6698" h="1464">
                <a:moveTo>
                  <a:pt x="19199" y="10195"/>
                </a:moveTo>
                <a:cubicBezTo>
                  <a:pt x="19249" y="10195"/>
                  <a:pt x="19298" y="10195"/>
                  <a:pt x="19348" y="10195"/>
                </a:cubicBezTo>
              </a:path>
              <a:path w="6698" h="1464">
                <a:moveTo>
                  <a:pt x="20241" y="9203"/>
                </a:moveTo>
                <a:cubicBezTo>
                  <a:pt x="20215" y="9356"/>
                  <a:pt x="20158" y="9542"/>
                  <a:pt x="20191" y="9699"/>
                </a:cubicBezTo>
                <a:cubicBezTo>
                  <a:pt x="20217" y="9824"/>
                  <a:pt x="20410" y="9767"/>
                  <a:pt x="20489" y="9748"/>
                </a:cubicBezTo>
                <a:cubicBezTo>
                  <a:pt x="20612" y="9718"/>
                  <a:pt x="20579" y="9713"/>
                  <a:pt x="20638" y="9624"/>
                </a:cubicBezTo>
                <a:cubicBezTo>
                  <a:pt x="20545" y="9532"/>
                  <a:pt x="20462" y="9517"/>
                  <a:pt x="20365" y="9649"/>
                </a:cubicBezTo>
                <a:cubicBezTo>
                  <a:pt x="20328" y="9722"/>
                  <a:pt x="20311" y="9727"/>
                  <a:pt x="20315" y="9773"/>
                </a:cubicBezTo>
              </a:path>
              <a:path w="6698" h="1464">
                <a:moveTo>
                  <a:pt x="19943" y="9971"/>
                </a:moveTo>
                <a:cubicBezTo>
                  <a:pt x="20127" y="9971"/>
                  <a:pt x="20305" y="9933"/>
                  <a:pt x="20489" y="9922"/>
                </a:cubicBezTo>
                <a:cubicBezTo>
                  <a:pt x="20605" y="9922"/>
                  <a:pt x="20621" y="9922"/>
                  <a:pt x="20687" y="9922"/>
                </a:cubicBezTo>
              </a:path>
              <a:path w="6698" h="1464">
                <a:moveTo>
                  <a:pt x="20191" y="10195"/>
                </a:moveTo>
                <a:cubicBezTo>
                  <a:pt x="20294" y="10195"/>
                  <a:pt x="20348" y="10179"/>
                  <a:pt x="20414" y="10244"/>
                </a:cubicBezTo>
                <a:cubicBezTo>
                  <a:pt x="20518" y="10348"/>
                  <a:pt x="20409" y="10462"/>
                  <a:pt x="20290" y="10492"/>
                </a:cubicBezTo>
                <a:cubicBezTo>
                  <a:pt x="20189" y="10517"/>
                  <a:pt x="20128" y="10497"/>
                  <a:pt x="20092" y="10443"/>
                </a:cubicBezTo>
                <a:cubicBezTo>
                  <a:pt x="20186" y="10389"/>
                  <a:pt x="20229" y="10386"/>
                  <a:pt x="20340" y="10418"/>
                </a:cubicBezTo>
                <a:cubicBezTo>
                  <a:pt x="20407" y="10441"/>
                  <a:pt x="20428" y="10442"/>
                  <a:pt x="20439" y="10492"/>
                </a:cubicBezTo>
              </a:path>
              <a:path w="6698" h="1464">
                <a:moveTo>
                  <a:pt x="21010" y="9971"/>
                </a:moveTo>
                <a:cubicBezTo>
                  <a:pt x="21057" y="9951"/>
                  <a:pt x="21098" y="9947"/>
                  <a:pt x="21158" y="9947"/>
                </a:cubicBezTo>
              </a:path>
              <a:path w="6698" h="1464">
                <a:moveTo>
                  <a:pt x="20960" y="10071"/>
                </a:moveTo>
                <a:cubicBezTo>
                  <a:pt x="21026" y="10071"/>
                  <a:pt x="21092" y="10071"/>
                  <a:pt x="21158" y="10071"/>
                </a:cubicBezTo>
              </a:path>
              <a:path w="6698" h="1464">
                <a:moveTo>
                  <a:pt x="21729" y="9798"/>
                </a:moveTo>
                <a:cubicBezTo>
                  <a:pt x="21819" y="9745"/>
                  <a:pt x="21974" y="9635"/>
                  <a:pt x="22002" y="9823"/>
                </a:cubicBezTo>
                <a:cubicBezTo>
                  <a:pt x="22016" y="9916"/>
                  <a:pt x="21885" y="9978"/>
                  <a:pt x="21828" y="10021"/>
                </a:cubicBezTo>
                <a:cubicBezTo>
                  <a:pt x="21928" y="10010"/>
                  <a:pt x="22101" y="9976"/>
                  <a:pt x="22101" y="10145"/>
                </a:cubicBezTo>
                <a:cubicBezTo>
                  <a:pt x="22101" y="10347"/>
                  <a:pt x="21913" y="10323"/>
                  <a:pt x="21779" y="10319"/>
                </a:cubicBezTo>
                <a:cubicBezTo>
                  <a:pt x="21754" y="10319"/>
                  <a:pt x="21729" y="10319"/>
                  <a:pt x="21704" y="10319"/>
                </a:cubicBezTo>
              </a:path>
              <a:path w="6698" h="1464">
                <a:moveTo>
                  <a:pt x="22448" y="10021"/>
                </a:moveTo>
                <a:cubicBezTo>
                  <a:pt x="22426" y="9956"/>
                  <a:pt x="22427" y="9932"/>
                  <a:pt x="22374" y="9947"/>
                </a:cubicBezTo>
                <a:cubicBezTo>
                  <a:pt x="22296" y="9986"/>
                  <a:pt x="22176" y="10089"/>
                  <a:pt x="22250" y="10195"/>
                </a:cubicBezTo>
                <a:cubicBezTo>
                  <a:pt x="22312" y="10284"/>
                  <a:pt x="22418" y="10235"/>
                  <a:pt x="22498" y="10220"/>
                </a:cubicBezTo>
              </a:path>
              <a:path w="6698" h="1464">
                <a:moveTo>
                  <a:pt x="22622" y="9947"/>
                </a:moveTo>
                <a:cubicBezTo>
                  <a:pt x="22683" y="10050"/>
                  <a:pt x="22690" y="10074"/>
                  <a:pt x="22746" y="10120"/>
                </a:cubicBezTo>
                <a:cubicBezTo>
                  <a:pt x="22746" y="10064"/>
                  <a:pt x="22723" y="9922"/>
                  <a:pt x="22820" y="9922"/>
                </a:cubicBezTo>
                <a:cubicBezTo>
                  <a:pt x="22940" y="9922"/>
                  <a:pt x="22963" y="10011"/>
                  <a:pt x="23019" y="10096"/>
                </a:cubicBezTo>
                <a:cubicBezTo>
                  <a:pt x="23004" y="10030"/>
                  <a:pt x="22994" y="9902"/>
                  <a:pt x="23118" y="9947"/>
                </a:cubicBezTo>
                <a:cubicBezTo>
                  <a:pt x="23224" y="9985"/>
                  <a:pt x="23227" y="10055"/>
                  <a:pt x="23242" y="10145"/>
                </a:cubicBezTo>
              </a:path>
              <a:path w="6698" h="1464">
                <a:moveTo>
                  <a:pt x="23465" y="9500"/>
                </a:moveTo>
                <a:cubicBezTo>
                  <a:pt x="23520" y="9494"/>
                  <a:pt x="23702" y="9433"/>
                  <a:pt x="23738" y="9475"/>
                </a:cubicBezTo>
                <a:cubicBezTo>
                  <a:pt x="23850" y="9604"/>
                  <a:pt x="23638" y="9749"/>
                  <a:pt x="23564" y="9823"/>
                </a:cubicBezTo>
                <a:cubicBezTo>
                  <a:pt x="23657" y="9816"/>
                  <a:pt x="23743" y="9798"/>
                  <a:pt x="23837" y="979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70720" y="4276800"/>
            <a:ext cx="2822400" cy="411120"/>
          </a:xfrm>
          <a:custGeom>
            <a:avLst/>
            <a:gdLst/>
            <a:ahLst/>
            <a:rect l="l" t="t" r="r" b="b"/>
            <a:pathLst>
              <a:path w="7839" h="1142">
                <a:moveTo>
                  <a:pt x="15751" y="12948"/>
                </a:moveTo>
                <a:cubicBezTo>
                  <a:pt x="15883" y="12926"/>
                  <a:pt x="15915" y="12918"/>
                  <a:pt x="15999" y="12923"/>
                </a:cubicBezTo>
              </a:path>
              <a:path w="7839" h="1142">
                <a:moveTo>
                  <a:pt x="17859" y="11881"/>
                </a:moveTo>
                <a:cubicBezTo>
                  <a:pt x="18065" y="12053"/>
                  <a:pt x="18335" y="12265"/>
                  <a:pt x="18231" y="12576"/>
                </a:cubicBezTo>
                <a:cubicBezTo>
                  <a:pt x="18146" y="12682"/>
                  <a:pt x="18133" y="12710"/>
                  <a:pt x="18058" y="12750"/>
                </a:cubicBezTo>
              </a:path>
              <a:path w="7839" h="1142">
                <a:moveTo>
                  <a:pt x="19819" y="12725"/>
                </a:moveTo>
                <a:cubicBezTo>
                  <a:pt x="20043" y="12694"/>
                  <a:pt x="20264" y="12643"/>
                  <a:pt x="20489" y="12626"/>
                </a:cubicBezTo>
              </a:path>
              <a:path w="7839" h="1142">
                <a:moveTo>
                  <a:pt x="20910" y="12675"/>
                </a:moveTo>
                <a:cubicBezTo>
                  <a:pt x="20955" y="12675"/>
                  <a:pt x="20968" y="12678"/>
                  <a:pt x="20985" y="12650"/>
                </a:cubicBezTo>
              </a:path>
              <a:path w="7839" h="1142">
                <a:moveTo>
                  <a:pt x="22771" y="12750"/>
                </a:moveTo>
                <a:cubicBezTo>
                  <a:pt x="22847" y="12840"/>
                  <a:pt x="22927" y="12928"/>
                  <a:pt x="22994" y="13022"/>
                </a:cubicBezTo>
              </a:path>
              <a:path w="7839" h="1142">
                <a:moveTo>
                  <a:pt x="23589" y="12774"/>
                </a:moveTo>
                <a:cubicBezTo>
                  <a:pt x="23522" y="12669"/>
                  <a:pt x="23356" y="12568"/>
                  <a:pt x="23217" y="12675"/>
                </a:cubicBezTo>
                <a:cubicBezTo>
                  <a:pt x="23129" y="12742"/>
                  <a:pt x="23127" y="13029"/>
                  <a:pt x="23292" y="12998"/>
                </a:cubicBezTo>
                <a:cubicBezTo>
                  <a:pt x="23341" y="12973"/>
                  <a:pt x="23391" y="12948"/>
                  <a:pt x="23440" y="1292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24320" y="4464000"/>
            <a:ext cx="527040" cy="385920"/>
          </a:xfrm>
          <a:custGeom>
            <a:avLst/>
            <a:gdLst/>
            <a:ahLst/>
            <a:rect l="l" t="t" r="r" b="b"/>
            <a:pathLst>
              <a:path w="1464" h="1068">
                <a:moveTo>
                  <a:pt x="14610" y="12626"/>
                </a:moveTo>
                <a:cubicBezTo>
                  <a:pt x="14583" y="12795"/>
                  <a:pt x="14552" y="12956"/>
                  <a:pt x="14511" y="13122"/>
                </a:cubicBezTo>
                <a:cubicBezTo>
                  <a:pt x="14529" y="12851"/>
                  <a:pt x="14584" y="12661"/>
                  <a:pt x="14734" y="12427"/>
                </a:cubicBezTo>
                <a:cubicBezTo>
                  <a:pt x="14742" y="12419"/>
                  <a:pt x="14751" y="12410"/>
                  <a:pt x="14759" y="12402"/>
                </a:cubicBezTo>
                <a:cubicBezTo>
                  <a:pt x="14863" y="12594"/>
                  <a:pt x="14892" y="12802"/>
                  <a:pt x="14908" y="13022"/>
                </a:cubicBezTo>
                <a:cubicBezTo>
                  <a:pt x="14908" y="13123"/>
                  <a:pt x="14918" y="13144"/>
                  <a:pt x="14883" y="13196"/>
                </a:cubicBezTo>
              </a:path>
              <a:path w="1464" h="1068">
                <a:moveTo>
                  <a:pt x="14560" y="12948"/>
                </a:moveTo>
                <a:cubicBezTo>
                  <a:pt x="14716" y="12922"/>
                  <a:pt x="14827" y="12908"/>
                  <a:pt x="14982" y="12923"/>
                </a:cubicBezTo>
              </a:path>
              <a:path w="1464" h="1068">
                <a:moveTo>
                  <a:pt x="15156" y="13221"/>
                </a:moveTo>
                <a:cubicBezTo>
                  <a:pt x="15134" y="13328"/>
                  <a:pt x="15126" y="13352"/>
                  <a:pt x="15131" y="13419"/>
                </a:cubicBezTo>
                <a:cubicBezTo>
                  <a:pt x="15135" y="13347"/>
                  <a:pt x="15127" y="13020"/>
                  <a:pt x="15205" y="12998"/>
                </a:cubicBezTo>
                <a:cubicBezTo>
                  <a:pt x="15222" y="13006"/>
                  <a:pt x="15238" y="13014"/>
                  <a:pt x="15255" y="13022"/>
                </a:cubicBezTo>
                <a:cubicBezTo>
                  <a:pt x="15267" y="13059"/>
                  <a:pt x="15393" y="13427"/>
                  <a:pt x="15354" y="13444"/>
                </a:cubicBezTo>
                <a:cubicBezTo>
                  <a:pt x="15244" y="13491"/>
                  <a:pt x="15055" y="13464"/>
                  <a:pt x="14932" y="13469"/>
                </a:cubicBezTo>
              </a:path>
              <a:path w="1464" h="1068">
                <a:moveTo>
                  <a:pt x="15701" y="12799"/>
                </a:moveTo>
                <a:cubicBezTo>
                  <a:pt x="15796" y="12799"/>
                  <a:pt x="15880" y="12786"/>
                  <a:pt x="15974" y="1277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27840" y="4303800"/>
            <a:ext cx="839520" cy="635040"/>
          </a:xfrm>
          <a:custGeom>
            <a:avLst/>
            <a:gdLst/>
            <a:ahLst/>
            <a:rect l="l" t="t" r="r" b="b"/>
            <a:pathLst>
              <a:path w="2333" h="1762">
                <a:moveTo>
                  <a:pt x="17041" y="12179"/>
                </a:moveTo>
                <a:cubicBezTo>
                  <a:pt x="16939" y="12220"/>
                  <a:pt x="16874" y="12198"/>
                  <a:pt x="16842" y="12303"/>
                </a:cubicBezTo>
                <a:cubicBezTo>
                  <a:pt x="16822" y="12385"/>
                  <a:pt x="16814" y="12401"/>
                  <a:pt x="16818" y="12452"/>
                </a:cubicBezTo>
                <a:cubicBezTo>
                  <a:pt x="16973" y="12417"/>
                  <a:pt x="16976" y="12394"/>
                  <a:pt x="17115" y="12502"/>
                </a:cubicBezTo>
                <a:cubicBezTo>
                  <a:pt x="17003" y="12683"/>
                  <a:pt x="16939" y="12708"/>
                  <a:pt x="16743" y="12650"/>
                </a:cubicBezTo>
              </a:path>
              <a:path w="2333" h="1762">
                <a:moveTo>
                  <a:pt x="17413" y="11956"/>
                </a:moveTo>
                <a:cubicBezTo>
                  <a:pt x="17326" y="12148"/>
                  <a:pt x="17188" y="12409"/>
                  <a:pt x="17289" y="12626"/>
                </a:cubicBezTo>
                <a:cubicBezTo>
                  <a:pt x="17363" y="12700"/>
                  <a:pt x="17372" y="12709"/>
                  <a:pt x="17413" y="12750"/>
                </a:cubicBezTo>
              </a:path>
              <a:path w="2333" h="1762">
                <a:moveTo>
                  <a:pt x="17810" y="12055"/>
                </a:moveTo>
                <a:cubicBezTo>
                  <a:pt x="17716" y="12108"/>
                  <a:pt x="17642" y="12157"/>
                  <a:pt x="17562" y="12229"/>
                </a:cubicBezTo>
                <a:cubicBezTo>
                  <a:pt x="17695" y="12326"/>
                  <a:pt x="17801" y="12351"/>
                  <a:pt x="17859" y="12502"/>
                </a:cubicBezTo>
                <a:cubicBezTo>
                  <a:pt x="17680" y="12539"/>
                  <a:pt x="17596" y="12536"/>
                  <a:pt x="17711" y="12328"/>
                </a:cubicBezTo>
                <a:cubicBezTo>
                  <a:pt x="17767" y="12253"/>
                  <a:pt x="17771" y="12240"/>
                  <a:pt x="17810" y="12204"/>
                </a:cubicBezTo>
              </a:path>
              <a:path w="2333" h="1762">
                <a:moveTo>
                  <a:pt x="16768" y="12948"/>
                </a:moveTo>
                <a:cubicBezTo>
                  <a:pt x="17057" y="12886"/>
                  <a:pt x="17413" y="12916"/>
                  <a:pt x="17711" y="12898"/>
                </a:cubicBezTo>
                <a:cubicBezTo>
                  <a:pt x="17895" y="12887"/>
                  <a:pt x="18126" y="12888"/>
                  <a:pt x="18306" y="12849"/>
                </a:cubicBezTo>
              </a:path>
              <a:path w="2333" h="1762">
                <a:moveTo>
                  <a:pt x="17289" y="13221"/>
                </a:moveTo>
                <a:cubicBezTo>
                  <a:pt x="17357" y="13152"/>
                  <a:pt x="17373" y="13130"/>
                  <a:pt x="17438" y="13122"/>
                </a:cubicBezTo>
                <a:cubicBezTo>
                  <a:pt x="17448" y="13348"/>
                  <a:pt x="17383" y="13497"/>
                  <a:pt x="17214" y="13667"/>
                </a:cubicBezTo>
                <a:cubicBezTo>
                  <a:pt x="17189" y="13684"/>
                  <a:pt x="17165" y="13700"/>
                  <a:pt x="17140" y="13717"/>
                </a:cubicBezTo>
                <a:cubicBezTo>
                  <a:pt x="17275" y="13665"/>
                  <a:pt x="17394" y="13612"/>
                  <a:pt x="17537" y="13593"/>
                </a:cubicBezTo>
              </a:path>
              <a:path w="2333" h="1762">
                <a:moveTo>
                  <a:pt x="18752" y="12898"/>
                </a:moveTo>
                <a:cubicBezTo>
                  <a:pt x="18837" y="12884"/>
                  <a:pt x="18912" y="12874"/>
                  <a:pt x="19000" y="12874"/>
                </a:cubicBezTo>
              </a:path>
              <a:path w="2333" h="1762">
                <a:moveTo>
                  <a:pt x="18777" y="13022"/>
                </a:moveTo>
                <a:cubicBezTo>
                  <a:pt x="18876" y="13022"/>
                  <a:pt x="18976" y="13022"/>
                  <a:pt x="19075" y="1302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34120" y="4321080"/>
            <a:ext cx="1554120" cy="474840"/>
          </a:xfrm>
          <a:custGeom>
            <a:avLst/>
            <a:gdLst/>
            <a:ahLst/>
            <a:rect l="l" t="t" r="r" b="b"/>
            <a:pathLst>
              <a:path w="4317" h="1316">
                <a:moveTo>
                  <a:pt x="19819" y="12204"/>
                </a:moveTo>
                <a:cubicBezTo>
                  <a:pt x="19819" y="12136"/>
                  <a:pt x="19822" y="12108"/>
                  <a:pt x="19869" y="12055"/>
                </a:cubicBezTo>
                <a:cubicBezTo>
                  <a:pt x="19877" y="12047"/>
                  <a:pt x="19885" y="12038"/>
                  <a:pt x="19893" y="12030"/>
                </a:cubicBezTo>
                <a:cubicBezTo>
                  <a:pt x="19872" y="12132"/>
                  <a:pt x="19850" y="12229"/>
                  <a:pt x="19819" y="12328"/>
                </a:cubicBezTo>
                <a:cubicBezTo>
                  <a:pt x="19936" y="12306"/>
                  <a:pt x="20051" y="12284"/>
                  <a:pt x="20166" y="12254"/>
                </a:cubicBezTo>
              </a:path>
              <a:path w="4317" h="1316">
                <a:moveTo>
                  <a:pt x="20141" y="12055"/>
                </a:moveTo>
                <a:cubicBezTo>
                  <a:pt x="20141" y="12217"/>
                  <a:pt x="20164" y="12383"/>
                  <a:pt x="20092" y="12526"/>
                </a:cubicBezTo>
              </a:path>
              <a:path w="4317" h="1316">
                <a:moveTo>
                  <a:pt x="20439" y="12005"/>
                </a:moveTo>
                <a:cubicBezTo>
                  <a:pt x="20364" y="12145"/>
                  <a:pt x="20234" y="12363"/>
                  <a:pt x="20315" y="12526"/>
                </a:cubicBezTo>
                <a:cubicBezTo>
                  <a:pt x="20340" y="12543"/>
                  <a:pt x="20364" y="12559"/>
                  <a:pt x="20389" y="12576"/>
                </a:cubicBezTo>
                <a:cubicBezTo>
                  <a:pt x="20539" y="12476"/>
                  <a:pt x="20738" y="12273"/>
                  <a:pt x="20538" y="12080"/>
                </a:cubicBezTo>
                <a:cubicBezTo>
                  <a:pt x="20505" y="12072"/>
                  <a:pt x="20472" y="12063"/>
                  <a:pt x="20439" y="12055"/>
                </a:cubicBezTo>
              </a:path>
              <a:path w="4317" h="1316">
                <a:moveTo>
                  <a:pt x="20067" y="12948"/>
                </a:moveTo>
                <a:cubicBezTo>
                  <a:pt x="20150" y="12932"/>
                  <a:pt x="20205" y="12923"/>
                  <a:pt x="20290" y="12923"/>
                </a:cubicBezTo>
                <a:cubicBezTo>
                  <a:pt x="20248" y="13092"/>
                  <a:pt x="20132" y="13175"/>
                  <a:pt x="20017" y="13320"/>
                </a:cubicBezTo>
                <a:cubicBezTo>
                  <a:pt x="20152" y="13312"/>
                  <a:pt x="20281" y="13284"/>
                  <a:pt x="20414" y="13271"/>
                </a:cubicBezTo>
              </a:path>
              <a:path w="4317" h="1316">
                <a:moveTo>
                  <a:pt x="20935" y="12799"/>
                </a:moveTo>
                <a:cubicBezTo>
                  <a:pt x="20993" y="12799"/>
                  <a:pt x="21018" y="12799"/>
                  <a:pt x="21059" y="12799"/>
                </a:cubicBezTo>
              </a:path>
              <a:path w="4317" h="1316">
                <a:moveTo>
                  <a:pt x="21506" y="12626"/>
                </a:moveTo>
                <a:cubicBezTo>
                  <a:pt x="21630" y="12539"/>
                  <a:pt x="21672" y="12502"/>
                  <a:pt x="21828" y="12502"/>
                </a:cubicBezTo>
                <a:cubicBezTo>
                  <a:pt x="21844" y="12741"/>
                  <a:pt x="21717" y="12849"/>
                  <a:pt x="21555" y="13022"/>
                </a:cubicBezTo>
                <a:cubicBezTo>
                  <a:pt x="21539" y="13039"/>
                  <a:pt x="21522" y="13055"/>
                  <a:pt x="21506" y="13072"/>
                </a:cubicBezTo>
                <a:cubicBezTo>
                  <a:pt x="21671" y="13036"/>
                  <a:pt x="21834" y="12988"/>
                  <a:pt x="22002" y="12973"/>
                </a:cubicBezTo>
              </a:path>
              <a:path w="4317" h="1316">
                <a:moveTo>
                  <a:pt x="22399" y="12353"/>
                </a:moveTo>
                <a:cubicBezTo>
                  <a:pt x="22246" y="12387"/>
                  <a:pt x="22180" y="12518"/>
                  <a:pt x="22151" y="12675"/>
                </a:cubicBezTo>
                <a:cubicBezTo>
                  <a:pt x="22151" y="12794"/>
                  <a:pt x="22149" y="12832"/>
                  <a:pt x="22200" y="12898"/>
                </a:cubicBezTo>
                <a:cubicBezTo>
                  <a:pt x="22402" y="12908"/>
                  <a:pt x="22641" y="12885"/>
                  <a:pt x="22622" y="12601"/>
                </a:cubicBezTo>
                <a:cubicBezTo>
                  <a:pt x="22611" y="12440"/>
                  <a:pt x="22443" y="12387"/>
                  <a:pt x="22324" y="12328"/>
                </a:cubicBezTo>
              </a:path>
              <a:path w="4317" h="1316">
                <a:moveTo>
                  <a:pt x="22969" y="12626"/>
                </a:moveTo>
                <a:cubicBezTo>
                  <a:pt x="22984" y="12813"/>
                  <a:pt x="22971" y="13011"/>
                  <a:pt x="22994" y="13196"/>
                </a:cubicBezTo>
                <a:cubicBezTo>
                  <a:pt x="23002" y="13221"/>
                  <a:pt x="23011" y="13246"/>
                  <a:pt x="23019" y="13271"/>
                </a:cubicBezTo>
              </a:path>
              <a:path w="4317" h="1316">
                <a:moveTo>
                  <a:pt x="23341" y="12278"/>
                </a:moveTo>
                <a:cubicBezTo>
                  <a:pt x="23427" y="12499"/>
                  <a:pt x="23494" y="12721"/>
                  <a:pt x="23564" y="12948"/>
                </a:cubicBezTo>
              </a:path>
              <a:path w="4317" h="1316">
                <a:moveTo>
                  <a:pt x="23862" y="12154"/>
                </a:moveTo>
                <a:cubicBezTo>
                  <a:pt x="23950" y="12110"/>
                  <a:pt x="23972" y="12094"/>
                  <a:pt x="24036" y="12105"/>
                </a:cubicBezTo>
                <a:cubicBezTo>
                  <a:pt x="24027" y="12195"/>
                  <a:pt x="23937" y="12335"/>
                  <a:pt x="23937" y="12402"/>
                </a:cubicBezTo>
                <a:cubicBezTo>
                  <a:pt x="23937" y="12481"/>
                  <a:pt x="24096" y="12392"/>
                  <a:pt x="24135" y="123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53040" y="5581800"/>
            <a:ext cx="222120" cy="365040"/>
          </a:xfrm>
          <a:custGeom>
            <a:avLst/>
            <a:gdLst/>
            <a:ahLst/>
            <a:rect l="l" t="t" r="r" b="b"/>
            <a:pathLst>
              <a:path w="621" h="1018">
                <a:moveTo>
                  <a:pt x="14709" y="15503"/>
                </a:moveTo>
                <a:cubicBezTo>
                  <a:pt x="14661" y="15749"/>
                  <a:pt x="14539" y="16015"/>
                  <a:pt x="14436" y="16247"/>
                </a:cubicBezTo>
                <a:cubicBezTo>
                  <a:pt x="14358" y="16403"/>
                  <a:pt x="14341" y="16424"/>
                  <a:pt x="14312" y="16520"/>
                </a:cubicBezTo>
              </a:path>
              <a:path w="621" h="1018">
                <a:moveTo>
                  <a:pt x="14759" y="15503"/>
                </a:moveTo>
                <a:cubicBezTo>
                  <a:pt x="14844" y="15724"/>
                  <a:pt x="14852" y="15962"/>
                  <a:pt x="14883" y="16197"/>
                </a:cubicBezTo>
                <a:cubicBezTo>
                  <a:pt x="14903" y="16380"/>
                  <a:pt x="14902" y="16415"/>
                  <a:pt x="14932" y="1652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43760" y="5419800"/>
            <a:ext cx="312480" cy="250920"/>
          </a:xfrm>
          <a:custGeom>
            <a:avLst/>
            <a:gdLst/>
            <a:ahLst/>
            <a:rect l="l" t="t" r="r" b="b"/>
            <a:pathLst>
              <a:path w="869" h="696">
                <a:moveTo>
                  <a:pt x="17066" y="15255"/>
                </a:moveTo>
                <a:cubicBezTo>
                  <a:pt x="17247" y="15283"/>
                  <a:pt x="17387" y="15336"/>
                  <a:pt x="17264" y="15553"/>
                </a:cubicBezTo>
                <a:cubicBezTo>
                  <a:pt x="17133" y="15783"/>
                  <a:pt x="17082" y="15736"/>
                  <a:pt x="17388" y="15751"/>
                </a:cubicBezTo>
              </a:path>
              <a:path w="869" h="696">
                <a:moveTo>
                  <a:pt x="17438" y="15056"/>
                </a:moveTo>
                <a:cubicBezTo>
                  <a:pt x="17438" y="15228"/>
                  <a:pt x="17406" y="15410"/>
                  <a:pt x="17413" y="15577"/>
                </a:cubicBezTo>
                <a:cubicBezTo>
                  <a:pt x="17444" y="15669"/>
                  <a:pt x="17469" y="15701"/>
                  <a:pt x="17562" y="15701"/>
                </a:cubicBezTo>
              </a:path>
              <a:path w="869" h="696">
                <a:moveTo>
                  <a:pt x="17760" y="15329"/>
                </a:moveTo>
                <a:cubicBezTo>
                  <a:pt x="17719" y="15412"/>
                  <a:pt x="17711" y="15429"/>
                  <a:pt x="17686" y="15478"/>
                </a:cubicBezTo>
                <a:cubicBezTo>
                  <a:pt x="17762" y="15506"/>
                  <a:pt x="17845" y="15503"/>
                  <a:pt x="17934" y="1550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97320" y="5554800"/>
            <a:ext cx="3027600" cy="295200"/>
          </a:xfrm>
          <a:custGeom>
            <a:avLst/>
            <a:gdLst/>
            <a:ahLst/>
            <a:rect l="l" t="t" r="r" b="b"/>
            <a:pathLst>
              <a:path w="8410" h="819">
                <a:moveTo>
                  <a:pt x="14436" y="16123"/>
                </a:moveTo>
                <a:cubicBezTo>
                  <a:pt x="14536" y="16106"/>
                  <a:pt x="14633" y="16092"/>
                  <a:pt x="14734" y="16073"/>
                </a:cubicBezTo>
              </a:path>
              <a:path w="8410" h="819">
                <a:moveTo>
                  <a:pt x="18728" y="16247"/>
                </a:moveTo>
                <a:cubicBezTo>
                  <a:pt x="18807" y="16242"/>
                  <a:pt x="18874" y="16231"/>
                  <a:pt x="18951" y="16222"/>
                </a:cubicBezTo>
              </a:path>
              <a:path w="8410" h="819">
                <a:moveTo>
                  <a:pt x="20886" y="15900"/>
                </a:moveTo>
                <a:cubicBezTo>
                  <a:pt x="20987" y="15895"/>
                  <a:pt x="21083" y="15884"/>
                  <a:pt x="21183" y="15875"/>
                </a:cubicBezTo>
              </a:path>
              <a:path w="8410" h="819">
                <a:moveTo>
                  <a:pt x="22796" y="15429"/>
                </a:moveTo>
                <a:cubicBezTo>
                  <a:pt x="22804" y="15612"/>
                  <a:pt x="22833" y="15792"/>
                  <a:pt x="22845" y="1597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1880" y="5411880"/>
            <a:ext cx="3321000" cy="749160"/>
          </a:xfrm>
          <a:custGeom>
            <a:avLst/>
            <a:gdLst/>
            <a:ahLst/>
            <a:rect l="l" t="t" r="r" b="b"/>
            <a:pathLst>
              <a:path w="9228" h="2084">
                <a:moveTo>
                  <a:pt x="15156" y="16470"/>
                </a:moveTo>
                <a:cubicBezTo>
                  <a:pt x="15156" y="16606"/>
                  <a:pt x="15141" y="16761"/>
                  <a:pt x="15106" y="16892"/>
                </a:cubicBezTo>
                <a:cubicBezTo>
                  <a:pt x="15089" y="16933"/>
                  <a:pt x="15073" y="16975"/>
                  <a:pt x="15056" y="17016"/>
                </a:cubicBezTo>
              </a:path>
              <a:path w="9228" h="2084">
                <a:moveTo>
                  <a:pt x="15230" y="16446"/>
                </a:moveTo>
                <a:cubicBezTo>
                  <a:pt x="15281" y="16580"/>
                  <a:pt x="15343" y="16731"/>
                  <a:pt x="15404" y="16867"/>
                </a:cubicBezTo>
                <a:cubicBezTo>
                  <a:pt x="15465" y="16990"/>
                  <a:pt x="15480" y="17011"/>
                  <a:pt x="15503" y="17090"/>
                </a:cubicBezTo>
                <a:cubicBezTo>
                  <a:pt x="15361" y="17129"/>
                  <a:pt x="15207" y="17115"/>
                  <a:pt x="15056" y="17115"/>
                </a:cubicBezTo>
                <a:cubicBezTo>
                  <a:pt x="15048" y="17115"/>
                  <a:pt x="15040" y="17115"/>
                  <a:pt x="15032" y="17115"/>
                </a:cubicBezTo>
              </a:path>
              <a:path w="9228" h="2084">
                <a:moveTo>
                  <a:pt x="15801" y="16247"/>
                </a:moveTo>
                <a:cubicBezTo>
                  <a:pt x="15895" y="16247"/>
                  <a:pt x="15959" y="16238"/>
                  <a:pt x="16049" y="16222"/>
                </a:cubicBezTo>
              </a:path>
              <a:path w="9228" h="2084">
                <a:moveTo>
                  <a:pt x="16619" y="16049"/>
                </a:moveTo>
                <a:cubicBezTo>
                  <a:pt x="17039" y="15967"/>
                  <a:pt x="17431" y="15968"/>
                  <a:pt x="17859" y="15999"/>
                </a:cubicBezTo>
                <a:cubicBezTo>
                  <a:pt x="18041" y="16017"/>
                  <a:pt x="18057" y="16026"/>
                  <a:pt x="18157" y="16024"/>
                </a:cubicBezTo>
              </a:path>
              <a:path w="9228" h="2084">
                <a:moveTo>
                  <a:pt x="17264" y="16371"/>
                </a:moveTo>
                <a:cubicBezTo>
                  <a:pt x="17391" y="16371"/>
                  <a:pt x="17492" y="16377"/>
                  <a:pt x="17611" y="16421"/>
                </a:cubicBezTo>
                <a:cubicBezTo>
                  <a:pt x="17629" y="16576"/>
                  <a:pt x="17477" y="16661"/>
                  <a:pt x="17363" y="16768"/>
                </a:cubicBezTo>
                <a:cubicBezTo>
                  <a:pt x="17347" y="16785"/>
                  <a:pt x="17330" y="16801"/>
                  <a:pt x="17314" y="16818"/>
                </a:cubicBezTo>
                <a:cubicBezTo>
                  <a:pt x="17483" y="16809"/>
                  <a:pt x="17644" y="16780"/>
                  <a:pt x="17810" y="16743"/>
                </a:cubicBezTo>
              </a:path>
              <a:path w="9228" h="2084">
                <a:moveTo>
                  <a:pt x="18653" y="16098"/>
                </a:moveTo>
                <a:cubicBezTo>
                  <a:pt x="18749" y="16080"/>
                  <a:pt x="18828" y="16073"/>
                  <a:pt x="18926" y="16073"/>
                </a:cubicBezTo>
              </a:path>
              <a:path w="9228" h="2084">
                <a:moveTo>
                  <a:pt x="19695" y="15156"/>
                </a:moveTo>
                <a:cubicBezTo>
                  <a:pt x="19653" y="15239"/>
                  <a:pt x="19612" y="15321"/>
                  <a:pt x="19571" y="15404"/>
                </a:cubicBezTo>
                <a:cubicBezTo>
                  <a:pt x="19744" y="15421"/>
                  <a:pt x="19914" y="15404"/>
                  <a:pt x="20092" y="15404"/>
                </a:cubicBezTo>
              </a:path>
              <a:path w="9228" h="2084">
                <a:moveTo>
                  <a:pt x="19893" y="15032"/>
                </a:moveTo>
                <a:cubicBezTo>
                  <a:pt x="19912" y="15257"/>
                  <a:pt x="19918" y="15475"/>
                  <a:pt x="19918" y="15701"/>
                </a:cubicBezTo>
                <a:cubicBezTo>
                  <a:pt x="19918" y="15718"/>
                  <a:pt x="19918" y="15734"/>
                  <a:pt x="19918" y="15751"/>
                </a:cubicBezTo>
              </a:path>
              <a:path w="9228" h="2084">
                <a:moveTo>
                  <a:pt x="20389" y="15081"/>
                </a:moveTo>
                <a:cubicBezTo>
                  <a:pt x="20259" y="15147"/>
                  <a:pt x="20224" y="15158"/>
                  <a:pt x="20166" y="15230"/>
                </a:cubicBezTo>
                <a:cubicBezTo>
                  <a:pt x="20208" y="15411"/>
                  <a:pt x="20401" y="15431"/>
                  <a:pt x="20439" y="15602"/>
                </a:cubicBezTo>
                <a:cubicBezTo>
                  <a:pt x="20412" y="15684"/>
                  <a:pt x="20396" y="15711"/>
                  <a:pt x="20315" y="15701"/>
                </a:cubicBezTo>
                <a:cubicBezTo>
                  <a:pt x="20127" y="15514"/>
                  <a:pt x="20353" y="15402"/>
                  <a:pt x="20464" y="15180"/>
                </a:cubicBezTo>
                <a:cubicBezTo>
                  <a:pt x="20485" y="15098"/>
                  <a:pt x="20510" y="15065"/>
                  <a:pt x="20439" y="15081"/>
                </a:cubicBezTo>
              </a:path>
              <a:path w="9228" h="2084">
                <a:moveTo>
                  <a:pt x="19521" y="15974"/>
                </a:moveTo>
                <a:cubicBezTo>
                  <a:pt x="19855" y="15916"/>
                  <a:pt x="20200" y="15866"/>
                  <a:pt x="20538" y="15825"/>
                </a:cubicBezTo>
                <a:cubicBezTo>
                  <a:pt x="20563" y="15825"/>
                  <a:pt x="20588" y="15825"/>
                  <a:pt x="20613" y="15825"/>
                </a:cubicBezTo>
              </a:path>
              <a:path w="9228" h="2084">
                <a:moveTo>
                  <a:pt x="19943" y="16098"/>
                </a:moveTo>
                <a:cubicBezTo>
                  <a:pt x="20044" y="16075"/>
                  <a:pt x="20090" y="16075"/>
                  <a:pt x="20191" y="16098"/>
                </a:cubicBezTo>
                <a:cubicBezTo>
                  <a:pt x="20218" y="16260"/>
                  <a:pt x="20143" y="16355"/>
                  <a:pt x="20017" y="16470"/>
                </a:cubicBezTo>
                <a:cubicBezTo>
                  <a:pt x="19933" y="16534"/>
                  <a:pt x="19913" y="16546"/>
                  <a:pt x="19869" y="16594"/>
                </a:cubicBezTo>
                <a:cubicBezTo>
                  <a:pt x="19999" y="16568"/>
                  <a:pt x="20128" y="16515"/>
                  <a:pt x="20265" y="16495"/>
                </a:cubicBezTo>
                <a:cubicBezTo>
                  <a:pt x="20307" y="16495"/>
                  <a:pt x="20315" y="16495"/>
                  <a:pt x="20340" y="16495"/>
                </a:cubicBezTo>
              </a:path>
              <a:path w="9228" h="2084">
                <a:moveTo>
                  <a:pt x="20935" y="16049"/>
                </a:moveTo>
                <a:cubicBezTo>
                  <a:pt x="21072" y="16037"/>
                  <a:pt x="21120" y="16034"/>
                  <a:pt x="21258" y="16049"/>
                </a:cubicBezTo>
              </a:path>
              <a:path w="9228" h="2084">
                <a:moveTo>
                  <a:pt x="21481" y="15701"/>
                </a:moveTo>
                <a:cubicBezTo>
                  <a:pt x="21596" y="15690"/>
                  <a:pt x="21694" y="15657"/>
                  <a:pt x="21803" y="15677"/>
                </a:cubicBezTo>
                <a:cubicBezTo>
                  <a:pt x="21759" y="15958"/>
                  <a:pt x="21644" y="16003"/>
                  <a:pt x="21431" y="16173"/>
                </a:cubicBezTo>
                <a:cubicBezTo>
                  <a:pt x="21415" y="16189"/>
                  <a:pt x="21398" y="16206"/>
                  <a:pt x="21382" y="16222"/>
                </a:cubicBezTo>
                <a:cubicBezTo>
                  <a:pt x="21545" y="16157"/>
                  <a:pt x="21750" y="16147"/>
                  <a:pt x="21927" y="16098"/>
                </a:cubicBezTo>
                <a:cubicBezTo>
                  <a:pt x="21944" y="16090"/>
                  <a:pt x="21960" y="16081"/>
                  <a:pt x="21977" y="16073"/>
                </a:cubicBezTo>
              </a:path>
              <a:path w="9228" h="2084">
                <a:moveTo>
                  <a:pt x="22225" y="15652"/>
                </a:moveTo>
                <a:cubicBezTo>
                  <a:pt x="22213" y="15748"/>
                  <a:pt x="22152" y="15812"/>
                  <a:pt x="22126" y="15900"/>
                </a:cubicBezTo>
                <a:cubicBezTo>
                  <a:pt x="22271" y="15915"/>
                  <a:pt x="22399" y="15900"/>
                  <a:pt x="22547" y="15900"/>
                </a:cubicBezTo>
              </a:path>
              <a:path w="9228" h="2084">
                <a:moveTo>
                  <a:pt x="22423" y="15429"/>
                </a:moveTo>
                <a:cubicBezTo>
                  <a:pt x="22453" y="15623"/>
                  <a:pt x="22510" y="15801"/>
                  <a:pt x="22523" y="15999"/>
                </a:cubicBezTo>
                <a:cubicBezTo>
                  <a:pt x="22523" y="16007"/>
                  <a:pt x="22523" y="16016"/>
                  <a:pt x="22523" y="16024"/>
                </a:cubicBezTo>
              </a:path>
              <a:path w="9228" h="2084">
                <a:moveTo>
                  <a:pt x="23068" y="15528"/>
                </a:moveTo>
                <a:cubicBezTo>
                  <a:pt x="22969" y="15627"/>
                  <a:pt x="22936" y="15660"/>
                  <a:pt x="22870" y="15726"/>
                </a:cubicBezTo>
                <a:cubicBezTo>
                  <a:pt x="23071" y="15697"/>
                  <a:pt x="23096" y="15753"/>
                  <a:pt x="23192" y="15925"/>
                </a:cubicBezTo>
              </a:path>
              <a:path w="9228" h="2084">
                <a:moveTo>
                  <a:pt x="23341" y="15726"/>
                </a:moveTo>
                <a:cubicBezTo>
                  <a:pt x="23341" y="15851"/>
                  <a:pt x="23341" y="15893"/>
                  <a:pt x="23366" y="15974"/>
                </a:cubicBezTo>
                <a:cubicBezTo>
                  <a:pt x="23359" y="15948"/>
                  <a:pt x="23305" y="15687"/>
                  <a:pt x="23391" y="15701"/>
                </a:cubicBezTo>
                <a:cubicBezTo>
                  <a:pt x="23515" y="15722"/>
                  <a:pt x="23546" y="15830"/>
                  <a:pt x="23589" y="15925"/>
                </a:cubicBezTo>
                <a:cubicBezTo>
                  <a:pt x="23607" y="15745"/>
                  <a:pt x="23601" y="15735"/>
                  <a:pt x="23738" y="15627"/>
                </a:cubicBezTo>
                <a:cubicBezTo>
                  <a:pt x="23841" y="15722"/>
                  <a:pt x="23878" y="15795"/>
                  <a:pt x="23937" y="15925"/>
                </a:cubicBezTo>
              </a:path>
              <a:path w="9228" h="2084">
                <a:moveTo>
                  <a:pt x="24036" y="15304"/>
                </a:moveTo>
                <a:cubicBezTo>
                  <a:pt x="24089" y="15304"/>
                  <a:pt x="24123" y="15291"/>
                  <a:pt x="24160" y="15255"/>
                </a:cubicBezTo>
                <a:cubicBezTo>
                  <a:pt x="24120" y="15400"/>
                  <a:pt x="24083" y="15419"/>
                  <a:pt x="24011" y="15553"/>
                </a:cubicBezTo>
                <a:cubicBezTo>
                  <a:pt x="24122" y="15608"/>
                  <a:pt x="24132" y="15583"/>
                  <a:pt x="24259" y="1552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32640" y="5500800"/>
            <a:ext cx="339480" cy="401400"/>
          </a:xfrm>
          <a:custGeom>
            <a:avLst/>
            <a:gdLst/>
            <a:ahLst/>
            <a:rect l="l" t="t" r="r" b="b"/>
            <a:pathLst>
              <a:path w="943" h="1117">
                <a:moveTo>
                  <a:pt x="15925" y="16396"/>
                </a:moveTo>
                <a:cubicBezTo>
                  <a:pt x="16024" y="16371"/>
                  <a:pt x="16057" y="16363"/>
                  <a:pt x="16123" y="16346"/>
                </a:cubicBezTo>
              </a:path>
              <a:path w="943" h="1117">
                <a:moveTo>
                  <a:pt x="16793" y="15280"/>
                </a:moveTo>
                <a:cubicBezTo>
                  <a:pt x="16818" y="15471"/>
                  <a:pt x="16857" y="15656"/>
                  <a:pt x="16867" y="1585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8240" y="3081240"/>
            <a:ext cx="7947000" cy="231840"/>
          </a:xfrm>
          <a:custGeom>
            <a:avLst/>
            <a:gdLst/>
            <a:ahLst/>
            <a:rect l="l" t="t" r="r" b="b"/>
            <a:pathLst>
              <a:path w="22077" h="646">
                <a:moveTo>
                  <a:pt x="2133" y="9029"/>
                </a:moveTo>
                <a:cubicBezTo>
                  <a:pt x="2297" y="9072"/>
                  <a:pt x="2409" y="9197"/>
                  <a:pt x="2580" y="9203"/>
                </a:cubicBezTo>
                <a:cubicBezTo>
                  <a:pt x="2845" y="9212"/>
                  <a:pt x="3150" y="9073"/>
                  <a:pt x="3398" y="9054"/>
                </a:cubicBezTo>
                <a:cubicBezTo>
                  <a:pt x="3516" y="9045"/>
                  <a:pt x="3545" y="9133"/>
                  <a:pt x="3696" y="9103"/>
                </a:cubicBezTo>
                <a:cubicBezTo>
                  <a:pt x="3858" y="9071"/>
                  <a:pt x="3971" y="8948"/>
                  <a:pt x="4142" y="8930"/>
                </a:cubicBezTo>
                <a:cubicBezTo>
                  <a:pt x="4296" y="8914"/>
                  <a:pt x="4426" y="8965"/>
                  <a:pt x="4589" y="8930"/>
                </a:cubicBezTo>
                <a:cubicBezTo>
                  <a:pt x="4892" y="8866"/>
                  <a:pt x="5170" y="8740"/>
                  <a:pt x="5482" y="8706"/>
                </a:cubicBezTo>
                <a:cubicBezTo>
                  <a:pt x="5790" y="8672"/>
                  <a:pt x="6168" y="8591"/>
                  <a:pt x="6474" y="8607"/>
                </a:cubicBezTo>
                <a:cubicBezTo>
                  <a:pt x="6764" y="8622"/>
                  <a:pt x="7026" y="8699"/>
                  <a:pt x="7317" y="8706"/>
                </a:cubicBezTo>
                <a:cubicBezTo>
                  <a:pt x="7786" y="8718"/>
                  <a:pt x="8195" y="8817"/>
                  <a:pt x="8657" y="8880"/>
                </a:cubicBezTo>
                <a:cubicBezTo>
                  <a:pt x="8880" y="8911"/>
                  <a:pt x="9104" y="8905"/>
                  <a:pt x="9327" y="8930"/>
                </a:cubicBezTo>
                <a:cubicBezTo>
                  <a:pt x="9563" y="8956"/>
                  <a:pt x="9767" y="9033"/>
                  <a:pt x="9996" y="9079"/>
                </a:cubicBezTo>
                <a:cubicBezTo>
                  <a:pt x="10439" y="9168"/>
                  <a:pt x="10910" y="9190"/>
                  <a:pt x="11361" y="9203"/>
                </a:cubicBezTo>
                <a:cubicBezTo>
                  <a:pt x="11618" y="9210"/>
                  <a:pt x="11873" y="9191"/>
                  <a:pt x="12129" y="9178"/>
                </a:cubicBezTo>
                <a:cubicBezTo>
                  <a:pt x="12997" y="9135"/>
                  <a:pt x="13826" y="9135"/>
                  <a:pt x="14684" y="8979"/>
                </a:cubicBezTo>
                <a:cubicBezTo>
                  <a:pt x="14917" y="8936"/>
                  <a:pt x="15147" y="8877"/>
                  <a:pt x="15379" y="8830"/>
                </a:cubicBezTo>
                <a:cubicBezTo>
                  <a:pt x="16238" y="8655"/>
                  <a:pt x="17082" y="8579"/>
                  <a:pt x="17959" y="8682"/>
                </a:cubicBezTo>
                <a:cubicBezTo>
                  <a:pt x="18432" y="8738"/>
                  <a:pt x="18896" y="8779"/>
                  <a:pt x="19372" y="8806"/>
                </a:cubicBezTo>
                <a:cubicBezTo>
                  <a:pt x="19578" y="8818"/>
                  <a:pt x="19786" y="8841"/>
                  <a:pt x="19993" y="8855"/>
                </a:cubicBezTo>
                <a:cubicBezTo>
                  <a:pt x="20406" y="8883"/>
                  <a:pt x="20796" y="8873"/>
                  <a:pt x="21208" y="8830"/>
                </a:cubicBezTo>
                <a:cubicBezTo>
                  <a:pt x="21927" y="8755"/>
                  <a:pt x="22645" y="8617"/>
                  <a:pt x="23366" y="8582"/>
                </a:cubicBezTo>
                <a:cubicBezTo>
                  <a:pt x="23510" y="8575"/>
                  <a:pt x="23622" y="8574"/>
                  <a:pt x="23763" y="8582"/>
                </a:cubicBezTo>
                <a:cubicBezTo>
                  <a:pt x="23912" y="8590"/>
                  <a:pt x="24063" y="8637"/>
                  <a:pt x="24209" y="865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2880" y="4081320"/>
            <a:ext cx="8010360" cy="196920"/>
          </a:xfrm>
          <a:custGeom>
            <a:avLst/>
            <a:gdLst/>
            <a:ahLst/>
            <a:rect l="l" t="t" r="r" b="b"/>
            <a:pathLst>
              <a:path w="22251" h="546">
                <a:moveTo>
                  <a:pt x="2257" y="11757"/>
                </a:moveTo>
                <a:cubicBezTo>
                  <a:pt x="2402" y="11778"/>
                  <a:pt x="2559" y="11851"/>
                  <a:pt x="2704" y="11857"/>
                </a:cubicBezTo>
                <a:cubicBezTo>
                  <a:pt x="3412" y="11887"/>
                  <a:pt x="4096" y="11569"/>
                  <a:pt x="4787" y="11683"/>
                </a:cubicBezTo>
                <a:cubicBezTo>
                  <a:pt x="5408" y="11786"/>
                  <a:pt x="5973" y="11796"/>
                  <a:pt x="6623" y="11807"/>
                </a:cubicBezTo>
                <a:cubicBezTo>
                  <a:pt x="7600" y="11824"/>
                  <a:pt x="8501" y="11808"/>
                  <a:pt x="9475" y="11733"/>
                </a:cubicBezTo>
                <a:cubicBezTo>
                  <a:pt x="9991" y="11693"/>
                  <a:pt x="10498" y="11725"/>
                  <a:pt x="11013" y="11733"/>
                </a:cubicBezTo>
                <a:cubicBezTo>
                  <a:pt x="11633" y="11742"/>
                  <a:pt x="12234" y="11700"/>
                  <a:pt x="12849" y="11633"/>
                </a:cubicBezTo>
                <a:cubicBezTo>
                  <a:pt x="13834" y="11526"/>
                  <a:pt x="14786" y="11527"/>
                  <a:pt x="15776" y="11534"/>
                </a:cubicBezTo>
                <a:cubicBezTo>
                  <a:pt x="16240" y="11537"/>
                  <a:pt x="16702" y="11496"/>
                  <a:pt x="17165" y="11485"/>
                </a:cubicBezTo>
                <a:cubicBezTo>
                  <a:pt x="17812" y="11470"/>
                  <a:pt x="18455" y="11563"/>
                  <a:pt x="19100" y="11584"/>
                </a:cubicBezTo>
                <a:cubicBezTo>
                  <a:pt x="19511" y="11597"/>
                  <a:pt x="19930" y="11582"/>
                  <a:pt x="20340" y="11559"/>
                </a:cubicBezTo>
                <a:cubicBezTo>
                  <a:pt x="21576" y="11489"/>
                  <a:pt x="22803" y="11521"/>
                  <a:pt x="24036" y="11385"/>
                </a:cubicBezTo>
                <a:cubicBezTo>
                  <a:pt x="24171" y="11370"/>
                  <a:pt x="24298" y="11349"/>
                  <a:pt x="24433" y="11336"/>
                </a:cubicBezTo>
                <a:cubicBezTo>
                  <a:pt x="24458" y="11336"/>
                  <a:pt x="24482" y="11336"/>
                  <a:pt x="24507" y="1133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6160" y="4929120"/>
            <a:ext cx="8190000" cy="304920"/>
          </a:xfrm>
          <a:custGeom>
            <a:avLst/>
            <a:gdLst/>
            <a:ahLst/>
            <a:rect l="l" t="t" r="r" b="b"/>
            <a:pathLst>
              <a:path w="22747" h="845">
                <a:moveTo>
                  <a:pt x="2158" y="14387"/>
                </a:moveTo>
                <a:cubicBezTo>
                  <a:pt x="2282" y="14385"/>
                  <a:pt x="2399" y="14392"/>
                  <a:pt x="2530" y="14387"/>
                </a:cubicBezTo>
                <a:cubicBezTo>
                  <a:pt x="2825" y="14375"/>
                  <a:pt x="3104" y="14374"/>
                  <a:pt x="3398" y="14387"/>
                </a:cubicBezTo>
                <a:cubicBezTo>
                  <a:pt x="3541" y="14393"/>
                  <a:pt x="3678" y="14408"/>
                  <a:pt x="3820" y="14412"/>
                </a:cubicBezTo>
                <a:cubicBezTo>
                  <a:pt x="4376" y="14427"/>
                  <a:pt x="4928" y="14454"/>
                  <a:pt x="5482" y="14461"/>
                </a:cubicBezTo>
                <a:cubicBezTo>
                  <a:pt x="6494" y="14474"/>
                  <a:pt x="7500" y="14516"/>
                  <a:pt x="8508" y="14536"/>
                </a:cubicBezTo>
                <a:cubicBezTo>
                  <a:pt x="10121" y="14568"/>
                  <a:pt x="11693" y="14272"/>
                  <a:pt x="13295" y="14188"/>
                </a:cubicBezTo>
                <a:cubicBezTo>
                  <a:pt x="13682" y="14168"/>
                  <a:pt x="14074" y="14146"/>
                  <a:pt x="14461" y="14139"/>
                </a:cubicBezTo>
                <a:cubicBezTo>
                  <a:pt x="15017" y="14129"/>
                  <a:pt x="15569" y="14101"/>
                  <a:pt x="16123" y="14089"/>
                </a:cubicBezTo>
                <a:cubicBezTo>
                  <a:pt x="16670" y="14077"/>
                  <a:pt x="17213" y="14114"/>
                  <a:pt x="17760" y="14114"/>
                </a:cubicBezTo>
                <a:cubicBezTo>
                  <a:pt x="18830" y="14114"/>
                  <a:pt x="19893" y="14086"/>
                  <a:pt x="20960" y="14039"/>
                </a:cubicBezTo>
                <a:cubicBezTo>
                  <a:pt x="22106" y="13988"/>
                  <a:pt x="23242" y="13808"/>
                  <a:pt x="24383" y="13717"/>
                </a:cubicBezTo>
                <a:cubicBezTo>
                  <a:pt x="24557" y="13703"/>
                  <a:pt x="24730" y="13703"/>
                  <a:pt x="24904" y="1369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895480"/>
            <a:ext cx="1981080" cy="137160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2514600"/>
            <a:ext cx="2133360" cy="16765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4876920"/>
            <a:ext cx="3276720" cy="1447560"/>
          </a:xfrm>
          <a:prstGeom prst="triangle">
            <a:avLst>
              <a:gd name="adj" fmla="val 7156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396252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251460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380988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4876920"/>
            <a:ext cx="0" cy="1447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01992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60199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c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2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5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8120" y="312840"/>
            <a:ext cx="304920" cy="608040"/>
          </a:xfrm>
          <a:custGeom>
            <a:avLst/>
            <a:gdLst/>
            <a:ahLst/>
            <a:rect l="l" t="t" r="r" b="b"/>
            <a:pathLst>
              <a:path w="844" h="1688">
                <a:moveTo>
                  <a:pt x="13717" y="1588"/>
                </a:moveTo>
                <a:cubicBezTo>
                  <a:pt x="13682" y="1925"/>
                  <a:pt x="13571" y="2190"/>
                  <a:pt x="13469" y="2505"/>
                </a:cubicBezTo>
                <a:cubicBezTo>
                  <a:pt x="13469" y="2563"/>
                  <a:pt x="13469" y="2572"/>
                  <a:pt x="13469" y="2480"/>
                </a:cubicBezTo>
                <a:cubicBezTo>
                  <a:pt x="13595" y="1957"/>
                  <a:pt x="13697" y="1368"/>
                  <a:pt x="14015" y="918"/>
                </a:cubicBezTo>
                <a:cubicBezTo>
                  <a:pt x="14048" y="901"/>
                  <a:pt x="14081" y="885"/>
                  <a:pt x="14114" y="868"/>
                </a:cubicBezTo>
                <a:cubicBezTo>
                  <a:pt x="14279" y="1363"/>
                  <a:pt x="14322" y="1784"/>
                  <a:pt x="14263" y="2307"/>
                </a:cubicBezTo>
                <a:cubicBezTo>
                  <a:pt x="14244" y="2441"/>
                  <a:pt x="14253" y="2463"/>
                  <a:pt x="14213" y="2530"/>
                </a:cubicBezTo>
              </a:path>
              <a:path w="844" h="1688">
                <a:moveTo>
                  <a:pt x="13593" y="2009"/>
                </a:moveTo>
                <a:cubicBezTo>
                  <a:pt x="13826" y="1949"/>
                  <a:pt x="14051" y="1898"/>
                  <a:pt x="14288" y="186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3160" y="419040"/>
            <a:ext cx="598680" cy="795240"/>
          </a:xfrm>
          <a:custGeom>
            <a:avLst/>
            <a:gdLst/>
            <a:ahLst/>
            <a:rect l="l" t="t" r="r" b="b"/>
            <a:pathLst>
              <a:path w="1663" h="2208">
                <a:moveTo>
                  <a:pt x="15528" y="1166"/>
                </a:moveTo>
                <a:cubicBezTo>
                  <a:pt x="15568" y="1524"/>
                  <a:pt x="15568" y="1894"/>
                  <a:pt x="15602" y="2257"/>
                </a:cubicBezTo>
                <a:cubicBezTo>
                  <a:pt x="15510" y="2440"/>
                  <a:pt x="15663" y="1898"/>
                  <a:pt x="15726" y="1836"/>
                </a:cubicBezTo>
                <a:cubicBezTo>
                  <a:pt x="15792" y="1803"/>
                  <a:pt x="15859" y="1769"/>
                  <a:pt x="15925" y="1736"/>
                </a:cubicBezTo>
                <a:cubicBezTo>
                  <a:pt x="16130" y="1943"/>
                  <a:pt x="16235" y="2213"/>
                  <a:pt x="15850" y="2356"/>
                </a:cubicBezTo>
                <a:cubicBezTo>
                  <a:pt x="15600" y="2449"/>
                  <a:pt x="15603" y="2234"/>
                  <a:pt x="15577" y="2084"/>
                </a:cubicBezTo>
              </a:path>
              <a:path w="1663" h="2208">
                <a:moveTo>
                  <a:pt x="16346" y="1240"/>
                </a:moveTo>
                <a:cubicBezTo>
                  <a:pt x="16361" y="1546"/>
                  <a:pt x="16399" y="1852"/>
                  <a:pt x="16421" y="2158"/>
                </a:cubicBezTo>
                <a:cubicBezTo>
                  <a:pt x="16421" y="2183"/>
                  <a:pt x="16421" y="2207"/>
                  <a:pt x="16421" y="2232"/>
                </a:cubicBezTo>
                <a:cubicBezTo>
                  <a:pt x="16457" y="2014"/>
                  <a:pt x="16527" y="1894"/>
                  <a:pt x="16669" y="1736"/>
                </a:cubicBezTo>
                <a:cubicBezTo>
                  <a:pt x="16867" y="1902"/>
                  <a:pt x="16835" y="2123"/>
                  <a:pt x="16793" y="2381"/>
                </a:cubicBezTo>
                <a:cubicBezTo>
                  <a:pt x="16785" y="2406"/>
                  <a:pt x="16776" y="2431"/>
                  <a:pt x="16768" y="2456"/>
                </a:cubicBezTo>
              </a:path>
              <a:path w="1663" h="2208">
                <a:moveTo>
                  <a:pt x="15230" y="2604"/>
                </a:moveTo>
                <a:cubicBezTo>
                  <a:pt x="15637" y="2528"/>
                  <a:pt x="16055" y="2533"/>
                  <a:pt x="16470" y="2530"/>
                </a:cubicBezTo>
                <a:cubicBezTo>
                  <a:pt x="16711" y="2530"/>
                  <a:pt x="16754" y="2519"/>
                  <a:pt x="16892" y="2555"/>
                </a:cubicBezTo>
              </a:path>
              <a:path w="1663" h="2208">
                <a:moveTo>
                  <a:pt x="15949" y="2778"/>
                </a:moveTo>
                <a:cubicBezTo>
                  <a:pt x="16130" y="2726"/>
                  <a:pt x="16237" y="2668"/>
                  <a:pt x="16396" y="2778"/>
                </a:cubicBezTo>
                <a:cubicBezTo>
                  <a:pt x="16342" y="3051"/>
                  <a:pt x="16163" y="3120"/>
                  <a:pt x="15949" y="3299"/>
                </a:cubicBezTo>
                <a:cubicBezTo>
                  <a:pt x="15924" y="3324"/>
                  <a:pt x="15900" y="3348"/>
                  <a:pt x="15875" y="3373"/>
                </a:cubicBezTo>
                <a:cubicBezTo>
                  <a:pt x="16130" y="3288"/>
                  <a:pt x="16325" y="3249"/>
                  <a:pt x="16594" y="3249"/>
                </a:cubicBezTo>
                <a:cubicBezTo>
                  <a:pt x="16602" y="3249"/>
                  <a:pt x="16611" y="3249"/>
                  <a:pt x="16619" y="324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86240" y="660240"/>
            <a:ext cx="2303640" cy="4805640"/>
          </a:xfrm>
          <a:custGeom>
            <a:avLst/>
            <a:gdLst/>
            <a:ahLst/>
            <a:rect l="l" t="t" r="r" b="b"/>
            <a:pathLst>
              <a:path w="6401" h="13345">
                <a:moveTo>
                  <a:pt x="14684" y="1885"/>
                </a:moveTo>
                <a:cubicBezTo>
                  <a:pt x="14858" y="1860"/>
                  <a:pt x="14916" y="1852"/>
                  <a:pt x="15032" y="1836"/>
                </a:cubicBezTo>
              </a:path>
              <a:path w="6401" h="13345">
                <a:moveTo>
                  <a:pt x="14709" y="2133"/>
                </a:moveTo>
                <a:cubicBezTo>
                  <a:pt x="14783" y="2117"/>
                  <a:pt x="14858" y="2100"/>
                  <a:pt x="14932" y="2084"/>
                </a:cubicBezTo>
              </a:path>
              <a:path w="6401" h="13345">
                <a:moveTo>
                  <a:pt x="16297" y="14486"/>
                </a:moveTo>
                <a:cubicBezTo>
                  <a:pt x="16469" y="14436"/>
                  <a:pt x="16525" y="14420"/>
                  <a:pt x="16644" y="14412"/>
                </a:cubicBezTo>
              </a:path>
              <a:path w="6401" h="13345">
                <a:moveTo>
                  <a:pt x="20737" y="14982"/>
                </a:moveTo>
                <a:cubicBezTo>
                  <a:pt x="20860" y="14934"/>
                  <a:pt x="20951" y="14915"/>
                  <a:pt x="21084" y="14908"/>
                </a:cubicBezTo>
              </a:path>
              <a:path w="6401" h="13345">
                <a:moveTo>
                  <a:pt x="20687" y="15180"/>
                </a:moveTo>
                <a:cubicBezTo>
                  <a:pt x="20855" y="15180"/>
                  <a:pt x="20908" y="15182"/>
                  <a:pt x="21010" y="1513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78000" y="2473200"/>
            <a:ext cx="787320" cy="331920"/>
          </a:xfrm>
          <a:custGeom>
            <a:avLst/>
            <a:gdLst/>
            <a:ahLst/>
            <a:rect l="l" t="t" r="r" b="b"/>
            <a:pathLst>
              <a:path w="2184" h="919">
                <a:moveTo>
                  <a:pt x="6052" y="7541"/>
                </a:moveTo>
                <a:cubicBezTo>
                  <a:pt x="6147" y="7506"/>
                  <a:pt x="6224" y="7497"/>
                  <a:pt x="6325" y="7491"/>
                </a:cubicBezTo>
              </a:path>
              <a:path w="2184" h="919">
                <a:moveTo>
                  <a:pt x="6152" y="7714"/>
                </a:moveTo>
                <a:cubicBezTo>
                  <a:pt x="6277" y="7714"/>
                  <a:pt x="6319" y="7714"/>
                  <a:pt x="6400" y="7689"/>
                </a:cubicBezTo>
              </a:path>
              <a:path w="2184" h="919">
                <a:moveTo>
                  <a:pt x="7962" y="6871"/>
                </a:moveTo>
                <a:cubicBezTo>
                  <a:pt x="8127" y="7079"/>
                  <a:pt x="8311" y="7256"/>
                  <a:pt x="8186" y="7541"/>
                </a:cubicBezTo>
                <a:cubicBezTo>
                  <a:pt x="8086" y="7681"/>
                  <a:pt x="8067" y="7704"/>
                  <a:pt x="8012" y="778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30240" y="2527200"/>
            <a:ext cx="179640" cy="30348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5209" y="7317"/>
                </a:moveTo>
                <a:cubicBezTo>
                  <a:pt x="5247" y="7133"/>
                  <a:pt x="5186" y="7678"/>
                  <a:pt x="5184" y="7689"/>
                </a:cubicBezTo>
                <a:cubicBezTo>
                  <a:pt x="5164" y="7790"/>
                  <a:pt x="5166" y="7810"/>
                  <a:pt x="5135" y="7863"/>
                </a:cubicBezTo>
                <a:cubicBezTo>
                  <a:pt x="5145" y="7616"/>
                  <a:pt x="5178" y="7385"/>
                  <a:pt x="5234" y="7144"/>
                </a:cubicBezTo>
                <a:cubicBezTo>
                  <a:pt x="5255" y="7060"/>
                  <a:pt x="5250" y="7034"/>
                  <a:pt x="5308" y="7020"/>
                </a:cubicBezTo>
                <a:cubicBezTo>
                  <a:pt x="5562" y="7131"/>
                  <a:pt x="5570" y="7269"/>
                  <a:pt x="5581" y="7541"/>
                </a:cubicBezTo>
                <a:cubicBezTo>
                  <a:pt x="5581" y="7707"/>
                  <a:pt x="5589" y="7742"/>
                  <a:pt x="5556" y="7838"/>
                </a:cubicBezTo>
              </a:path>
              <a:path w="497" h="844">
                <a:moveTo>
                  <a:pt x="5085" y="7565"/>
                </a:moveTo>
                <a:cubicBezTo>
                  <a:pt x="5227" y="7556"/>
                  <a:pt x="5366" y="7528"/>
                  <a:pt x="5507" y="751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63840" y="2446200"/>
            <a:ext cx="366840" cy="349560"/>
          </a:xfrm>
          <a:custGeom>
            <a:avLst/>
            <a:gdLst/>
            <a:ahLst/>
            <a:rect l="l" t="t" r="r" b="b"/>
            <a:pathLst>
              <a:path w="1018" h="969">
                <a:moveTo>
                  <a:pt x="6871" y="7094"/>
                </a:moveTo>
                <a:cubicBezTo>
                  <a:pt x="6851" y="7267"/>
                  <a:pt x="6921" y="7442"/>
                  <a:pt x="6896" y="7615"/>
                </a:cubicBezTo>
                <a:cubicBezTo>
                  <a:pt x="6888" y="7632"/>
                  <a:pt x="6879" y="7648"/>
                  <a:pt x="6871" y="7665"/>
                </a:cubicBezTo>
              </a:path>
              <a:path w="1018" h="969">
                <a:moveTo>
                  <a:pt x="7045" y="7045"/>
                </a:moveTo>
                <a:cubicBezTo>
                  <a:pt x="7090" y="7206"/>
                  <a:pt x="7084" y="7380"/>
                  <a:pt x="7119" y="7541"/>
                </a:cubicBezTo>
                <a:cubicBezTo>
                  <a:pt x="7127" y="7557"/>
                  <a:pt x="7136" y="7574"/>
                  <a:pt x="7144" y="7590"/>
                </a:cubicBezTo>
              </a:path>
              <a:path w="1018" h="969">
                <a:moveTo>
                  <a:pt x="7466" y="6796"/>
                </a:moveTo>
                <a:cubicBezTo>
                  <a:pt x="7367" y="7079"/>
                  <a:pt x="7253" y="7357"/>
                  <a:pt x="7293" y="7665"/>
                </a:cubicBezTo>
                <a:cubicBezTo>
                  <a:pt x="7309" y="7698"/>
                  <a:pt x="7326" y="7731"/>
                  <a:pt x="7342" y="7764"/>
                </a:cubicBezTo>
              </a:path>
              <a:path w="1018" h="969">
                <a:moveTo>
                  <a:pt x="7615" y="7069"/>
                </a:moveTo>
                <a:cubicBezTo>
                  <a:pt x="7556" y="7199"/>
                  <a:pt x="7515" y="7320"/>
                  <a:pt x="7541" y="7466"/>
                </a:cubicBezTo>
                <a:cubicBezTo>
                  <a:pt x="7562" y="7585"/>
                  <a:pt x="7729" y="7548"/>
                  <a:pt x="7789" y="7491"/>
                </a:cubicBezTo>
                <a:cubicBezTo>
                  <a:pt x="7836" y="7420"/>
                  <a:pt x="7852" y="7398"/>
                  <a:pt x="7863" y="7342"/>
                </a:cubicBezTo>
                <a:cubicBezTo>
                  <a:pt x="7725" y="7319"/>
                  <a:pt x="7651" y="7355"/>
                  <a:pt x="7714" y="7516"/>
                </a:cubicBezTo>
                <a:cubicBezTo>
                  <a:pt x="7722" y="7524"/>
                  <a:pt x="7731" y="7533"/>
                  <a:pt x="7739" y="754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90800" y="2795760"/>
            <a:ext cx="1608120" cy="222120"/>
          </a:xfrm>
          <a:custGeom>
            <a:avLst/>
            <a:gdLst/>
            <a:ahLst/>
            <a:rect l="l" t="t" r="r" b="b"/>
            <a:pathLst>
              <a:path w="4466" h="621">
                <a:moveTo>
                  <a:pt x="5730" y="7863"/>
                </a:moveTo>
                <a:cubicBezTo>
                  <a:pt x="5667" y="8038"/>
                  <a:pt x="5603" y="8213"/>
                  <a:pt x="5531" y="8384"/>
                </a:cubicBezTo>
              </a:path>
              <a:path w="4466" h="621">
                <a:moveTo>
                  <a:pt x="8384" y="7938"/>
                </a:moveTo>
                <a:cubicBezTo>
                  <a:pt x="8442" y="7930"/>
                  <a:pt x="8499" y="7919"/>
                  <a:pt x="8558" y="7913"/>
                </a:cubicBezTo>
              </a:path>
              <a:path w="4466" h="621">
                <a:moveTo>
                  <a:pt x="9773" y="7789"/>
                </a:moveTo>
                <a:cubicBezTo>
                  <a:pt x="9863" y="7784"/>
                  <a:pt x="9913" y="7778"/>
                  <a:pt x="9996" y="776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63800" y="2857680"/>
            <a:ext cx="162000" cy="1695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5680" y="7938"/>
                </a:moveTo>
                <a:cubicBezTo>
                  <a:pt x="5787" y="8044"/>
                  <a:pt x="5849" y="8164"/>
                  <a:pt x="5904" y="8310"/>
                </a:cubicBezTo>
                <a:cubicBezTo>
                  <a:pt x="5756" y="8348"/>
                  <a:pt x="5605" y="8369"/>
                  <a:pt x="5457" y="840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46200" y="2482920"/>
            <a:ext cx="2090880" cy="534960"/>
          </a:xfrm>
          <a:custGeom>
            <a:avLst/>
            <a:gdLst/>
            <a:ahLst/>
            <a:rect l="l" t="t" r="r" b="b"/>
            <a:pathLst>
              <a:path w="5806" h="1489">
                <a:moveTo>
                  <a:pt x="6796" y="7838"/>
                </a:moveTo>
                <a:cubicBezTo>
                  <a:pt x="6968" y="7803"/>
                  <a:pt x="7164" y="7776"/>
                  <a:pt x="7342" y="7764"/>
                </a:cubicBezTo>
                <a:cubicBezTo>
                  <a:pt x="7503" y="7753"/>
                  <a:pt x="7679" y="7763"/>
                  <a:pt x="7838" y="7739"/>
                </a:cubicBezTo>
                <a:cubicBezTo>
                  <a:pt x="7905" y="7717"/>
                  <a:pt x="7923" y="7705"/>
                  <a:pt x="7962" y="7739"/>
                </a:cubicBezTo>
              </a:path>
              <a:path w="5806" h="1489">
                <a:moveTo>
                  <a:pt x="7119" y="7987"/>
                </a:moveTo>
                <a:cubicBezTo>
                  <a:pt x="7198" y="7943"/>
                  <a:pt x="7303" y="7879"/>
                  <a:pt x="7392" y="7888"/>
                </a:cubicBezTo>
                <a:cubicBezTo>
                  <a:pt x="7408" y="7896"/>
                  <a:pt x="7425" y="7905"/>
                  <a:pt x="7441" y="7913"/>
                </a:cubicBezTo>
                <a:cubicBezTo>
                  <a:pt x="7428" y="8029"/>
                  <a:pt x="7384" y="8071"/>
                  <a:pt x="7317" y="8161"/>
                </a:cubicBezTo>
                <a:cubicBezTo>
                  <a:pt x="7258" y="8239"/>
                  <a:pt x="7213" y="8315"/>
                  <a:pt x="7144" y="8384"/>
                </a:cubicBezTo>
                <a:cubicBezTo>
                  <a:pt x="7201" y="8358"/>
                  <a:pt x="7300" y="8268"/>
                  <a:pt x="7367" y="8285"/>
                </a:cubicBezTo>
                <a:cubicBezTo>
                  <a:pt x="7489" y="8316"/>
                  <a:pt x="7496" y="8343"/>
                  <a:pt x="7615" y="8260"/>
                </a:cubicBezTo>
              </a:path>
              <a:path w="5806" h="1489">
                <a:moveTo>
                  <a:pt x="8334" y="7739"/>
                </a:moveTo>
                <a:cubicBezTo>
                  <a:pt x="8420" y="7725"/>
                  <a:pt x="8474" y="7714"/>
                  <a:pt x="8558" y="7714"/>
                </a:cubicBezTo>
              </a:path>
              <a:path w="5806" h="1489">
                <a:moveTo>
                  <a:pt x="9004" y="6945"/>
                </a:moveTo>
                <a:cubicBezTo>
                  <a:pt x="9004" y="7072"/>
                  <a:pt x="8943" y="7174"/>
                  <a:pt x="8905" y="7293"/>
                </a:cubicBezTo>
                <a:cubicBezTo>
                  <a:pt x="8874" y="7392"/>
                  <a:pt x="8877" y="7448"/>
                  <a:pt x="8905" y="7541"/>
                </a:cubicBezTo>
                <a:cubicBezTo>
                  <a:pt x="9082" y="7515"/>
                  <a:pt x="9207" y="7491"/>
                  <a:pt x="9302" y="7342"/>
                </a:cubicBezTo>
                <a:cubicBezTo>
                  <a:pt x="9250" y="7333"/>
                  <a:pt x="9096" y="7303"/>
                  <a:pt x="9103" y="7417"/>
                </a:cubicBezTo>
                <a:cubicBezTo>
                  <a:pt x="9111" y="7433"/>
                  <a:pt x="9120" y="7450"/>
                  <a:pt x="9128" y="7466"/>
                </a:cubicBezTo>
              </a:path>
              <a:path w="5806" h="1489">
                <a:moveTo>
                  <a:pt x="9500" y="6896"/>
                </a:moveTo>
                <a:cubicBezTo>
                  <a:pt x="9464" y="7015"/>
                  <a:pt x="9475" y="7140"/>
                  <a:pt x="9475" y="7268"/>
                </a:cubicBezTo>
                <a:cubicBezTo>
                  <a:pt x="9475" y="7436"/>
                  <a:pt x="9653" y="7406"/>
                  <a:pt x="9748" y="7317"/>
                </a:cubicBezTo>
                <a:cubicBezTo>
                  <a:pt x="9773" y="7268"/>
                  <a:pt x="9782" y="7251"/>
                  <a:pt x="9798" y="7218"/>
                </a:cubicBezTo>
                <a:cubicBezTo>
                  <a:pt x="9654" y="7194"/>
                  <a:pt x="9599" y="7239"/>
                  <a:pt x="9550" y="7392"/>
                </a:cubicBezTo>
                <a:cubicBezTo>
                  <a:pt x="9550" y="7408"/>
                  <a:pt x="9550" y="7425"/>
                  <a:pt x="9550" y="7441"/>
                </a:cubicBezTo>
              </a:path>
              <a:path w="5806" h="1489">
                <a:moveTo>
                  <a:pt x="8830" y="7590"/>
                </a:moveTo>
                <a:cubicBezTo>
                  <a:pt x="9089" y="7578"/>
                  <a:pt x="9342" y="7526"/>
                  <a:pt x="9599" y="7491"/>
                </a:cubicBezTo>
                <a:cubicBezTo>
                  <a:pt x="9739" y="7471"/>
                  <a:pt x="9763" y="7462"/>
                  <a:pt x="9847" y="7466"/>
                </a:cubicBezTo>
              </a:path>
              <a:path w="5806" h="1489">
                <a:moveTo>
                  <a:pt x="9203" y="7813"/>
                </a:moveTo>
                <a:cubicBezTo>
                  <a:pt x="9203" y="7760"/>
                  <a:pt x="9262" y="7689"/>
                  <a:pt x="9351" y="7739"/>
                </a:cubicBezTo>
                <a:cubicBezTo>
                  <a:pt x="9435" y="7786"/>
                  <a:pt x="9398" y="7858"/>
                  <a:pt x="9351" y="7913"/>
                </a:cubicBezTo>
                <a:cubicBezTo>
                  <a:pt x="9280" y="7996"/>
                  <a:pt x="9172" y="8009"/>
                  <a:pt x="9103" y="8086"/>
                </a:cubicBezTo>
                <a:cubicBezTo>
                  <a:pt x="9050" y="8145"/>
                  <a:pt x="8908" y="8321"/>
                  <a:pt x="8979" y="8285"/>
                </a:cubicBezTo>
                <a:cubicBezTo>
                  <a:pt x="9051" y="8249"/>
                  <a:pt x="9132" y="8161"/>
                  <a:pt x="9203" y="8111"/>
                </a:cubicBezTo>
                <a:cubicBezTo>
                  <a:pt x="9272" y="8151"/>
                  <a:pt x="9319" y="8202"/>
                  <a:pt x="9401" y="8210"/>
                </a:cubicBezTo>
                <a:cubicBezTo>
                  <a:pt x="9418" y="8210"/>
                  <a:pt x="9434" y="8210"/>
                  <a:pt x="9451" y="8210"/>
                </a:cubicBezTo>
              </a:path>
              <a:path w="5806" h="1489">
                <a:moveTo>
                  <a:pt x="9748" y="7665"/>
                </a:moveTo>
                <a:cubicBezTo>
                  <a:pt x="9822" y="7665"/>
                  <a:pt x="9897" y="7665"/>
                  <a:pt x="9971" y="7665"/>
                </a:cubicBezTo>
              </a:path>
              <a:path w="5806" h="1489">
                <a:moveTo>
                  <a:pt x="10344" y="7491"/>
                </a:moveTo>
                <a:cubicBezTo>
                  <a:pt x="10403" y="7422"/>
                  <a:pt x="10453" y="7401"/>
                  <a:pt x="10542" y="7367"/>
                </a:cubicBezTo>
                <a:cubicBezTo>
                  <a:pt x="10532" y="7429"/>
                  <a:pt x="10418" y="7742"/>
                  <a:pt x="10418" y="7590"/>
                </a:cubicBezTo>
                <a:cubicBezTo>
                  <a:pt x="10588" y="7608"/>
                  <a:pt x="10782" y="7695"/>
                  <a:pt x="10567" y="7888"/>
                </a:cubicBezTo>
                <a:cubicBezTo>
                  <a:pt x="10446" y="7996"/>
                  <a:pt x="10331" y="7964"/>
                  <a:pt x="10195" y="7938"/>
                </a:cubicBezTo>
              </a:path>
              <a:path w="5806" h="1489">
                <a:moveTo>
                  <a:pt x="10790" y="7417"/>
                </a:moveTo>
                <a:cubicBezTo>
                  <a:pt x="10850" y="7348"/>
                  <a:pt x="10898" y="7327"/>
                  <a:pt x="10988" y="7293"/>
                </a:cubicBezTo>
                <a:cubicBezTo>
                  <a:pt x="10966" y="7413"/>
                  <a:pt x="10950" y="7446"/>
                  <a:pt x="10864" y="7541"/>
                </a:cubicBezTo>
                <a:cubicBezTo>
                  <a:pt x="10948" y="7505"/>
                  <a:pt x="11084" y="7503"/>
                  <a:pt x="11088" y="7640"/>
                </a:cubicBezTo>
                <a:cubicBezTo>
                  <a:pt x="11095" y="7843"/>
                  <a:pt x="10877" y="7858"/>
                  <a:pt x="10740" y="7838"/>
                </a:cubicBezTo>
              </a:path>
              <a:path w="5806" h="1489">
                <a:moveTo>
                  <a:pt x="11460" y="7541"/>
                </a:moveTo>
                <a:cubicBezTo>
                  <a:pt x="11350" y="7523"/>
                  <a:pt x="11234" y="7526"/>
                  <a:pt x="11212" y="7689"/>
                </a:cubicBezTo>
                <a:cubicBezTo>
                  <a:pt x="11178" y="7941"/>
                  <a:pt x="11325" y="7896"/>
                  <a:pt x="11485" y="7888"/>
                </a:cubicBezTo>
              </a:path>
              <a:path w="5806" h="1489">
                <a:moveTo>
                  <a:pt x="11658" y="7590"/>
                </a:moveTo>
                <a:cubicBezTo>
                  <a:pt x="11683" y="7690"/>
                  <a:pt x="11715" y="7789"/>
                  <a:pt x="11733" y="7888"/>
                </a:cubicBezTo>
                <a:cubicBezTo>
                  <a:pt x="11712" y="7810"/>
                  <a:pt x="11634" y="7568"/>
                  <a:pt x="11782" y="7640"/>
                </a:cubicBezTo>
                <a:cubicBezTo>
                  <a:pt x="11878" y="7711"/>
                  <a:pt x="11909" y="7732"/>
                  <a:pt x="11931" y="7813"/>
                </a:cubicBezTo>
                <a:cubicBezTo>
                  <a:pt x="11885" y="7907"/>
                  <a:pt x="11888" y="7628"/>
                  <a:pt x="11981" y="7590"/>
                </a:cubicBezTo>
                <a:cubicBezTo>
                  <a:pt x="12006" y="7590"/>
                  <a:pt x="12030" y="7590"/>
                  <a:pt x="12055" y="7590"/>
                </a:cubicBezTo>
                <a:cubicBezTo>
                  <a:pt x="12168" y="7711"/>
                  <a:pt x="12212" y="7790"/>
                  <a:pt x="12229" y="7962"/>
                </a:cubicBezTo>
              </a:path>
              <a:path w="5806" h="1489">
                <a:moveTo>
                  <a:pt x="12229" y="7193"/>
                </a:moveTo>
                <a:cubicBezTo>
                  <a:pt x="12323" y="7193"/>
                  <a:pt x="12457" y="7173"/>
                  <a:pt x="12378" y="7317"/>
                </a:cubicBezTo>
                <a:cubicBezTo>
                  <a:pt x="12266" y="7521"/>
                  <a:pt x="12440" y="7407"/>
                  <a:pt x="12601" y="739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67840" y="2776680"/>
            <a:ext cx="606240" cy="107640"/>
          </a:xfrm>
          <a:custGeom>
            <a:avLst/>
            <a:gdLst/>
            <a:ahLst/>
            <a:rect l="l" t="t" r="r" b="b"/>
            <a:pathLst>
              <a:path w="1688" h="299">
                <a:moveTo>
                  <a:pt x="23242" y="8012"/>
                </a:moveTo>
                <a:cubicBezTo>
                  <a:pt x="23327" y="8007"/>
                  <a:pt x="23406" y="7995"/>
                  <a:pt x="23490" y="7987"/>
                </a:cubicBezTo>
              </a:path>
              <a:path w="1688" h="299">
                <a:moveTo>
                  <a:pt x="24805" y="7739"/>
                </a:moveTo>
                <a:cubicBezTo>
                  <a:pt x="24872" y="7716"/>
                  <a:pt x="24890" y="7705"/>
                  <a:pt x="24929" y="773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91680" y="1098720"/>
            <a:ext cx="358560" cy="938160"/>
          </a:xfrm>
          <a:custGeom>
            <a:avLst/>
            <a:gdLst/>
            <a:ahLst/>
            <a:rect l="l" t="t" r="r" b="b"/>
            <a:pathLst>
              <a:path w="993" h="2605">
                <a:moveTo>
                  <a:pt x="23812" y="3646"/>
                </a:moveTo>
                <a:cubicBezTo>
                  <a:pt x="23795" y="3814"/>
                  <a:pt x="23788" y="3973"/>
                  <a:pt x="23788" y="4142"/>
                </a:cubicBezTo>
              </a:path>
              <a:path w="993" h="2605">
                <a:moveTo>
                  <a:pt x="24011" y="3597"/>
                </a:moveTo>
                <a:cubicBezTo>
                  <a:pt x="24063" y="3545"/>
                  <a:pt x="24082" y="3528"/>
                  <a:pt x="24135" y="3522"/>
                </a:cubicBezTo>
                <a:cubicBezTo>
                  <a:pt x="24144" y="3653"/>
                  <a:pt x="23976" y="3865"/>
                  <a:pt x="24011" y="3969"/>
                </a:cubicBezTo>
                <a:cubicBezTo>
                  <a:pt x="24045" y="4072"/>
                  <a:pt x="24227" y="3983"/>
                  <a:pt x="24284" y="3969"/>
                </a:cubicBezTo>
              </a:path>
              <a:path w="993" h="2605">
                <a:moveTo>
                  <a:pt x="24284" y="4167"/>
                </a:moveTo>
                <a:cubicBezTo>
                  <a:pt x="24221" y="4202"/>
                  <a:pt x="24137" y="4236"/>
                  <a:pt x="24110" y="4291"/>
                </a:cubicBezTo>
                <a:cubicBezTo>
                  <a:pt x="24102" y="4308"/>
                  <a:pt x="24093" y="4324"/>
                  <a:pt x="24085" y="4341"/>
                </a:cubicBezTo>
                <a:cubicBezTo>
                  <a:pt x="24153" y="4357"/>
                  <a:pt x="24474" y="4381"/>
                  <a:pt x="24433" y="4514"/>
                </a:cubicBezTo>
                <a:cubicBezTo>
                  <a:pt x="24395" y="4635"/>
                  <a:pt x="24225" y="4609"/>
                  <a:pt x="24135" y="4614"/>
                </a:cubicBezTo>
              </a:path>
              <a:path w="993" h="2605">
                <a:moveTo>
                  <a:pt x="23589" y="4911"/>
                </a:moveTo>
                <a:cubicBezTo>
                  <a:pt x="23895" y="4851"/>
                  <a:pt x="24205" y="4792"/>
                  <a:pt x="24507" y="4713"/>
                </a:cubicBezTo>
                <a:cubicBezTo>
                  <a:pt x="24532" y="4705"/>
                  <a:pt x="24556" y="4696"/>
                  <a:pt x="24581" y="4688"/>
                </a:cubicBezTo>
              </a:path>
              <a:path w="993" h="2605">
                <a:moveTo>
                  <a:pt x="24408" y="5085"/>
                </a:moveTo>
                <a:cubicBezTo>
                  <a:pt x="24334" y="5195"/>
                  <a:pt x="24262" y="5290"/>
                  <a:pt x="24284" y="5432"/>
                </a:cubicBezTo>
                <a:cubicBezTo>
                  <a:pt x="24292" y="5449"/>
                  <a:pt x="24301" y="5465"/>
                  <a:pt x="24309" y="5482"/>
                </a:cubicBezTo>
                <a:cubicBezTo>
                  <a:pt x="24471" y="5462"/>
                  <a:pt x="24600" y="5416"/>
                  <a:pt x="24581" y="5209"/>
                </a:cubicBezTo>
                <a:cubicBezTo>
                  <a:pt x="24577" y="5164"/>
                  <a:pt x="24470" y="5137"/>
                  <a:pt x="24433" y="5110"/>
                </a:cubicBezTo>
              </a:path>
              <a:path w="993" h="2605">
                <a:moveTo>
                  <a:pt x="23763" y="3051"/>
                </a:moveTo>
                <a:cubicBezTo>
                  <a:pt x="23763" y="3175"/>
                  <a:pt x="23762" y="3279"/>
                  <a:pt x="23788" y="3398"/>
                </a:cubicBezTo>
              </a:path>
              <a:path w="993" h="2605">
                <a:moveTo>
                  <a:pt x="23614" y="5159"/>
                </a:moveTo>
                <a:cubicBezTo>
                  <a:pt x="23636" y="5284"/>
                  <a:pt x="23575" y="5504"/>
                  <a:pt x="23639" y="5606"/>
                </a:cubicBezTo>
                <a:cubicBezTo>
                  <a:pt x="23742" y="5769"/>
                  <a:pt x="23924" y="5557"/>
                  <a:pt x="23986" y="5482"/>
                </a:cubicBezTo>
                <a:cubicBezTo>
                  <a:pt x="23825" y="5471"/>
                  <a:pt x="23853" y="5465"/>
                  <a:pt x="23763" y="560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82040" y="2581200"/>
            <a:ext cx="419040" cy="446040"/>
          </a:xfrm>
          <a:custGeom>
            <a:avLst/>
            <a:gdLst/>
            <a:ahLst/>
            <a:rect l="l" t="t" r="r" b="b"/>
            <a:pathLst>
              <a:path w="1167" h="1241">
                <a:moveTo>
                  <a:pt x="23986" y="7169"/>
                </a:moveTo>
                <a:cubicBezTo>
                  <a:pt x="23964" y="7210"/>
                  <a:pt x="23770" y="7544"/>
                  <a:pt x="23862" y="7590"/>
                </a:cubicBezTo>
                <a:cubicBezTo>
                  <a:pt x="24037" y="7677"/>
                  <a:pt x="24093" y="7441"/>
                  <a:pt x="24085" y="7342"/>
                </a:cubicBezTo>
                <a:cubicBezTo>
                  <a:pt x="23986" y="7431"/>
                  <a:pt x="23975" y="7487"/>
                  <a:pt x="23937" y="7615"/>
                </a:cubicBezTo>
              </a:path>
              <a:path w="1167" h="1241">
                <a:moveTo>
                  <a:pt x="24185" y="7169"/>
                </a:moveTo>
                <a:cubicBezTo>
                  <a:pt x="24075" y="7264"/>
                  <a:pt x="24017" y="7400"/>
                  <a:pt x="24110" y="7541"/>
                </a:cubicBezTo>
                <a:cubicBezTo>
                  <a:pt x="24195" y="7671"/>
                  <a:pt x="24391" y="7377"/>
                  <a:pt x="24383" y="7293"/>
                </a:cubicBezTo>
                <a:cubicBezTo>
                  <a:pt x="24331" y="7215"/>
                  <a:pt x="24310" y="7189"/>
                  <a:pt x="24234" y="7193"/>
                </a:cubicBezTo>
              </a:path>
              <a:path w="1167" h="1241">
                <a:moveTo>
                  <a:pt x="23837" y="7764"/>
                </a:moveTo>
                <a:cubicBezTo>
                  <a:pt x="24065" y="7748"/>
                  <a:pt x="24307" y="7734"/>
                  <a:pt x="24532" y="7689"/>
                </a:cubicBezTo>
                <a:cubicBezTo>
                  <a:pt x="24548" y="7681"/>
                  <a:pt x="24565" y="7673"/>
                  <a:pt x="24581" y="7665"/>
                </a:cubicBezTo>
              </a:path>
              <a:path w="1167" h="1241">
                <a:moveTo>
                  <a:pt x="24110" y="7987"/>
                </a:moveTo>
                <a:cubicBezTo>
                  <a:pt x="24201" y="7987"/>
                  <a:pt x="24226" y="7987"/>
                  <a:pt x="24284" y="7987"/>
                </a:cubicBezTo>
                <a:cubicBezTo>
                  <a:pt x="24300" y="8149"/>
                  <a:pt x="24159" y="8224"/>
                  <a:pt x="24061" y="8359"/>
                </a:cubicBezTo>
                <a:cubicBezTo>
                  <a:pt x="24053" y="8376"/>
                  <a:pt x="24044" y="8392"/>
                  <a:pt x="24036" y="8409"/>
                </a:cubicBezTo>
                <a:cubicBezTo>
                  <a:pt x="24173" y="8392"/>
                  <a:pt x="24300" y="8346"/>
                  <a:pt x="24433" y="8310"/>
                </a:cubicBezTo>
              </a:path>
              <a:path w="1167" h="1241">
                <a:moveTo>
                  <a:pt x="24705" y="7962"/>
                </a:moveTo>
                <a:cubicBezTo>
                  <a:pt x="24804" y="7962"/>
                  <a:pt x="24904" y="7962"/>
                  <a:pt x="25003" y="796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72280" y="2374920"/>
            <a:ext cx="285840" cy="393840"/>
          </a:xfrm>
          <a:custGeom>
            <a:avLst/>
            <a:gdLst/>
            <a:ahLst/>
            <a:rect l="l" t="t" r="r" b="b"/>
            <a:pathLst>
              <a:path w="795" h="1092">
                <a:moveTo>
                  <a:pt x="22498" y="6772"/>
                </a:moveTo>
                <a:cubicBezTo>
                  <a:pt x="22438" y="7026"/>
                  <a:pt x="22372" y="7303"/>
                  <a:pt x="22448" y="7565"/>
                </a:cubicBezTo>
                <a:cubicBezTo>
                  <a:pt x="22494" y="7634"/>
                  <a:pt x="22506" y="7654"/>
                  <a:pt x="22547" y="7689"/>
                </a:cubicBezTo>
              </a:path>
              <a:path w="795" h="1092">
                <a:moveTo>
                  <a:pt x="22994" y="6598"/>
                </a:moveTo>
                <a:cubicBezTo>
                  <a:pt x="23213" y="6886"/>
                  <a:pt x="23315" y="7139"/>
                  <a:pt x="23118" y="7491"/>
                </a:cubicBezTo>
                <a:cubicBezTo>
                  <a:pt x="23077" y="7532"/>
                  <a:pt x="23035" y="7574"/>
                  <a:pt x="22994" y="761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56080" y="2670120"/>
            <a:ext cx="3803760" cy="3116160"/>
          </a:xfrm>
          <a:custGeom>
            <a:avLst/>
            <a:gdLst/>
            <a:ahLst/>
            <a:rect l="l" t="t" r="r" b="b"/>
            <a:pathLst>
              <a:path w="10567" h="8657">
                <a:moveTo>
                  <a:pt x="20117" y="7541"/>
                </a:moveTo>
                <a:cubicBezTo>
                  <a:pt x="20243" y="7517"/>
                  <a:pt x="20361" y="7498"/>
                  <a:pt x="20489" y="7491"/>
                </a:cubicBezTo>
              </a:path>
              <a:path w="10567" h="8657">
                <a:moveTo>
                  <a:pt x="21109" y="7441"/>
                </a:moveTo>
                <a:cubicBezTo>
                  <a:pt x="21208" y="7417"/>
                  <a:pt x="21241" y="7409"/>
                  <a:pt x="21307" y="7441"/>
                </a:cubicBezTo>
              </a:path>
              <a:path w="10567" h="8657">
                <a:moveTo>
                  <a:pt x="22944" y="9302"/>
                </a:moveTo>
                <a:lnTo>
                  <a:pt x="22944" y="9302"/>
                </a:lnTo>
              </a:path>
              <a:path w="10567" h="8657">
                <a:moveTo>
                  <a:pt x="12378" y="16073"/>
                </a:moveTo>
                <a:lnTo>
                  <a:pt x="12378" y="16073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6160" y="3795840"/>
            <a:ext cx="285840" cy="33012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18405" y="10542"/>
                </a:moveTo>
                <a:cubicBezTo>
                  <a:pt x="18535" y="10542"/>
                  <a:pt x="19013" y="10462"/>
                  <a:pt x="19100" y="10567"/>
                </a:cubicBezTo>
                <a:cubicBezTo>
                  <a:pt x="19157" y="10635"/>
                  <a:pt x="19149" y="10709"/>
                  <a:pt x="19149" y="10815"/>
                </a:cubicBezTo>
                <a:cubicBezTo>
                  <a:pt x="19149" y="10992"/>
                  <a:pt x="19153" y="11167"/>
                  <a:pt x="19174" y="11336"/>
                </a:cubicBezTo>
                <a:cubicBezTo>
                  <a:pt x="19181" y="11394"/>
                  <a:pt x="19175" y="11412"/>
                  <a:pt x="19199" y="11460"/>
                </a:cubicBezTo>
                <a:cubicBezTo>
                  <a:pt x="19199" y="11225"/>
                  <a:pt x="19244" y="10942"/>
                  <a:pt x="19174" y="10716"/>
                </a:cubicBezTo>
                <a:cubicBezTo>
                  <a:pt x="19152" y="10644"/>
                  <a:pt x="19136" y="10603"/>
                  <a:pt x="19050" y="10592"/>
                </a:cubicBezTo>
                <a:cubicBezTo>
                  <a:pt x="18894" y="10572"/>
                  <a:pt x="18732" y="10596"/>
                  <a:pt x="18579" y="10616"/>
                </a:cubicBezTo>
                <a:cubicBezTo>
                  <a:pt x="18571" y="10616"/>
                  <a:pt x="18562" y="10616"/>
                  <a:pt x="18554" y="1061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05760" y="2490840"/>
            <a:ext cx="814320" cy="509400"/>
          </a:xfrm>
          <a:custGeom>
            <a:avLst/>
            <a:gdLst/>
            <a:ahLst/>
            <a:rect l="l" t="t" r="r" b="b"/>
            <a:pathLst>
              <a:path w="2259" h="1414">
                <a:moveTo>
                  <a:pt x="20216" y="7094"/>
                </a:moveTo>
                <a:cubicBezTo>
                  <a:pt x="20153" y="7329"/>
                  <a:pt x="19917" y="8010"/>
                  <a:pt x="20017" y="7789"/>
                </a:cubicBezTo>
                <a:cubicBezTo>
                  <a:pt x="20034" y="7756"/>
                  <a:pt x="20050" y="7722"/>
                  <a:pt x="20067" y="7689"/>
                </a:cubicBezTo>
                <a:cubicBezTo>
                  <a:pt x="20152" y="7429"/>
                  <a:pt x="20210" y="7144"/>
                  <a:pt x="20365" y="6921"/>
                </a:cubicBezTo>
                <a:cubicBezTo>
                  <a:pt x="20559" y="7114"/>
                  <a:pt x="20531" y="7376"/>
                  <a:pt x="20538" y="7640"/>
                </a:cubicBezTo>
                <a:cubicBezTo>
                  <a:pt x="20538" y="7782"/>
                  <a:pt x="20548" y="7810"/>
                  <a:pt x="20513" y="7888"/>
                </a:cubicBezTo>
              </a:path>
              <a:path w="2259" h="1414">
                <a:moveTo>
                  <a:pt x="20687" y="7838"/>
                </a:moveTo>
                <a:cubicBezTo>
                  <a:pt x="20687" y="7983"/>
                  <a:pt x="20680" y="8118"/>
                  <a:pt x="20662" y="8260"/>
                </a:cubicBezTo>
                <a:cubicBezTo>
                  <a:pt x="20674" y="8133"/>
                  <a:pt x="20701" y="8011"/>
                  <a:pt x="20737" y="7888"/>
                </a:cubicBezTo>
                <a:cubicBezTo>
                  <a:pt x="20849" y="8001"/>
                  <a:pt x="20861" y="8119"/>
                  <a:pt x="20935" y="8260"/>
                </a:cubicBezTo>
                <a:cubicBezTo>
                  <a:pt x="20943" y="8268"/>
                  <a:pt x="20952" y="8277"/>
                  <a:pt x="20960" y="8285"/>
                </a:cubicBezTo>
                <a:cubicBezTo>
                  <a:pt x="20827" y="8314"/>
                  <a:pt x="20678" y="8319"/>
                  <a:pt x="20538" y="8334"/>
                </a:cubicBezTo>
              </a:path>
              <a:path w="2259" h="1414">
                <a:moveTo>
                  <a:pt x="21059" y="7714"/>
                </a:moveTo>
                <a:cubicBezTo>
                  <a:pt x="21183" y="7714"/>
                  <a:pt x="21208" y="7714"/>
                  <a:pt x="21282" y="7714"/>
                </a:cubicBezTo>
              </a:path>
              <a:path w="2259" h="1414">
                <a:moveTo>
                  <a:pt x="21704" y="7169"/>
                </a:moveTo>
                <a:cubicBezTo>
                  <a:pt x="21715" y="7360"/>
                  <a:pt x="21729" y="7547"/>
                  <a:pt x="21729" y="7739"/>
                </a:cubicBezTo>
              </a:path>
              <a:path w="2259" h="1414">
                <a:moveTo>
                  <a:pt x="21878" y="7268"/>
                </a:moveTo>
                <a:cubicBezTo>
                  <a:pt x="21973" y="7220"/>
                  <a:pt x="22042" y="7223"/>
                  <a:pt x="22151" y="7218"/>
                </a:cubicBezTo>
                <a:cubicBezTo>
                  <a:pt x="22184" y="7391"/>
                  <a:pt x="22069" y="7466"/>
                  <a:pt x="21952" y="7590"/>
                </a:cubicBezTo>
                <a:cubicBezTo>
                  <a:pt x="22069" y="7605"/>
                  <a:pt x="22156" y="7615"/>
                  <a:pt x="22275" y="761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23040" y="6286680"/>
            <a:ext cx="365040" cy="527040"/>
          </a:xfrm>
          <a:custGeom>
            <a:avLst/>
            <a:gdLst/>
            <a:ahLst/>
            <a:rect l="l" t="t" r="r" b="b"/>
            <a:pathLst>
              <a:path w="1018" h="1465">
                <a:moveTo>
                  <a:pt x="17735" y="17462"/>
                </a:moveTo>
                <a:cubicBezTo>
                  <a:pt x="17743" y="17479"/>
                  <a:pt x="17752" y="17495"/>
                  <a:pt x="17760" y="17512"/>
                </a:cubicBezTo>
              </a:path>
              <a:path w="1018" h="1465">
                <a:moveTo>
                  <a:pt x="18579" y="18281"/>
                </a:moveTo>
                <a:lnTo>
                  <a:pt x="18579" y="18281"/>
                </a:lnTo>
              </a:path>
              <a:path w="1018" h="1465">
                <a:moveTo>
                  <a:pt x="17562" y="18628"/>
                </a:moveTo>
                <a:cubicBezTo>
                  <a:pt x="17604" y="18732"/>
                  <a:pt x="17636" y="18828"/>
                  <a:pt x="17686" y="18926"/>
                </a:cubicBezTo>
              </a:path>
              <a:path w="1018" h="1465">
                <a:moveTo>
                  <a:pt x="18405" y="18628"/>
                </a:moveTo>
                <a:lnTo>
                  <a:pt x="18405" y="18628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88080" y="5411880"/>
            <a:ext cx="635040" cy="366480"/>
          </a:xfrm>
          <a:custGeom>
            <a:avLst/>
            <a:gdLst/>
            <a:ahLst/>
            <a:rect l="l" t="t" r="r" b="b"/>
            <a:pathLst>
              <a:path w="1762" h="1018">
                <a:moveTo>
                  <a:pt x="18579" y="15230"/>
                </a:moveTo>
                <a:cubicBezTo>
                  <a:pt x="18959" y="15093"/>
                  <a:pt x="19314" y="15047"/>
                  <a:pt x="19720" y="15032"/>
                </a:cubicBezTo>
                <a:cubicBezTo>
                  <a:pt x="19938" y="15024"/>
                  <a:pt x="20127" y="15042"/>
                  <a:pt x="20340" y="15056"/>
                </a:cubicBezTo>
              </a:path>
              <a:path w="1762" h="1018">
                <a:moveTo>
                  <a:pt x="19273" y="15503"/>
                </a:moveTo>
                <a:cubicBezTo>
                  <a:pt x="19338" y="15422"/>
                  <a:pt x="19545" y="15287"/>
                  <a:pt x="19571" y="15528"/>
                </a:cubicBezTo>
                <a:cubicBezTo>
                  <a:pt x="19605" y="15847"/>
                  <a:pt x="19256" y="15979"/>
                  <a:pt x="19025" y="16049"/>
                </a:cubicBezTo>
                <a:cubicBezTo>
                  <a:pt x="19110" y="15853"/>
                  <a:pt x="19216" y="15778"/>
                  <a:pt x="19447" y="15850"/>
                </a:cubicBezTo>
                <a:cubicBezTo>
                  <a:pt x="19472" y="15867"/>
                  <a:pt x="19496" y="15883"/>
                  <a:pt x="19521" y="1590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9040" y="6062760"/>
            <a:ext cx="527040" cy="723960"/>
          </a:xfrm>
          <a:custGeom>
            <a:avLst/>
            <a:gdLst/>
            <a:ahLst/>
            <a:rect l="l" t="t" r="r" b="b"/>
            <a:pathLst>
              <a:path w="1464" h="2011">
                <a:moveTo>
                  <a:pt x="18157" y="16842"/>
                </a:moveTo>
                <a:cubicBezTo>
                  <a:pt x="18108" y="16891"/>
                  <a:pt x="17978" y="16984"/>
                  <a:pt x="17983" y="17066"/>
                </a:cubicBezTo>
                <a:cubicBezTo>
                  <a:pt x="17991" y="17209"/>
                  <a:pt x="18162" y="17159"/>
                  <a:pt x="18256" y="17190"/>
                </a:cubicBezTo>
                <a:cubicBezTo>
                  <a:pt x="18536" y="17283"/>
                  <a:pt x="18174" y="17425"/>
                  <a:pt x="18083" y="17462"/>
                </a:cubicBezTo>
              </a:path>
              <a:path w="1464" h="2011">
                <a:moveTo>
                  <a:pt x="18256" y="17636"/>
                </a:moveTo>
                <a:cubicBezTo>
                  <a:pt x="18197" y="17779"/>
                  <a:pt x="18143" y="17889"/>
                  <a:pt x="18231" y="18008"/>
                </a:cubicBezTo>
                <a:cubicBezTo>
                  <a:pt x="18385" y="17970"/>
                  <a:pt x="18430" y="17964"/>
                  <a:pt x="18430" y="17785"/>
                </a:cubicBezTo>
                <a:cubicBezTo>
                  <a:pt x="18324" y="17838"/>
                  <a:pt x="18288" y="17862"/>
                  <a:pt x="18281" y="17959"/>
                </a:cubicBezTo>
              </a:path>
              <a:path w="1464" h="2011">
                <a:moveTo>
                  <a:pt x="17413" y="18529"/>
                </a:moveTo>
                <a:cubicBezTo>
                  <a:pt x="17849" y="18327"/>
                  <a:pt x="18275" y="18165"/>
                  <a:pt x="18728" y="18008"/>
                </a:cubicBezTo>
                <a:cubicBezTo>
                  <a:pt x="18744" y="18000"/>
                  <a:pt x="18761" y="17991"/>
                  <a:pt x="18777" y="17983"/>
                </a:cubicBezTo>
              </a:path>
              <a:path w="1464" h="2011">
                <a:moveTo>
                  <a:pt x="18504" y="18231"/>
                </a:moveTo>
                <a:cubicBezTo>
                  <a:pt x="18504" y="18376"/>
                  <a:pt x="18484" y="18516"/>
                  <a:pt x="18504" y="18653"/>
                </a:cubicBezTo>
                <a:cubicBezTo>
                  <a:pt x="18695" y="18677"/>
                  <a:pt x="18870" y="18626"/>
                  <a:pt x="18876" y="18380"/>
                </a:cubicBezTo>
                <a:cubicBezTo>
                  <a:pt x="18880" y="18189"/>
                  <a:pt x="18682" y="18285"/>
                  <a:pt x="18604" y="18306"/>
                </a:cubicBezTo>
              </a:path>
              <a:path w="1464" h="2011">
                <a:moveTo>
                  <a:pt x="18083" y="18405"/>
                </a:moveTo>
                <a:cubicBezTo>
                  <a:pt x="18056" y="18430"/>
                  <a:pt x="17906" y="18522"/>
                  <a:pt x="17909" y="18579"/>
                </a:cubicBezTo>
                <a:cubicBezTo>
                  <a:pt x="17915" y="18678"/>
                  <a:pt x="18068" y="18628"/>
                  <a:pt x="18132" y="18628"/>
                </a:cubicBezTo>
                <a:cubicBezTo>
                  <a:pt x="18104" y="18744"/>
                  <a:pt x="18076" y="18765"/>
                  <a:pt x="18008" y="1885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54840" y="5313240"/>
            <a:ext cx="169920" cy="25884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17115" y="14883"/>
                </a:moveTo>
                <a:cubicBezTo>
                  <a:pt x="17049" y="15007"/>
                  <a:pt x="16993" y="15164"/>
                  <a:pt x="16966" y="15304"/>
                </a:cubicBezTo>
                <a:cubicBezTo>
                  <a:pt x="16966" y="15329"/>
                  <a:pt x="16966" y="15354"/>
                  <a:pt x="16966" y="15379"/>
                </a:cubicBezTo>
                <a:cubicBezTo>
                  <a:pt x="16977" y="15296"/>
                  <a:pt x="17013" y="14661"/>
                  <a:pt x="17165" y="14784"/>
                </a:cubicBezTo>
                <a:cubicBezTo>
                  <a:pt x="17314" y="14905"/>
                  <a:pt x="17283" y="15265"/>
                  <a:pt x="17289" y="15429"/>
                </a:cubicBezTo>
                <a:cubicBezTo>
                  <a:pt x="17289" y="15437"/>
                  <a:pt x="17289" y="15445"/>
                  <a:pt x="17289" y="15453"/>
                </a:cubicBezTo>
                <a:cubicBezTo>
                  <a:pt x="17137" y="15239"/>
                  <a:pt x="17087" y="15269"/>
                  <a:pt x="16867" y="15429"/>
                </a:cubicBezTo>
                <a:cubicBezTo>
                  <a:pt x="16851" y="15445"/>
                  <a:pt x="16834" y="15462"/>
                  <a:pt x="16818" y="154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13280" y="5991120"/>
            <a:ext cx="509760" cy="393840"/>
          </a:xfrm>
          <a:custGeom>
            <a:avLst/>
            <a:gdLst/>
            <a:ahLst/>
            <a:rect l="l" t="t" r="r" b="b"/>
            <a:pathLst>
              <a:path w="1415" h="1092">
                <a:moveTo>
                  <a:pt x="17140" y="17190"/>
                </a:moveTo>
                <a:cubicBezTo>
                  <a:pt x="17264" y="17165"/>
                  <a:pt x="17305" y="17157"/>
                  <a:pt x="17388" y="17140"/>
                </a:cubicBezTo>
                <a:cubicBezTo>
                  <a:pt x="17405" y="17366"/>
                  <a:pt x="17252" y="17527"/>
                  <a:pt x="17115" y="17711"/>
                </a:cubicBezTo>
                <a:cubicBezTo>
                  <a:pt x="17107" y="17719"/>
                  <a:pt x="17098" y="17727"/>
                  <a:pt x="17090" y="17735"/>
                </a:cubicBezTo>
                <a:cubicBezTo>
                  <a:pt x="17254" y="17700"/>
                  <a:pt x="17407" y="17633"/>
                  <a:pt x="17562" y="17562"/>
                </a:cubicBezTo>
              </a:path>
              <a:path w="1415" h="1092">
                <a:moveTo>
                  <a:pt x="16148" y="16793"/>
                </a:moveTo>
                <a:cubicBezTo>
                  <a:pt x="16224" y="16763"/>
                  <a:pt x="16521" y="16512"/>
                  <a:pt x="16446" y="16768"/>
                </a:cubicBezTo>
                <a:cubicBezTo>
                  <a:pt x="16421" y="16809"/>
                  <a:pt x="16396" y="16851"/>
                  <a:pt x="16371" y="16892"/>
                </a:cubicBezTo>
                <a:cubicBezTo>
                  <a:pt x="16517" y="16843"/>
                  <a:pt x="16564" y="16826"/>
                  <a:pt x="16669" y="16842"/>
                </a:cubicBezTo>
                <a:cubicBezTo>
                  <a:pt x="16657" y="17004"/>
                  <a:pt x="16611" y="17011"/>
                  <a:pt x="16470" y="1711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59160" y="5626080"/>
            <a:ext cx="563760" cy="204840"/>
          </a:xfrm>
          <a:custGeom>
            <a:avLst/>
            <a:gdLst/>
            <a:ahLst/>
            <a:rect l="l" t="t" r="r" b="b"/>
            <a:pathLst>
              <a:path w="1564" h="571">
                <a:moveTo>
                  <a:pt x="11832" y="15776"/>
                </a:moveTo>
                <a:cubicBezTo>
                  <a:pt x="11887" y="15703"/>
                  <a:pt x="11956" y="15642"/>
                  <a:pt x="12055" y="15627"/>
                </a:cubicBezTo>
                <a:cubicBezTo>
                  <a:pt x="12155" y="15611"/>
                  <a:pt x="12215" y="15661"/>
                  <a:pt x="12229" y="15751"/>
                </a:cubicBezTo>
                <a:cubicBezTo>
                  <a:pt x="12239" y="15814"/>
                  <a:pt x="12167" y="15885"/>
                  <a:pt x="12129" y="15925"/>
                </a:cubicBezTo>
                <a:cubicBezTo>
                  <a:pt x="12061" y="15997"/>
                  <a:pt x="11978" y="16052"/>
                  <a:pt x="11906" y="16123"/>
                </a:cubicBezTo>
                <a:cubicBezTo>
                  <a:pt x="11876" y="16153"/>
                  <a:pt x="11865" y="16167"/>
                  <a:pt x="11857" y="16197"/>
                </a:cubicBezTo>
                <a:cubicBezTo>
                  <a:pt x="11926" y="16097"/>
                  <a:pt x="11952" y="16079"/>
                  <a:pt x="12080" y="16073"/>
                </a:cubicBezTo>
                <a:cubicBezTo>
                  <a:pt x="12168" y="16069"/>
                  <a:pt x="12193" y="16120"/>
                  <a:pt x="12278" y="16098"/>
                </a:cubicBezTo>
              </a:path>
              <a:path w="1564" h="571">
                <a:moveTo>
                  <a:pt x="12750" y="15776"/>
                </a:moveTo>
                <a:cubicBezTo>
                  <a:pt x="12688" y="15766"/>
                  <a:pt x="12639" y="15751"/>
                  <a:pt x="12576" y="15751"/>
                </a:cubicBezTo>
                <a:cubicBezTo>
                  <a:pt x="12576" y="15834"/>
                  <a:pt x="12576" y="15916"/>
                  <a:pt x="12576" y="15999"/>
                </a:cubicBezTo>
                <a:cubicBezTo>
                  <a:pt x="12614" y="15994"/>
                  <a:pt x="12737" y="15940"/>
                  <a:pt x="12774" y="15974"/>
                </a:cubicBezTo>
                <a:cubicBezTo>
                  <a:pt x="12786" y="15985"/>
                  <a:pt x="12816" y="16099"/>
                  <a:pt x="12824" y="16123"/>
                </a:cubicBezTo>
                <a:cubicBezTo>
                  <a:pt x="12746" y="16154"/>
                  <a:pt x="12685" y="16166"/>
                  <a:pt x="12601" y="16173"/>
                </a:cubicBezTo>
              </a:path>
              <a:path w="1564" h="571">
                <a:moveTo>
                  <a:pt x="12874" y="15925"/>
                </a:moveTo>
                <a:cubicBezTo>
                  <a:pt x="12874" y="16100"/>
                  <a:pt x="12872" y="16187"/>
                  <a:pt x="12898" y="15974"/>
                </a:cubicBezTo>
                <a:cubicBezTo>
                  <a:pt x="12912" y="15862"/>
                  <a:pt x="13004" y="15819"/>
                  <a:pt x="13097" y="15900"/>
                </a:cubicBezTo>
                <a:cubicBezTo>
                  <a:pt x="13149" y="15945"/>
                  <a:pt x="13159" y="16037"/>
                  <a:pt x="13171" y="16098"/>
                </a:cubicBezTo>
                <a:cubicBezTo>
                  <a:pt x="13171" y="16008"/>
                  <a:pt x="13158" y="15945"/>
                  <a:pt x="13221" y="15875"/>
                </a:cubicBezTo>
                <a:cubicBezTo>
                  <a:pt x="13251" y="15845"/>
                  <a:pt x="13265" y="15834"/>
                  <a:pt x="13295" y="15825"/>
                </a:cubicBezTo>
                <a:cubicBezTo>
                  <a:pt x="13336" y="15916"/>
                  <a:pt x="13367" y="16003"/>
                  <a:pt x="13395" y="1609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03920" y="4867200"/>
            <a:ext cx="214200" cy="490680"/>
          </a:xfrm>
          <a:custGeom>
            <a:avLst/>
            <a:gdLst/>
            <a:ahLst/>
            <a:rect l="l" t="t" r="r" b="b"/>
            <a:pathLst>
              <a:path w="596" h="1365">
                <a:moveTo>
                  <a:pt x="16396" y="13742"/>
                </a:moveTo>
                <a:cubicBezTo>
                  <a:pt x="16328" y="14118"/>
                  <a:pt x="16241" y="14487"/>
                  <a:pt x="16148" y="14858"/>
                </a:cubicBezTo>
                <a:cubicBezTo>
                  <a:pt x="16082" y="14880"/>
                  <a:pt x="16295" y="14221"/>
                  <a:pt x="16297" y="14213"/>
                </a:cubicBezTo>
                <a:cubicBezTo>
                  <a:pt x="16364" y="13952"/>
                  <a:pt x="16425" y="13761"/>
                  <a:pt x="16520" y="13519"/>
                </a:cubicBezTo>
                <a:cubicBezTo>
                  <a:pt x="16667" y="13932"/>
                  <a:pt x="16712" y="14294"/>
                  <a:pt x="16718" y="14734"/>
                </a:cubicBezTo>
                <a:cubicBezTo>
                  <a:pt x="16718" y="14784"/>
                  <a:pt x="16718" y="14833"/>
                  <a:pt x="16718" y="1488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67320" y="4848120"/>
            <a:ext cx="2187720" cy="644760"/>
          </a:xfrm>
          <a:custGeom>
            <a:avLst/>
            <a:gdLst/>
            <a:ahLst/>
            <a:rect l="l" t="t" r="r" b="b"/>
            <a:pathLst>
              <a:path w="6078" h="1787">
                <a:moveTo>
                  <a:pt x="17686" y="14511"/>
                </a:moveTo>
                <a:cubicBezTo>
                  <a:pt x="17833" y="14462"/>
                  <a:pt x="17880" y="14445"/>
                  <a:pt x="17983" y="14436"/>
                </a:cubicBezTo>
              </a:path>
              <a:path w="6078" h="1787">
                <a:moveTo>
                  <a:pt x="17785" y="14808"/>
                </a:moveTo>
                <a:cubicBezTo>
                  <a:pt x="17851" y="14800"/>
                  <a:pt x="17917" y="14792"/>
                  <a:pt x="17983" y="14784"/>
                </a:cubicBezTo>
              </a:path>
              <a:path w="6078" h="1787">
                <a:moveTo>
                  <a:pt x="19397" y="13717"/>
                </a:moveTo>
                <a:cubicBezTo>
                  <a:pt x="19269" y="14033"/>
                  <a:pt x="19068" y="14480"/>
                  <a:pt x="19149" y="14833"/>
                </a:cubicBezTo>
                <a:cubicBezTo>
                  <a:pt x="19234" y="14961"/>
                  <a:pt x="19242" y="15004"/>
                  <a:pt x="19348" y="15007"/>
                </a:cubicBezTo>
              </a:path>
              <a:path w="6078" h="1787">
                <a:moveTo>
                  <a:pt x="20092" y="14536"/>
                </a:moveTo>
                <a:cubicBezTo>
                  <a:pt x="20092" y="14552"/>
                  <a:pt x="20092" y="14569"/>
                  <a:pt x="20092" y="14585"/>
                </a:cubicBezTo>
              </a:path>
              <a:path w="6078" h="1787">
                <a:moveTo>
                  <a:pt x="20513" y="13469"/>
                </a:moveTo>
                <a:cubicBezTo>
                  <a:pt x="20811" y="13776"/>
                  <a:pt x="21127" y="14154"/>
                  <a:pt x="20836" y="14610"/>
                </a:cubicBezTo>
                <a:cubicBezTo>
                  <a:pt x="20753" y="14676"/>
                  <a:pt x="20671" y="14742"/>
                  <a:pt x="20588" y="14808"/>
                </a:cubicBezTo>
              </a:path>
              <a:path w="6078" h="1787">
                <a:moveTo>
                  <a:pt x="21456" y="14833"/>
                </a:moveTo>
                <a:cubicBezTo>
                  <a:pt x="21795" y="14738"/>
                  <a:pt x="22129" y="14632"/>
                  <a:pt x="22473" y="14560"/>
                </a:cubicBezTo>
              </a:path>
              <a:path w="6078" h="1787">
                <a:moveTo>
                  <a:pt x="22771" y="15007"/>
                </a:moveTo>
                <a:cubicBezTo>
                  <a:pt x="22863" y="14987"/>
                  <a:pt x="22951" y="14977"/>
                  <a:pt x="23044" y="14957"/>
                </a:cubicBezTo>
              </a:path>
              <a:path w="6078" h="1787">
                <a:moveTo>
                  <a:pt x="23763" y="15131"/>
                </a:moveTo>
                <a:cubicBezTo>
                  <a:pt x="23740" y="15198"/>
                  <a:pt x="23735" y="15216"/>
                  <a:pt x="23713" y="1525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88080" y="5010120"/>
            <a:ext cx="696960" cy="365040"/>
          </a:xfrm>
          <a:custGeom>
            <a:avLst/>
            <a:gdLst/>
            <a:ahLst/>
            <a:rect l="l" t="t" r="r" b="b"/>
            <a:pathLst>
              <a:path w="1935" h="1018">
                <a:moveTo>
                  <a:pt x="18777" y="13915"/>
                </a:moveTo>
                <a:cubicBezTo>
                  <a:pt x="18703" y="14220"/>
                  <a:pt x="18614" y="14524"/>
                  <a:pt x="18579" y="14833"/>
                </a:cubicBezTo>
                <a:cubicBezTo>
                  <a:pt x="18840" y="14892"/>
                  <a:pt x="18923" y="14785"/>
                  <a:pt x="19050" y="14560"/>
                </a:cubicBezTo>
                <a:cubicBezTo>
                  <a:pt x="18892" y="14490"/>
                  <a:pt x="18708" y="14593"/>
                  <a:pt x="18703" y="14808"/>
                </a:cubicBezTo>
                <a:cubicBezTo>
                  <a:pt x="18719" y="14849"/>
                  <a:pt x="18736" y="14891"/>
                  <a:pt x="18752" y="14932"/>
                </a:cubicBezTo>
              </a:path>
              <a:path w="1935" h="1018">
                <a:moveTo>
                  <a:pt x="19546" y="14139"/>
                </a:moveTo>
                <a:cubicBezTo>
                  <a:pt x="19697" y="14114"/>
                  <a:pt x="19835" y="14149"/>
                  <a:pt x="19869" y="14337"/>
                </a:cubicBezTo>
                <a:cubicBezTo>
                  <a:pt x="19908" y="14556"/>
                  <a:pt x="19601" y="14764"/>
                  <a:pt x="19422" y="14610"/>
                </a:cubicBezTo>
                <a:cubicBezTo>
                  <a:pt x="19422" y="14585"/>
                  <a:pt x="19422" y="14561"/>
                  <a:pt x="19422" y="14536"/>
                </a:cubicBezTo>
                <a:cubicBezTo>
                  <a:pt x="19624" y="14480"/>
                  <a:pt x="19697" y="14490"/>
                  <a:pt x="19819" y="14660"/>
                </a:cubicBezTo>
              </a:path>
              <a:path w="1935" h="1018">
                <a:moveTo>
                  <a:pt x="20389" y="13915"/>
                </a:moveTo>
                <a:cubicBezTo>
                  <a:pt x="20285" y="13953"/>
                  <a:pt x="20187" y="13936"/>
                  <a:pt x="20166" y="14064"/>
                </a:cubicBezTo>
                <a:cubicBezTo>
                  <a:pt x="20166" y="14089"/>
                  <a:pt x="20166" y="14114"/>
                  <a:pt x="20166" y="14139"/>
                </a:cubicBezTo>
                <a:cubicBezTo>
                  <a:pt x="20223" y="14156"/>
                  <a:pt x="20484" y="14160"/>
                  <a:pt x="20513" y="14213"/>
                </a:cubicBezTo>
                <a:cubicBezTo>
                  <a:pt x="20610" y="14390"/>
                  <a:pt x="20384" y="14493"/>
                  <a:pt x="20290" y="1456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59800" y="4911840"/>
            <a:ext cx="330120" cy="339480"/>
          </a:xfrm>
          <a:custGeom>
            <a:avLst/>
            <a:gdLst/>
            <a:ahLst/>
            <a:rect l="l" t="t" r="r" b="b"/>
            <a:pathLst>
              <a:path w="919" h="943">
                <a:moveTo>
                  <a:pt x="21654" y="13841"/>
                </a:moveTo>
                <a:cubicBezTo>
                  <a:pt x="21612" y="14079"/>
                  <a:pt x="21594" y="14321"/>
                  <a:pt x="21555" y="14560"/>
                </a:cubicBezTo>
              </a:path>
              <a:path w="919" h="943">
                <a:moveTo>
                  <a:pt x="21878" y="13891"/>
                </a:moveTo>
                <a:cubicBezTo>
                  <a:pt x="22055" y="13752"/>
                  <a:pt x="22146" y="13673"/>
                  <a:pt x="22299" y="13841"/>
                </a:cubicBezTo>
                <a:cubicBezTo>
                  <a:pt x="22224" y="13950"/>
                  <a:pt x="22162" y="14010"/>
                  <a:pt x="22051" y="14089"/>
                </a:cubicBezTo>
                <a:cubicBezTo>
                  <a:pt x="22173" y="14042"/>
                  <a:pt x="22418" y="14094"/>
                  <a:pt x="22250" y="14288"/>
                </a:cubicBezTo>
                <a:cubicBezTo>
                  <a:pt x="22091" y="14401"/>
                  <a:pt x="22051" y="14436"/>
                  <a:pt x="21927" y="14461"/>
                </a:cubicBezTo>
              </a:path>
              <a:path w="919" h="943">
                <a:moveTo>
                  <a:pt x="22423" y="13643"/>
                </a:moveTo>
                <a:cubicBezTo>
                  <a:pt x="22311" y="13710"/>
                  <a:pt x="22025" y="13765"/>
                  <a:pt x="21977" y="13866"/>
                </a:cubicBezTo>
                <a:cubicBezTo>
                  <a:pt x="21940" y="13943"/>
                  <a:pt x="21958" y="14124"/>
                  <a:pt x="21952" y="14213"/>
                </a:cubicBezTo>
                <a:cubicBezTo>
                  <a:pt x="22046" y="14152"/>
                  <a:pt x="22245" y="13989"/>
                  <a:pt x="22349" y="14139"/>
                </a:cubicBezTo>
                <a:cubicBezTo>
                  <a:pt x="22503" y="14362"/>
                  <a:pt x="22104" y="14481"/>
                  <a:pt x="21977" y="14536"/>
                </a:cubicBezTo>
                <a:cubicBezTo>
                  <a:pt x="21904" y="14568"/>
                  <a:pt x="21789" y="14608"/>
                  <a:pt x="21853" y="14560"/>
                </a:cubicBezTo>
                <a:cubicBezTo>
                  <a:pt x="21979" y="14540"/>
                  <a:pt x="22104" y="14563"/>
                  <a:pt x="22200" y="14436"/>
                </a:cubicBezTo>
                <a:cubicBezTo>
                  <a:pt x="22276" y="14336"/>
                  <a:pt x="22324" y="14204"/>
                  <a:pt x="22349" y="14089"/>
                </a:cubicBezTo>
                <a:cubicBezTo>
                  <a:pt x="22159" y="14089"/>
                  <a:pt x="22013" y="14159"/>
                  <a:pt x="22002" y="13965"/>
                </a:cubicBezTo>
                <a:cubicBezTo>
                  <a:pt x="21992" y="13794"/>
                  <a:pt x="21986" y="13805"/>
                  <a:pt x="22126" y="13767"/>
                </a:cubicBezTo>
                <a:cubicBezTo>
                  <a:pt x="22239" y="13737"/>
                  <a:pt x="22373" y="13692"/>
                  <a:pt x="22473" y="1364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48760" y="5010120"/>
            <a:ext cx="644400" cy="490680"/>
          </a:xfrm>
          <a:custGeom>
            <a:avLst/>
            <a:gdLst/>
            <a:ahLst/>
            <a:rect l="l" t="t" r="r" b="b"/>
            <a:pathLst>
              <a:path w="1787" h="1366">
                <a:moveTo>
                  <a:pt x="23217" y="14610"/>
                </a:moveTo>
                <a:cubicBezTo>
                  <a:pt x="23217" y="14491"/>
                  <a:pt x="23206" y="14713"/>
                  <a:pt x="23192" y="14759"/>
                </a:cubicBezTo>
                <a:cubicBezTo>
                  <a:pt x="23204" y="14636"/>
                  <a:pt x="23202" y="14561"/>
                  <a:pt x="23316" y="14511"/>
                </a:cubicBezTo>
                <a:cubicBezTo>
                  <a:pt x="23388" y="14479"/>
                  <a:pt x="23469" y="14462"/>
                  <a:pt x="23540" y="14436"/>
                </a:cubicBezTo>
                <a:cubicBezTo>
                  <a:pt x="23583" y="14415"/>
                  <a:pt x="23595" y="14411"/>
                  <a:pt x="23614" y="14387"/>
                </a:cubicBezTo>
                <a:cubicBezTo>
                  <a:pt x="23628" y="14642"/>
                  <a:pt x="23530" y="14901"/>
                  <a:pt x="23465" y="15156"/>
                </a:cubicBezTo>
                <a:cubicBezTo>
                  <a:pt x="23446" y="15230"/>
                  <a:pt x="23438" y="15237"/>
                  <a:pt x="23440" y="15280"/>
                </a:cubicBezTo>
              </a:path>
              <a:path w="1787" h="1366">
                <a:moveTo>
                  <a:pt x="24085" y="14238"/>
                </a:moveTo>
                <a:cubicBezTo>
                  <a:pt x="24044" y="14271"/>
                  <a:pt x="23834" y="14401"/>
                  <a:pt x="23837" y="14461"/>
                </a:cubicBezTo>
                <a:cubicBezTo>
                  <a:pt x="23842" y="14549"/>
                  <a:pt x="23862" y="14640"/>
                  <a:pt x="23862" y="14734"/>
                </a:cubicBezTo>
                <a:cubicBezTo>
                  <a:pt x="23921" y="14741"/>
                  <a:pt x="24069" y="14650"/>
                  <a:pt x="24110" y="14709"/>
                </a:cubicBezTo>
                <a:cubicBezTo>
                  <a:pt x="24213" y="14856"/>
                  <a:pt x="23980" y="15038"/>
                  <a:pt x="23887" y="15106"/>
                </a:cubicBezTo>
              </a:path>
              <a:path w="1787" h="1366">
                <a:moveTo>
                  <a:pt x="24383" y="14660"/>
                </a:moveTo>
                <a:cubicBezTo>
                  <a:pt x="24362" y="14787"/>
                  <a:pt x="24358" y="14902"/>
                  <a:pt x="24358" y="15032"/>
                </a:cubicBezTo>
                <a:cubicBezTo>
                  <a:pt x="24350" y="14973"/>
                  <a:pt x="24332" y="14643"/>
                  <a:pt x="24433" y="14709"/>
                </a:cubicBezTo>
                <a:cubicBezTo>
                  <a:pt x="24536" y="14777"/>
                  <a:pt x="24541" y="14875"/>
                  <a:pt x="24557" y="14982"/>
                </a:cubicBezTo>
                <a:cubicBezTo>
                  <a:pt x="24524" y="14884"/>
                  <a:pt x="24441" y="14589"/>
                  <a:pt x="24606" y="14536"/>
                </a:cubicBezTo>
                <a:cubicBezTo>
                  <a:pt x="24795" y="14475"/>
                  <a:pt x="24741" y="14964"/>
                  <a:pt x="24730" y="15032"/>
                </a:cubicBezTo>
              </a:path>
              <a:path w="1787" h="1366">
                <a:moveTo>
                  <a:pt x="24581" y="13990"/>
                </a:moveTo>
                <a:cubicBezTo>
                  <a:pt x="24687" y="13949"/>
                  <a:pt x="24876" y="13846"/>
                  <a:pt x="24780" y="14064"/>
                </a:cubicBezTo>
                <a:cubicBezTo>
                  <a:pt x="24679" y="14294"/>
                  <a:pt x="24793" y="14168"/>
                  <a:pt x="24978" y="1411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5402160"/>
            <a:ext cx="152280" cy="206640"/>
          </a:xfrm>
          <a:custGeom>
            <a:avLst/>
            <a:gdLst/>
            <a:ahLst/>
            <a:rect l="l" t="t" r="r" b="b"/>
            <a:pathLst>
              <a:path w="422" h="571">
                <a:moveTo>
                  <a:pt x="21754" y="15106"/>
                </a:moveTo>
                <a:cubicBezTo>
                  <a:pt x="21899" y="15051"/>
                  <a:pt x="21978" y="15023"/>
                  <a:pt x="22126" y="15032"/>
                </a:cubicBezTo>
                <a:cubicBezTo>
                  <a:pt x="22086" y="15245"/>
                  <a:pt x="21947" y="15319"/>
                  <a:pt x="21803" y="15478"/>
                </a:cubicBezTo>
                <a:cubicBezTo>
                  <a:pt x="21787" y="15503"/>
                  <a:pt x="21770" y="15528"/>
                  <a:pt x="21754" y="15553"/>
                </a:cubicBezTo>
                <a:cubicBezTo>
                  <a:pt x="21902" y="15569"/>
                  <a:pt x="22026" y="15542"/>
                  <a:pt x="22175" y="1552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05840" y="533088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22796" y="14833"/>
                </a:moveTo>
                <a:cubicBezTo>
                  <a:pt x="22875" y="14815"/>
                  <a:pt x="22937" y="14808"/>
                  <a:pt x="23019" y="1480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43920" y="2509920"/>
            <a:ext cx="108000" cy="16020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22895" y="6970"/>
                </a:moveTo>
                <a:cubicBezTo>
                  <a:pt x="22850" y="6990"/>
                  <a:pt x="22725" y="7014"/>
                  <a:pt x="22696" y="7045"/>
                </a:cubicBezTo>
                <a:cubicBezTo>
                  <a:pt x="22657" y="7104"/>
                  <a:pt x="22653" y="7116"/>
                  <a:pt x="22622" y="7144"/>
                </a:cubicBezTo>
                <a:cubicBezTo>
                  <a:pt x="22737" y="7155"/>
                  <a:pt x="22920" y="7131"/>
                  <a:pt x="22920" y="7268"/>
                </a:cubicBezTo>
                <a:cubicBezTo>
                  <a:pt x="22920" y="7408"/>
                  <a:pt x="22786" y="7400"/>
                  <a:pt x="22696" y="741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13800" y="2840040"/>
            <a:ext cx="465120" cy="9360"/>
          </a:xfrm>
          <a:custGeom>
            <a:avLst/>
            <a:gdLst/>
            <a:ahLst/>
            <a:rect l="l" t="t" r="r" b="b"/>
            <a:pathLst>
              <a:path w="1291" h="26">
                <a:moveTo>
                  <a:pt x="21704" y="7888"/>
                </a:moveTo>
                <a:cubicBezTo>
                  <a:pt x="22107" y="7888"/>
                  <a:pt x="22577" y="7822"/>
                  <a:pt x="22969" y="7913"/>
                </a:cubicBezTo>
                <a:cubicBezTo>
                  <a:pt x="22977" y="7913"/>
                  <a:pt x="22986" y="7913"/>
                  <a:pt x="22994" y="791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91640" y="2946240"/>
            <a:ext cx="125280" cy="108000"/>
          </a:xfrm>
          <a:custGeom>
            <a:avLst/>
            <a:gdLst/>
            <a:ahLst/>
            <a:rect l="l" t="t" r="r" b="b"/>
            <a:pathLst>
              <a:path w="348" h="298">
                <a:moveTo>
                  <a:pt x="22200" y="8210"/>
                </a:moveTo>
                <a:cubicBezTo>
                  <a:pt x="22280" y="8192"/>
                  <a:pt x="22512" y="8113"/>
                  <a:pt x="22448" y="8285"/>
                </a:cubicBezTo>
                <a:cubicBezTo>
                  <a:pt x="22374" y="8384"/>
                  <a:pt x="22349" y="8417"/>
                  <a:pt x="22275" y="8458"/>
                </a:cubicBezTo>
                <a:cubicBezTo>
                  <a:pt x="22212" y="8550"/>
                  <a:pt x="22454" y="8455"/>
                  <a:pt x="22547" y="843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67840" y="281304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23242" y="7838"/>
                </a:moveTo>
                <a:cubicBezTo>
                  <a:pt x="23327" y="7824"/>
                  <a:pt x="23401" y="7813"/>
                  <a:pt x="23490" y="781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13800" y="3330720"/>
            <a:ext cx="12528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21704" y="9327"/>
                </a:moveTo>
                <a:cubicBezTo>
                  <a:pt x="21806" y="9282"/>
                  <a:pt x="21867" y="9261"/>
                  <a:pt x="21977" y="9252"/>
                </a:cubicBezTo>
                <a:cubicBezTo>
                  <a:pt x="22017" y="9423"/>
                  <a:pt x="21991" y="9446"/>
                  <a:pt x="21853" y="9550"/>
                </a:cubicBezTo>
                <a:cubicBezTo>
                  <a:pt x="21970" y="9599"/>
                  <a:pt x="22128" y="9684"/>
                  <a:pt x="22027" y="9847"/>
                </a:cubicBezTo>
                <a:cubicBezTo>
                  <a:pt x="21956" y="9962"/>
                  <a:pt x="21813" y="9922"/>
                  <a:pt x="21704" y="992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66080" y="3340080"/>
            <a:ext cx="169920" cy="276120"/>
          </a:xfrm>
          <a:custGeom>
            <a:avLst/>
            <a:gdLst/>
            <a:ahLst/>
            <a:rect l="l" t="t" r="r" b="b"/>
            <a:pathLst>
              <a:path w="472" h="770">
                <a:moveTo>
                  <a:pt x="22423" y="9327"/>
                </a:moveTo>
                <a:cubicBezTo>
                  <a:pt x="22328" y="9279"/>
                  <a:pt x="22271" y="9258"/>
                  <a:pt x="22200" y="9376"/>
                </a:cubicBezTo>
                <a:cubicBezTo>
                  <a:pt x="22121" y="9508"/>
                  <a:pt x="22104" y="9721"/>
                  <a:pt x="22126" y="9872"/>
                </a:cubicBezTo>
                <a:cubicBezTo>
                  <a:pt x="22143" y="9986"/>
                  <a:pt x="22225" y="10079"/>
                  <a:pt x="22349" y="10046"/>
                </a:cubicBezTo>
                <a:cubicBezTo>
                  <a:pt x="22532" y="9997"/>
                  <a:pt x="22588" y="9869"/>
                  <a:pt x="22597" y="9699"/>
                </a:cubicBezTo>
                <a:cubicBezTo>
                  <a:pt x="22603" y="9593"/>
                  <a:pt x="22581" y="9468"/>
                  <a:pt x="22523" y="9376"/>
                </a:cubicBezTo>
                <a:cubicBezTo>
                  <a:pt x="22515" y="9368"/>
                  <a:pt x="22506" y="9359"/>
                  <a:pt x="22498" y="935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51920" y="3446640"/>
            <a:ext cx="27000" cy="142560"/>
          </a:xfrm>
          <a:custGeom>
            <a:avLst/>
            <a:gdLst/>
            <a:ahLst/>
            <a:rect l="l" t="t" r="r" b="b"/>
            <a:pathLst>
              <a:path w="75" h="397">
                <a:moveTo>
                  <a:pt x="22920" y="9575"/>
                </a:moveTo>
                <a:cubicBezTo>
                  <a:pt x="22970" y="9603"/>
                  <a:pt x="22979" y="9629"/>
                  <a:pt x="22994" y="9599"/>
                </a:cubicBezTo>
                <a:cubicBezTo>
                  <a:pt x="22994" y="9723"/>
                  <a:pt x="22994" y="9847"/>
                  <a:pt x="22994" y="997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402760" y="3446640"/>
            <a:ext cx="134640" cy="142560"/>
          </a:xfrm>
          <a:custGeom>
            <a:avLst/>
            <a:gdLst/>
            <a:ahLst/>
            <a:rect l="l" t="t" r="r" b="b"/>
            <a:pathLst>
              <a:path w="373" h="397">
                <a:moveTo>
                  <a:pt x="23391" y="9872"/>
                </a:moveTo>
                <a:cubicBezTo>
                  <a:pt x="23444" y="9768"/>
                  <a:pt x="23348" y="9714"/>
                  <a:pt x="23366" y="9599"/>
                </a:cubicBezTo>
                <a:cubicBezTo>
                  <a:pt x="23572" y="9590"/>
                  <a:pt x="23674" y="9606"/>
                  <a:pt x="23713" y="9847"/>
                </a:cubicBezTo>
                <a:cubicBezTo>
                  <a:pt x="23713" y="9922"/>
                  <a:pt x="23713" y="9930"/>
                  <a:pt x="23713" y="997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626320" y="3330720"/>
            <a:ext cx="71640" cy="117360"/>
          </a:xfrm>
          <a:custGeom>
            <a:avLst/>
            <a:gdLst/>
            <a:ahLst/>
            <a:rect l="l" t="t" r="r" b="b"/>
            <a:pathLst>
              <a:path w="200" h="324">
                <a:moveTo>
                  <a:pt x="23961" y="9252"/>
                </a:moveTo>
                <a:cubicBezTo>
                  <a:pt x="24020" y="9272"/>
                  <a:pt x="24182" y="9266"/>
                  <a:pt x="24160" y="9376"/>
                </a:cubicBezTo>
                <a:cubicBezTo>
                  <a:pt x="24153" y="9411"/>
                  <a:pt x="23932" y="9608"/>
                  <a:pt x="24036" y="9575"/>
                </a:cubicBezTo>
                <a:cubicBezTo>
                  <a:pt x="24061" y="9558"/>
                  <a:pt x="24085" y="9542"/>
                  <a:pt x="24110" y="952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the height of a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2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905120" y="2438280"/>
          <a:ext cx="2108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2108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572000" y="2514600"/>
          <a:ext cx="16635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1663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3581280" y="3124080"/>
          <a:ext cx="914400" cy="7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9144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505320" y="3962520"/>
          <a:ext cx="121896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962520"/>
                    <a:ext cx="12189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581280" y="4876920"/>
          <a:ext cx="1219320" cy="28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4876920"/>
                    <a:ext cx="121932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581280" y="5410080"/>
          <a:ext cx="1219320" cy="27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5410080"/>
                    <a:ext cx="121932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886200" y="5943600"/>
          <a:ext cx="609480" cy="26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5943600"/>
                    <a:ext cx="60948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5638680" y="4114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b 36 for A and 8 for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800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5410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-write as a division prob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5867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60800" y="2884320"/>
            <a:ext cx="669960" cy="63720"/>
          </a:xfrm>
          <a:custGeom>
            <a:avLst/>
            <a:gdLst/>
            <a:ahLst/>
            <a:rect l="l" t="t" r="r" b="b"/>
            <a:pathLst>
              <a:path w="1861" h="175">
                <a:moveTo>
                  <a:pt x="8781" y="8186"/>
                </a:moveTo>
                <a:cubicBezTo>
                  <a:pt x="9104" y="8143"/>
                  <a:pt x="9422" y="8107"/>
                  <a:pt x="9748" y="8086"/>
                </a:cubicBezTo>
                <a:cubicBezTo>
                  <a:pt x="10048" y="8066"/>
                  <a:pt x="10343" y="8031"/>
                  <a:pt x="10641" y="801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0040" y="3348000"/>
            <a:ext cx="2482920" cy="3081240"/>
          </a:xfrm>
          <a:custGeom>
            <a:avLst/>
            <a:gdLst/>
            <a:ahLst/>
            <a:rect l="l" t="t" r="r" b="b"/>
            <a:pathLst>
              <a:path w="6897" h="8558">
                <a:moveTo>
                  <a:pt x="7516" y="9798"/>
                </a:moveTo>
                <a:cubicBezTo>
                  <a:pt x="7501" y="9997"/>
                  <a:pt x="7489" y="10129"/>
                  <a:pt x="7541" y="10319"/>
                </a:cubicBezTo>
                <a:cubicBezTo>
                  <a:pt x="7663" y="10261"/>
                  <a:pt x="8071" y="9953"/>
                  <a:pt x="7739" y="9823"/>
                </a:cubicBezTo>
                <a:cubicBezTo>
                  <a:pt x="7599" y="9823"/>
                  <a:pt x="7590" y="9823"/>
                  <a:pt x="7516" y="9823"/>
                </a:cubicBezTo>
              </a:path>
              <a:path w="6897" h="8558">
                <a:moveTo>
                  <a:pt x="7938" y="9922"/>
                </a:moveTo>
                <a:cubicBezTo>
                  <a:pt x="8002" y="10267"/>
                  <a:pt x="7918" y="10084"/>
                  <a:pt x="7938" y="9872"/>
                </a:cubicBezTo>
                <a:cubicBezTo>
                  <a:pt x="7960" y="9646"/>
                  <a:pt x="8082" y="9535"/>
                  <a:pt x="8285" y="9550"/>
                </a:cubicBezTo>
              </a:path>
              <a:path w="6897" h="8558">
                <a:moveTo>
                  <a:pt x="2853" y="9599"/>
                </a:moveTo>
                <a:cubicBezTo>
                  <a:pt x="2834" y="9858"/>
                  <a:pt x="2816" y="10112"/>
                  <a:pt x="2778" y="10368"/>
                </a:cubicBezTo>
                <a:cubicBezTo>
                  <a:pt x="2789" y="10140"/>
                  <a:pt x="2797" y="9901"/>
                  <a:pt x="2828" y="9674"/>
                </a:cubicBezTo>
                <a:cubicBezTo>
                  <a:pt x="2870" y="9461"/>
                  <a:pt x="2868" y="9409"/>
                  <a:pt x="2952" y="9302"/>
                </a:cubicBezTo>
                <a:cubicBezTo>
                  <a:pt x="3197" y="9375"/>
                  <a:pt x="3212" y="9744"/>
                  <a:pt x="3249" y="9971"/>
                </a:cubicBezTo>
                <a:cubicBezTo>
                  <a:pt x="3274" y="10128"/>
                  <a:pt x="3274" y="10263"/>
                  <a:pt x="3274" y="10418"/>
                </a:cubicBezTo>
              </a:path>
              <a:path w="6897" h="8558">
                <a:moveTo>
                  <a:pt x="2803" y="10046"/>
                </a:moveTo>
                <a:cubicBezTo>
                  <a:pt x="2959" y="9983"/>
                  <a:pt x="3079" y="9931"/>
                  <a:pt x="3249" y="9922"/>
                </a:cubicBezTo>
                <a:cubicBezTo>
                  <a:pt x="3257" y="9922"/>
                  <a:pt x="3266" y="9922"/>
                  <a:pt x="3274" y="9922"/>
                </a:cubicBezTo>
              </a:path>
              <a:path w="6897" h="8558">
                <a:moveTo>
                  <a:pt x="3547" y="9971"/>
                </a:moveTo>
                <a:cubicBezTo>
                  <a:pt x="3620" y="9926"/>
                  <a:pt x="3693" y="9886"/>
                  <a:pt x="3770" y="9847"/>
                </a:cubicBezTo>
              </a:path>
              <a:path w="6897" h="8558">
                <a:moveTo>
                  <a:pt x="4316" y="9575"/>
                </a:moveTo>
                <a:cubicBezTo>
                  <a:pt x="4373" y="9423"/>
                  <a:pt x="4215" y="9447"/>
                  <a:pt x="4093" y="9500"/>
                </a:cubicBezTo>
                <a:cubicBezTo>
                  <a:pt x="4006" y="9566"/>
                  <a:pt x="3978" y="9576"/>
                  <a:pt x="3969" y="9649"/>
                </a:cubicBezTo>
                <a:cubicBezTo>
                  <a:pt x="4138" y="9759"/>
                  <a:pt x="4462" y="9840"/>
                  <a:pt x="4366" y="10096"/>
                </a:cubicBezTo>
                <a:cubicBezTo>
                  <a:pt x="4279" y="10204"/>
                  <a:pt x="4265" y="10246"/>
                  <a:pt x="4167" y="10220"/>
                </a:cubicBezTo>
                <a:cubicBezTo>
                  <a:pt x="4158" y="10004"/>
                  <a:pt x="4177" y="9902"/>
                  <a:pt x="4316" y="9723"/>
                </a:cubicBezTo>
              </a:path>
              <a:path w="6897" h="8558">
                <a:moveTo>
                  <a:pt x="4539" y="9302"/>
                </a:moveTo>
                <a:cubicBezTo>
                  <a:pt x="4560" y="9577"/>
                  <a:pt x="4619" y="9846"/>
                  <a:pt x="4638" y="10120"/>
                </a:cubicBezTo>
                <a:cubicBezTo>
                  <a:pt x="4638" y="10000"/>
                  <a:pt x="4593" y="9801"/>
                  <a:pt x="4738" y="9748"/>
                </a:cubicBezTo>
                <a:cubicBezTo>
                  <a:pt x="4944" y="9672"/>
                  <a:pt x="4998" y="10069"/>
                  <a:pt x="4986" y="10195"/>
                </a:cubicBezTo>
                <a:cubicBezTo>
                  <a:pt x="4978" y="10211"/>
                  <a:pt x="4969" y="10228"/>
                  <a:pt x="4961" y="10244"/>
                </a:cubicBezTo>
              </a:path>
              <a:path w="6897" h="8558">
                <a:moveTo>
                  <a:pt x="4043" y="10443"/>
                </a:moveTo>
                <a:cubicBezTo>
                  <a:pt x="4288" y="10355"/>
                  <a:pt x="4530" y="10287"/>
                  <a:pt x="4787" y="10244"/>
                </a:cubicBezTo>
                <a:cubicBezTo>
                  <a:pt x="4795" y="10244"/>
                  <a:pt x="4804" y="10244"/>
                  <a:pt x="4812" y="10244"/>
                </a:cubicBezTo>
              </a:path>
              <a:path w="6897" h="8558">
                <a:moveTo>
                  <a:pt x="4440" y="10666"/>
                </a:moveTo>
                <a:cubicBezTo>
                  <a:pt x="4515" y="10584"/>
                  <a:pt x="4557" y="10558"/>
                  <a:pt x="4663" y="10517"/>
                </a:cubicBezTo>
                <a:cubicBezTo>
                  <a:pt x="4696" y="10762"/>
                  <a:pt x="4593" y="10878"/>
                  <a:pt x="4440" y="11063"/>
                </a:cubicBezTo>
                <a:cubicBezTo>
                  <a:pt x="4564" y="11016"/>
                  <a:pt x="4685" y="10974"/>
                  <a:pt x="4812" y="10939"/>
                </a:cubicBezTo>
              </a:path>
              <a:path w="6897" h="8558">
                <a:moveTo>
                  <a:pt x="2604" y="11931"/>
                </a:moveTo>
                <a:cubicBezTo>
                  <a:pt x="2676" y="11823"/>
                  <a:pt x="2681" y="11831"/>
                  <a:pt x="2803" y="11807"/>
                </a:cubicBezTo>
                <a:cubicBezTo>
                  <a:pt x="2851" y="11979"/>
                  <a:pt x="2842" y="11996"/>
                  <a:pt x="2753" y="12154"/>
                </a:cubicBezTo>
                <a:cubicBezTo>
                  <a:pt x="2717" y="12272"/>
                  <a:pt x="2934" y="11971"/>
                  <a:pt x="2952" y="12278"/>
                </a:cubicBezTo>
                <a:cubicBezTo>
                  <a:pt x="2970" y="12582"/>
                  <a:pt x="2677" y="12568"/>
                  <a:pt x="2480" y="12551"/>
                </a:cubicBezTo>
              </a:path>
              <a:path w="6897" h="8558">
                <a:moveTo>
                  <a:pt x="3076" y="11906"/>
                </a:moveTo>
                <a:cubicBezTo>
                  <a:pt x="3102" y="12139"/>
                  <a:pt x="3098" y="12356"/>
                  <a:pt x="3175" y="12576"/>
                </a:cubicBezTo>
                <a:cubicBezTo>
                  <a:pt x="3382" y="12546"/>
                  <a:pt x="3436" y="12499"/>
                  <a:pt x="3448" y="12303"/>
                </a:cubicBezTo>
                <a:cubicBezTo>
                  <a:pt x="3349" y="12320"/>
                  <a:pt x="3189" y="12376"/>
                  <a:pt x="3249" y="12526"/>
                </a:cubicBezTo>
                <a:cubicBezTo>
                  <a:pt x="3266" y="12534"/>
                  <a:pt x="3282" y="12543"/>
                  <a:pt x="3299" y="12551"/>
                </a:cubicBezTo>
              </a:path>
              <a:path w="6897" h="8558">
                <a:moveTo>
                  <a:pt x="4291" y="11757"/>
                </a:moveTo>
                <a:cubicBezTo>
                  <a:pt x="4183" y="11809"/>
                  <a:pt x="3844" y="11935"/>
                  <a:pt x="4043" y="12080"/>
                </a:cubicBezTo>
                <a:cubicBezTo>
                  <a:pt x="4179" y="12148"/>
                  <a:pt x="4221" y="12161"/>
                  <a:pt x="4266" y="12254"/>
                </a:cubicBezTo>
                <a:cubicBezTo>
                  <a:pt x="4241" y="12270"/>
                  <a:pt x="4217" y="12287"/>
                  <a:pt x="4192" y="12303"/>
                </a:cubicBezTo>
                <a:cubicBezTo>
                  <a:pt x="3984" y="12289"/>
                  <a:pt x="4043" y="12166"/>
                  <a:pt x="4167" y="12005"/>
                </a:cubicBezTo>
                <a:cubicBezTo>
                  <a:pt x="4192" y="11980"/>
                  <a:pt x="4217" y="11956"/>
                  <a:pt x="4242" y="11931"/>
                </a:cubicBezTo>
              </a:path>
              <a:path w="6897" h="8558">
                <a:moveTo>
                  <a:pt x="4440" y="11757"/>
                </a:moveTo>
                <a:cubicBezTo>
                  <a:pt x="4459" y="11843"/>
                  <a:pt x="4514" y="12283"/>
                  <a:pt x="4514" y="12204"/>
                </a:cubicBezTo>
                <a:cubicBezTo>
                  <a:pt x="4574" y="12032"/>
                  <a:pt x="4572" y="11975"/>
                  <a:pt x="4713" y="11881"/>
                </a:cubicBezTo>
                <a:cubicBezTo>
                  <a:pt x="4798" y="12045"/>
                  <a:pt x="4821" y="12099"/>
                  <a:pt x="4812" y="12278"/>
                </a:cubicBezTo>
              </a:path>
              <a:path w="6897" h="8558">
                <a:moveTo>
                  <a:pt x="4291" y="12725"/>
                </a:moveTo>
                <a:cubicBezTo>
                  <a:pt x="4405" y="12679"/>
                  <a:pt x="4436" y="12665"/>
                  <a:pt x="4514" y="12650"/>
                </a:cubicBezTo>
                <a:cubicBezTo>
                  <a:pt x="4514" y="12813"/>
                  <a:pt x="4434" y="12893"/>
                  <a:pt x="4316" y="13022"/>
                </a:cubicBezTo>
                <a:cubicBezTo>
                  <a:pt x="4435" y="12994"/>
                  <a:pt x="4547" y="12962"/>
                  <a:pt x="4663" y="12923"/>
                </a:cubicBezTo>
              </a:path>
              <a:path w="6897" h="8558">
                <a:moveTo>
                  <a:pt x="5011" y="12278"/>
                </a:moveTo>
                <a:cubicBezTo>
                  <a:pt x="5077" y="12344"/>
                  <a:pt x="5143" y="12411"/>
                  <a:pt x="5209" y="12477"/>
                </a:cubicBezTo>
              </a:path>
              <a:path w="6897" h="8558">
                <a:moveTo>
                  <a:pt x="5184" y="12229"/>
                </a:moveTo>
                <a:cubicBezTo>
                  <a:pt x="5114" y="12368"/>
                  <a:pt x="5064" y="12503"/>
                  <a:pt x="5011" y="12650"/>
                </a:cubicBezTo>
              </a:path>
              <a:path w="6897" h="8558">
                <a:moveTo>
                  <a:pt x="5457" y="12030"/>
                </a:moveTo>
                <a:cubicBezTo>
                  <a:pt x="5542" y="11999"/>
                  <a:pt x="5595" y="11990"/>
                  <a:pt x="5680" y="12005"/>
                </a:cubicBezTo>
                <a:cubicBezTo>
                  <a:pt x="5661" y="12177"/>
                  <a:pt x="5628" y="12233"/>
                  <a:pt x="5531" y="12378"/>
                </a:cubicBezTo>
                <a:cubicBezTo>
                  <a:pt x="5650" y="12355"/>
                  <a:pt x="5741" y="12331"/>
                  <a:pt x="5854" y="12303"/>
                </a:cubicBezTo>
              </a:path>
              <a:path w="6897" h="8558">
                <a:moveTo>
                  <a:pt x="1811" y="12353"/>
                </a:moveTo>
                <a:cubicBezTo>
                  <a:pt x="1955" y="12436"/>
                  <a:pt x="2044" y="12551"/>
                  <a:pt x="2158" y="12675"/>
                </a:cubicBezTo>
              </a:path>
              <a:path w="6897" h="8558">
                <a:moveTo>
                  <a:pt x="1389" y="12229"/>
                </a:moveTo>
                <a:cubicBezTo>
                  <a:pt x="1654" y="12267"/>
                  <a:pt x="1910" y="12347"/>
                  <a:pt x="1712" y="12675"/>
                </a:cubicBezTo>
                <a:cubicBezTo>
                  <a:pt x="1605" y="12853"/>
                  <a:pt x="1528" y="12825"/>
                  <a:pt x="1439" y="12725"/>
                </a:cubicBezTo>
                <a:cubicBezTo>
                  <a:pt x="1623" y="12667"/>
                  <a:pt x="1706" y="12697"/>
                  <a:pt x="1860" y="12824"/>
                </a:cubicBezTo>
              </a:path>
              <a:path w="6897" h="8558">
                <a:moveTo>
                  <a:pt x="2381" y="13891"/>
                </a:moveTo>
                <a:cubicBezTo>
                  <a:pt x="2403" y="13934"/>
                  <a:pt x="2407" y="13946"/>
                  <a:pt x="2431" y="13965"/>
                </a:cubicBezTo>
                <a:cubicBezTo>
                  <a:pt x="2431" y="13784"/>
                  <a:pt x="2390" y="13779"/>
                  <a:pt x="2580" y="13816"/>
                </a:cubicBezTo>
                <a:cubicBezTo>
                  <a:pt x="2709" y="13841"/>
                  <a:pt x="2748" y="13862"/>
                  <a:pt x="2803" y="13767"/>
                </a:cubicBezTo>
                <a:cubicBezTo>
                  <a:pt x="2894" y="13976"/>
                  <a:pt x="2764" y="14280"/>
                  <a:pt x="2729" y="14486"/>
                </a:cubicBezTo>
                <a:cubicBezTo>
                  <a:pt x="2710" y="14618"/>
                  <a:pt x="2702" y="14634"/>
                  <a:pt x="2704" y="14709"/>
                </a:cubicBezTo>
              </a:path>
              <a:path w="6897" h="8558">
                <a:moveTo>
                  <a:pt x="3051" y="13940"/>
                </a:moveTo>
                <a:cubicBezTo>
                  <a:pt x="3254" y="13926"/>
                  <a:pt x="3458" y="14056"/>
                  <a:pt x="3373" y="14312"/>
                </a:cubicBezTo>
                <a:cubicBezTo>
                  <a:pt x="3290" y="14560"/>
                  <a:pt x="3183" y="14526"/>
                  <a:pt x="3026" y="14461"/>
                </a:cubicBezTo>
                <a:cubicBezTo>
                  <a:pt x="3109" y="14260"/>
                  <a:pt x="3237" y="14233"/>
                  <a:pt x="3398" y="14436"/>
                </a:cubicBezTo>
                <a:cubicBezTo>
                  <a:pt x="3406" y="14461"/>
                  <a:pt x="3415" y="14486"/>
                  <a:pt x="3423" y="14511"/>
                </a:cubicBezTo>
              </a:path>
              <a:path w="6897" h="8558">
                <a:moveTo>
                  <a:pt x="4316" y="13022"/>
                </a:moveTo>
                <a:cubicBezTo>
                  <a:pt x="4354" y="12973"/>
                  <a:pt x="4723" y="12587"/>
                  <a:pt x="4862" y="12477"/>
                </a:cubicBezTo>
                <a:cubicBezTo>
                  <a:pt x="5154" y="12246"/>
                  <a:pt x="5442" y="12017"/>
                  <a:pt x="5730" y="11782"/>
                </a:cubicBezTo>
              </a:path>
              <a:path w="6897" h="8558">
                <a:moveTo>
                  <a:pt x="4316" y="13866"/>
                </a:moveTo>
                <a:cubicBezTo>
                  <a:pt x="4188" y="13875"/>
                  <a:pt x="4135" y="13925"/>
                  <a:pt x="4018" y="14015"/>
                </a:cubicBezTo>
                <a:cubicBezTo>
                  <a:pt x="4142" y="14124"/>
                  <a:pt x="4433" y="14142"/>
                  <a:pt x="4366" y="14387"/>
                </a:cubicBezTo>
                <a:cubicBezTo>
                  <a:pt x="4284" y="14489"/>
                  <a:pt x="4279" y="14530"/>
                  <a:pt x="4192" y="14511"/>
                </a:cubicBezTo>
                <a:cubicBezTo>
                  <a:pt x="4192" y="14311"/>
                  <a:pt x="4221" y="14222"/>
                  <a:pt x="4316" y="14039"/>
                </a:cubicBezTo>
              </a:path>
              <a:path w="6897" h="8558">
                <a:moveTo>
                  <a:pt x="4589" y="13767"/>
                </a:moveTo>
                <a:cubicBezTo>
                  <a:pt x="4638" y="13972"/>
                  <a:pt x="4670" y="14176"/>
                  <a:pt x="4688" y="14387"/>
                </a:cubicBezTo>
                <a:cubicBezTo>
                  <a:pt x="4671" y="14189"/>
                  <a:pt x="4670" y="14125"/>
                  <a:pt x="4787" y="13965"/>
                </a:cubicBezTo>
                <a:cubicBezTo>
                  <a:pt x="4915" y="14155"/>
                  <a:pt x="4956" y="14262"/>
                  <a:pt x="4986" y="14486"/>
                </a:cubicBezTo>
              </a:path>
              <a:path w="6897" h="8558">
                <a:moveTo>
                  <a:pt x="4167" y="14808"/>
                </a:moveTo>
                <a:cubicBezTo>
                  <a:pt x="4416" y="14757"/>
                  <a:pt x="4663" y="14694"/>
                  <a:pt x="4911" y="14635"/>
                </a:cubicBezTo>
              </a:path>
              <a:path w="6897" h="8558">
                <a:moveTo>
                  <a:pt x="4862" y="14932"/>
                </a:moveTo>
                <a:cubicBezTo>
                  <a:pt x="4715" y="15006"/>
                  <a:pt x="4376" y="15090"/>
                  <a:pt x="4564" y="15205"/>
                </a:cubicBezTo>
                <a:cubicBezTo>
                  <a:pt x="4713" y="15296"/>
                  <a:pt x="4681" y="15309"/>
                  <a:pt x="4663" y="15478"/>
                </a:cubicBezTo>
                <a:cubicBezTo>
                  <a:pt x="4638" y="15486"/>
                  <a:pt x="4614" y="15495"/>
                  <a:pt x="4589" y="15503"/>
                </a:cubicBezTo>
                <a:cubicBezTo>
                  <a:pt x="4552" y="15273"/>
                  <a:pt x="4574" y="15177"/>
                  <a:pt x="4713" y="14982"/>
                </a:cubicBezTo>
              </a:path>
              <a:path w="6897" h="8558">
                <a:moveTo>
                  <a:pt x="2381" y="15156"/>
                </a:moveTo>
                <a:cubicBezTo>
                  <a:pt x="2649" y="14994"/>
                  <a:pt x="2938" y="14930"/>
                  <a:pt x="3249" y="14858"/>
                </a:cubicBezTo>
                <a:cubicBezTo>
                  <a:pt x="3274" y="14858"/>
                  <a:pt x="3282" y="14858"/>
                  <a:pt x="3274" y="14883"/>
                </a:cubicBezTo>
              </a:path>
              <a:path w="6897" h="8558">
                <a:moveTo>
                  <a:pt x="3200" y="15156"/>
                </a:moveTo>
                <a:cubicBezTo>
                  <a:pt x="3118" y="15207"/>
                  <a:pt x="2798" y="15350"/>
                  <a:pt x="2977" y="15429"/>
                </a:cubicBezTo>
                <a:cubicBezTo>
                  <a:pt x="3149" y="15505"/>
                  <a:pt x="3183" y="15439"/>
                  <a:pt x="3125" y="15627"/>
                </a:cubicBezTo>
                <a:cubicBezTo>
                  <a:pt x="2905" y="15701"/>
                  <a:pt x="3159" y="15308"/>
                  <a:pt x="3200" y="15230"/>
                </a:cubicBezTo>
              </a:path>
              <a:path w="6897" h="8558">
                <a:moveTo>
                  <a:pt x="4688" y="16297"/>
                </a:moveTo>
                <a:cubicBezTo>
                  <a:pt x="4701" y="16513"/>
                  <a:pt x="4733" y="16725"/>
                  <a:pt x="4738" y="16942"/>
                </a:cubicBezTo>
                <a:cubicBezTo>
                  <a:pt x="4738" y="16967"/>
                  <a:pt x="4738" y="16991"/>
                  <a:pt x="4738" y="17016"/>
                </a:cubicBezTo>
                <a:cubicBezTo>
                  <a:pt x="4750" y="16882"/>
                  <a:pt x="4763" y="16673"/>
                  <a:pt x="4862" y="16570"/>
                </a:cubicBezTo>
                <a:cubicBezTo>
                  <a:pt x="4887" y="16562"/>
                  <a:pt x="4911" y="16553"/>
                  <a:pt x="4936" y="16545"/>
                </a:cubicBezTo>
                <a:cubicBezTo>
                  <a:pt x="5034" y="16691"/>
                  <a:pt x="5035" y="16783"/>
                  <a:pt x="5035" y="16966"/>
                </a:cubicBezTo>
                <a:cubicBezTo>
                  <a:pt x="5035" y="16983"/>
                  <a:pt x="5035" y="16999"/>
                  <a:pt x="5035" y="17016"/>
                </a:cubicBezTo>
              </a:path>
              <a:path w="6897" h="8558">
                <a:moveTo>
                  <a:pt x="3299" y="16743"/>
                </a:moveTo>
                <a:cubicBezTo>
                  <a:pt x="3367" y="16654"/>
                  <a:pt x="3296" y="16581"/>
                  <a:pt x="3225" y="16495"/>
                </a:cubicBezTo>
                <a:cubicBezTo>
                  <a:pt x="3068" y="16568"/>
                  <a:pt x="2906" y="16768"/>
                  <a:pt x="3101" y="16942"/>
                </a:cubicBezTo>
                <a:cubicBezTo>
                  <a:pt x="3134" y="16942"/>
                  <a:pt x="3167" y="16942"/>
                  <a:pt x="3200" y="16942"/>
                </a:cubicBezTo>
                <a:cubicBezTo>
                  <a:pt x="3296" y="16817"/>
                  <a:pt x="3331" y="16749"/>
                  <a:pt x="3373" y="16594"/>
                </a:cubicBezTo>
                <a:cubicBezTo>
                  <a:pt x="3430" y="16834"/>
                  <a:pt x="3463" y="17070"/>
                  <a:pt x="3497" y="17314"/>
                </a:cubicBezTo>
              </a:path>
              <a:path w="6897" h="8558">
                <a:moveTo>
                  <a:pt x="2580" y="16495"/>
                </a:moveTo>
                <a:cubicBezTo>
                  <a:pt x="2667" y="16803"/>
                  <a:pt x="2753" y="17122"/>
                  <a:pt x="2828" y="17438"/>
                </a:cubicBezTo>
                <a:cubicBezTo>
                  <a:pt x="2840" y="17490"/>
                  <a:pt x="2863" y="17852"/>
                  <a:pt x="3001" y="17859"/>
                </a:cubicBezTo>
                <a:cubicBezTo>
                  <a:pt x="3404" y="17879"/>
                  <a:pt x="4049" y="17561"/>
                  <a:pt x="4440" y="17462"/>
                </a:cubicBezTo>
                <a:cubicBezTo>
                  <a:pt x="4753" y="17383"/>
                  <a:pt x="5015" y="17314"/>
                  <a:pt x="5333" y="17314"/>
                </a:cubicBezTo>
                <a:cubicBezTo>
                  <a:pt x="5350" y="17314"/>
                  <a:pt x="5366" y="17314"/>
                  <a:pt x="5383" y="17314"/>
                </a:cubicBezTo>
                <a:cubicBezTo>
                  <a:pt x="5363" y="17124"/>
                  <a:pt x="5337" y="16966"/>
                  <a:pt x="5333" y="16768"/>
                </a:cubicBezTo>
                <a:cubicBezTo>
                  <a:pt x="5327" y="16480"/>
                  <a:pt x="5307" y="16283"/>
                  <a:pt x="5209" y="16049"/>
                </a:cubicBezTo>
                <a:cubicBezTo>
                  <a:pt x="5172" y="16049"/>
                  <a:pt x="5093" y="16038"/>
                  <a:pt x="5035" y="16049"/>
                </a:cubicBezTo>
                <a:cubicBezTo>
                  <a:pt x="4671" y="16115"/>
                  <a:pt x="4309" y="16172"/>
                  <a:pt x="3944" y="16272"/>
                </a:cubicBezTo>
                <a:cubicBezTo>
                  <a:pt x="3593" y="16368"/>
                  <a:pt x="3154" y="16477"/>
                  <a:pt x="2853" y="16694"/>
                </a:cubicBezTo>
                <a:cubicBezTo>
                  <a:pt x="2845" y="16702"/>
                  <a:pt x="2836" y="16710"/>
                  <a:pt x="2828" y="16718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68280" y="3598920"/>
            <a:ext cx="258840" cy="2492280"/>
          </a:xfrm>
          <a:custGeom>
            <a:avLst/>
            <a:gdLst/>
            <a:ahLst/>
            <a:rect l="l" t="t" r="r" b="b"/>
            <a:pathLst>
              <a:path w="721" h="6922">
                <a:moveTo>
                  <a:pt x="3522" y="10096"/>
                </a:moveTo>
                <a:cubicBezTo>
                  <a:pt x="3613" y="10063"/>
                  <a:pt x="3704" y="10029"/>
                  <a:pt x="3795" y="9996"/>
                </a:cubicBezTo>
              </a:path>
              <a:path w="721" h="6922">
                <a:moveTo>
                  <a:pt x="3547" y="12154"/>
                </a:moveTo>
                <a:cubicBezTo>
                  <a:pt x="3654" y="12112"/>
                  <a:pt x="3678" y="12101"/>
                  <a:pt x="3746" y="12080"/>
                </a:cubicBezTo>
              </a:path>
              <a:path w="721" h="6922">
                <a:moveTo>
                  <a:pt x="3646" y="12328"/>
                </a:moveTo>
                <a:cubicBezTo>
                  <a:pt x="3687" y="12303"/>
                  <a:pt x="3729" y="12279"/>
                  <a:pt x="3770" y="12254"/>
                </a:cubicBezTo>
              </a:path>
              <a:path w="721" h="6922">
                <a:moveTo>
                  <a:pt x="3621" y="14015"/>
                </a:moveTo>
                <a:cubicBezTo>
                  <a:pt x="3707" y="14010"/>
                  <a:pt x="3785" y="13998"/>
                  <a:pt x="3870" y="13990"/>
                </a:cubicBezTo>
              </a:path>
              <a:path w="721" h="6922">
                <a:moveTo>
                  <a:pt x="3696" y="14288"/>
                </a:moveTo>
                <a:cubicBezTo>
                  <a:pt x="3830" y="14207"/>
                  <a:pt x="3880" y="14176"/>
                  <a:pt x="3969" y="14114"/>
                </a:cubicBezTo>
              </a:path>
              <a:path w="721" h="6922">
                <a:moveTo>
                  <a:pt x="3944" y="16694"/>
                </a:moveTo>
                <a:cubicBezTo>
                  <a:pt x="4043" y="16647"/>
                  <a:pt x="4139" y="16606"/>
                  <a:pt x="4242" y="16570"/>
                </a:cubicBezTo>
              </a:path>
              <a:path w="721" h="6922">
                <a:moveTo>
                  <a:pt x="3969" y="16917"/>
                </a:moveTo>
                <a:cubicBezTo>
                  <a:pt x="4055" y="16877"/>
                  <a:pt x="4125" y="16855"/>
                  <a:pt x="4217" y="16842"/>
                </a:cubicBezTo>
              </a:path>
            </a:pathLst>
          </a:custGeom>
          <a:noFill/>
          <a:ln cap="rnd"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62840" y="2544840"/>
            <a:ext cx="1581120" cy="304560"/>
          </a:xfrm>
          <a:custGeom>
            <a:avLst/>
            <a:gdLst/>
            <a:ahLst/>
            <a:rect l="l" t="t" r="r" b="b"/>
            <a:pathLst>
              <a:path w="4391" h="845">
                <a:moveTo>
                  <a:pt x="19621" y="7069"/>
                </a:moveTo>
                <a:cubicBezTo>
                  <a:pt x="19645" y="7336"/>
                  <a:pt x="19707" y="7594"/>
                  <a:pt x="19720" y="7863"/>
                </a:cubicBezTo>
                <a:cubicBezTo>
                  <a:pt x="19720" y="7880"/>
                  <a:pt x="19720" y="7896"/>
                  <a:pt x="19720" y="7913"/>
                </a:cubicBezTo>
                <a:cubicBezTo>
                  <a:pt x="19681" y="7757"/>
                  <a:pt x="19692" y="7568"/>
                  <a:pt x="19819" y="7441"/>
                </a:cubicBezTo>
                <a:cubicBezTo>
                  <a:pt x="20025" y="7235"/>
                  <a:pt x="20176" y="7539"/>
                  <a:pt x="20216" y="7714"/>
                </a:cubicBezTo>
                <a:cubicBezTo>
                  <a:pt x="20216" y="7788"/>
                  <a:pt x="20216" y="7797"/>
                  <a:pt x="20216" y="7838"/>
                </a:cubicBezTo>
              </a:path>
              <a:path w="4391" h="845">
                <a:moveTo>
                  <a:pt x="20687" y="7590"/>
                </a:moveTo>
                <a:cubicBezTo>
                  <a:pt x="20847" y="7571"/>
                  <a:pt x="20996" y="7565"/>
                  <a:pt x="21158" y="7565"/>
                </a:cubicBezTo>
              </a:path>
              <a:path w="4391" h="845">
                <a:moveTo>
                  <a:pt x="21903" y="7764"/>
                </a:moveTo>
                <a:cubicBezTo>
                  <a:pt x="22407" y="7746"/>
                  <a:pt x="22911" y="7724"/>
                  <a:pt x="23416" y="7739"/>
                </a:cubicBezTo>
                <a:cubicBezTo>
                  <a:pt x="23755" y="7759"/>
                  <a:pt x="23814" y="7756"/>
                  <a:pt x="24011" y="778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7240" y="2633760"/>
            <a:ext cx="6894720" cy="1957320"/>
          </a:xfrm>
          <a:custGeom>
            <a:avLst/>
            <a:gdLst/>
            <a:ahLst/>
            <a:rect l="l" t="t" r="r" b="b"/>
            <a:pathLst>
              <a:path w="19150" h="5434">
                <a:moveTo>
                  <a:pt x="20737" y="7342"/>
                </a:moveTo>
                <a:cubicBezTo>
                  <a:pt x="20846" y="7336"/>
                  <a:pt x="20950" y="7323"/>
                  <a:pt x="21059" y="7317"/>
                </a:cubicBezTo>
              </a:path>
              <a:path w="19150" h="5434">
                <a:moveTo>
                  <a:pt x="4068" y="12477"/>
                </a:moveTo>
                <a:cubicBezTo>
                  <a:pt x="4283" y="12434"/>
                  <a:pt x="4497" y="12391"/>
                  <a:pt x="4713" y="12353"/>
                </a:cubicBezTo>
              </a:path>
              <a:path w="19150" h="5434">
                <a:moveTo>
                  <a:pt x="2034" y="12402"/>
                </a:moveTo>
                <a:cubicBezTo>
                  <a:pt x="1971" y="12594"/>
                  <a:pt x="1959" y="12637"/>
                  <a:pt x="1910" y="1275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6:50Z</dcterms:created>
  <dc:creator>TAMMY  COON</dc:creator>
  <dc:description/>
  <dc:language>en-US</dc:language>
  <cp:lastModifiedBy>demcgra</cp:lastModifiedBy>
  <dcterms:modified xsi:type="dcterms:W3CDTF">2012-02-13T20:22:41Z</dcterms:modified>
  <cp:revision>9</cp:revision>
  <dc:subject/>
  <dc:title>Find the circumference</dc:title>
</cp:coreProperties>
</file>